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1.wmf" ContentType="image/x-wmf"/>
  <Override PartName="/ppt/media/image5.png" ContentType="image/png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C00-460A-49B8-9D2F-CC202322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520-525F-4BF1-A7EA-84B43E91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68C-5CB5-4161-A480-B979ED3B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535F-2CDB-405F-A00F-79D87984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FCEB-C71C-4630-A1B3-97F37EF1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4AA0-DC47-4C9E-ABD6-ACF88462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F60D-6E6A-462E-A64B-F497949F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097E-F0A6-451F-AAA7-C376333D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8EB5-3754-4DFA-9190-29F76082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76B3-5AEC-4B81-8460-56C6B6E7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8E7E-78A0-42EA-94A6-CF574FD5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53A-E1CD-4BF0-A069-EFCA5D3C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234E-1B27-4B63-85BC-E9029A51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5CB7-D92C-42F2-91FC-DD89EE70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3F2B-64D8-435C-92BA-346ACA14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DCA1-1B1E-4CC0-8189-6252250F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56D0-A6CB-416E-AAFE-22224486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A86-E54E-4069-B9AD-4C298807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82A-CC0C-4456-A881-13FE0990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93AE-7147-4ED4-97C4-266442DC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EB1-DE70-42C8-8D87-9147B442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AD1-21C1-4A77-B759-B1099F60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543-6B5E-4BE0-A86F-0A00AA11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5B0-F317-4630-B09A-674E65A3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AB8D-C4FC-4C8F-84A9-0AC7C3E330B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34B8-C91D-482A-AB4C-6E319427BE8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412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iseño óptimo de una planta batch multiproducto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ducción de proteínas recombinantes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finición de factor de tiempo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Tij: Tiempo necesario en un batch para producir un 1 Kg del producto i en la etapa j.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5865840"/>
            <a:ext cx="7162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** Unidades semi-continu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85800" y="1981080"/>
          <a:ext cx="670572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70572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sto de los equipos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121932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 utiliza una ley de potencia para calcular el costo de cada equi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676520" y="2057400"/>
          <a:ext cx="6095880" cy="40672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bla de Costo de equip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rment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j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4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cro-ultra fil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retenido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permeado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filt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00 A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iz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Holding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p.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h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100 cap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trac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extracto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1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omatograf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romatografí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00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752480" y="6324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Volumen de mantención para recircul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295280" y="2133720"/>
            <a:ext cx="6934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anto para etapas batch como semi-continuas se debe cumplir qu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ij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ij * 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ij = Tijº + Tij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Bi/R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1219320" y="1447920"/>
          <a:ext cx="5572080" cy="37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572080" cy="37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152280"/>
            <a:ext cx="80773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rmas de Optimizar el proceso b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olocar varias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 cuales pueden operar de dos diferentes form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79280" y="1844640"/>
            <a:ext cx="8686800" cy="4793400"/>
            <a:chOff x="179280" y="1844640"/>
            <a:chExt cx="8686800" cy="4793400"/>
          </a:xfrm>
        </p:grpSpPr>
        <p:grpSp>
          <p:nvGrpSpPr>
            <p:cNvPr id="272" name=""/>
            <p:cNvGrpSpPr/>
            <p:nvPr/>
          </p:nvGrpSpPr>
          <p:grpSpPr>
            <a:xfrm>
              <a:off x="179280" y="1844640"/>
              <a:ext cx="4572000" cy="4662000"/>
              <a:chOff x="179280" y="1844640"/>
              <a:chExt cx="4572000" cy="4662000"/>
            </a:xfrm>
          </p:grpSpPr>
          <p:graphicFrame>
            <p:nvGraphicFramePr>
              <p:cNvPr id="273" name=""/>
              <p:cNvGraphicFramePr/>
              <p:nvPr/>
            </p:nvGraphicFramePr>
            <p:xfrm>
              <a:off x="1246320" y="1844640"/>
              <a:ext cx="2361960" cy="22780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7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46320" y="1844640"/>
                        <a:ext cx="2361960" cy="22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5" name=""/>
              <p:cNvSpPr/>
              <p:nvPr/>
            </p:nvSpPr>
            <p:spPr>
              <a:xfrm>
                <a:off x="179280" y="4206600"/>
                <a:ext cx="4572000" cy="23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Simultánea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la corriente se divide Gj veces, lo cual da origen a </a:t>
                </a:r>
                <a:r>
                  <a:rPr b="1" lang="es-ES" sz="1800" spc="-1" strike="noStrike">
                    <a:solidFill>
                      <a:srgbClr val="ffcc99"/>
                    </a:solidFill>
                    <a:latin typeface="Times New Roman"/>
                  </a:rPr>
                  <a:t>Gj unidades</a:t>
                </a:r>
                <a:r>
                  <a:rPr b="1" lang="es-ES" sz="18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Una vez finalizada la operación se vuelven a junta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Objetivo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Operar con equipos más pequeño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675320" y="1844640"/>
              <a:ext cx="4190760" cy="4793400"/>
              <a:chOff x="4675320" y="1844640"/>
              <a:chExt cx="4190760" cy="4793400"/>
            </a:xfrm>
          </p:grpSpPr>
          <p:graphicFrame>
            <p:nvGraphicFramePr>
              <p:cNvPr id="277" name=""/>
              <p:cNvGraphicFramePr/>
              <p:nvPr/>
            </p:nvGraphicFramePr>
            <p:xfrm>
              <a:off x="5208480" y="1844640"/>
              <a:ext cx="2905200" cy="2274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08480" y="1844640"/>
                        <a:ext cx="2905200" cy="227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9" name=""/>
              <p:cNvSpPr/>
              <p:nvPr/>
            </p:nvSpPr>
            <p:spPr>
              <a:xfrm>
                <a:off x="4675320" y="4206600"/>
                <a:ext cx="4190760" cy="24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Desfasada 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la corriente se divide Mj veces para que el proceso se realice en </a:t>
                </a:r>
                <a:r>
                  <a:rPr b="1" lang="es-ES" sz="1800" spc="-1" strike="noStrike">
                    <a:solidFill>
                      <a:srgbClr val="ffcc99"/>
                    </a:solidFill>
                    <a:latin typeface="Times New Roman"/>
                  </a:rPr>
                  <a:t>Mj unidades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en forma desfasada. Finalmente se unen, pero en forma desfasada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Objetivo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Disminuir el efecto de los procesos limitados por el tiempo (cinéticas lentas)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s de Optimizar el proceso batch (cont)</a:t>
            </a:r>
            <a:br>
              <a:rPr sz="1400"/>
            </a:br>
            <a:br>
              <a:rPr sz="1400"/>
            </a:b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2.- Colocar tanques intermedios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bjetivo: Almacenamiento de productos intermedios, de volumen </a:t>
            </a:r>
            <a:r>
              <a:rPr b="1" lang="es-ES" sz="2400" spc="-1" strike="noStrike">
                <a:solidFill>
                  <a:srgbClr val="ffcc99"/>
                </a:solidFill>
                <a:latin typeface="Times New Roman"/>
              </a:rPr>
              <a:t>VTj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 entre 2 unidades que operan en forma batch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o permite el desacoplamiento del proceso, teniéndose 2 sub-procesos. Con ello se pueden tener diferentes tamaños de los batch en cada uno de los sub-procesos y también diferentes ciclos de tiempo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219320" y="3962520"/>
            <a:ext cx="7010280" cy="2152440"/>
            <a:chOff x="1219320" y="3962520"/>
            <a:chExt cx="7010280" cy="2152440"/>
          </a:xfrm>
        </p:grpSpPr>
        <p:graphicFrame>
          <p:nvGraphicFramePr>
            <p:cNvPr id="282" name=""/>
            <p:cNvGraphicFramePr/>
            <p:nvPr/>
          </p:nvGraphicFramePr>
          <p:xfrm>
            <a:off x="3200400" y="3962520"/>
            <a:ext cx="2657520" cy="215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3962520"/>
                      <a:ext cx="2657520" cy="21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1219320" y="4571640"/>
              <a:ext cx="16761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oces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Volumen: m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iempo: dí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72200" y="4571640"/>
              <a:ext cx="20574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Volumen: litr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iempo: minut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191120" y="4419720"/>
            <a:ext cx="609480" cy="99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unción a minimiza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752480" y="1219320"/>
            <a:ext cx="5486400" cy="840240"/>
            <a:chOff x="1752480" y="1219320"/>
            <a:chExt cx="5486400" cy="840240"/>
          </a:xfrm>
        </p:grpSpPr>
        <p:sp>
          <p:nvSpPr>
            <p:cNvPr id="289" name=""/>
            <p:cNvSpPr/>
            <p:nvPr/>
          </p:nvSpPr>
          <p:spPr>
            <a:xfrm>
              <a:off x="1752480" y="137160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Min Cost =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Mj Gj aj Vj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Times New Roman"/>
                </a:rPr>
                <a:t>j  + 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cj VTj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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76360" y="17524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76360" y="12193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10080" y="12193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10080" y="17524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90720" y="2133720"/>
            <a:ext cx="746748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M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etapas batc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V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Volumen de la etapa (Unitari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G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unidades que operan en forma simultánea en la etapa j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M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unidades que operan en forma desfasadas en la etapa j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VT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Volumen de los tanques intermed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aj, cj, aj, h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Coeficientes de co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4648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stric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38280" y="5257800"/>
            <a:ext cx="411480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n mínimo de equi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 mínimo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tidad a produc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Resolución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70000" y="177336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greso de tablas de datos (Sij, Tij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greso del modelo y definición de ecu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finición del Probl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tas de las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alores inic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macenamient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olución incluy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iempo de resol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sto ópt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alores por etapa: volumen, tamaño de batch, tiempo ocio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a con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ción de tiempos ocio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 no hay almacenamiento intermedio, existirán unidades en paralelo si la capacidad requerida excede la cota superior del equ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a con almacenamiento inter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e unidades en paralelo es menos prob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reducen los costos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reducen los tiempos ociosos significativamente en comparación con el caso de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roblema de factores fijos puede mejorarse aún más (10-20% costos de planta) si se utilizan “Process Performance Model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888400" cy="51832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33520" y="304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165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lanta que considera unidades en paralelo y sin tanque intermed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4876920"/>
            <a:ext cx="213336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06560" y="692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lantas multiproducto (Flowshop plants):</a:t>
            </a:r>
            <a:r>
              <a:rPr b="0" lang="es-ES" sz="2400" spc="-1" strike="noStrike">
                <a:solidFill>
                  <a:srgbClr val="cc99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Todos los productos siguen la misma secuencia a través de todas las etapas de p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332000" y="1916280"/>
            <a:ext cx="6648480" cy="1191600"/>
            <a:chOff x="1332000" y="1916280"/>
            <a:chExt cx="6648480" cy="1191600"/>
          </a:xfrm>
        </p:grpSpPr>
        <p:sp>
          <p:nvSpPr>
            <p:cNvPr id="149" name=""/>
            <p:cNvSpPr/>
            <p:nvPr/>
          </p:nvSpPr>
          <p:spPr>
            <a:xfrm>
              <a:off x="2467080" y="2152440"/>
              <a:ext cx="6494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6416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6268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9760" y="2152440"/>
              <a:ext cx="64908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650960" y="2497680"/>
              <a:ext cx="5986800" cy="11520"/>
              <a:chOff x="1650960" y="2497680"/>
              <a:chExt cx="5986800" cy="11520"/>
            </a:xfrm>
          </p:grpSpPr>
          <p:cxnSp>
            <p:nvCxnSpPr>
              <p:cNvPr id="154" name=""/>
              <p:cNvCxnSpPr>
                <a:stCxn id="149" idx="3"/>
                <a:endCxn id="150" idx="1"/>
              </p:cNvCxnSpPr>
              <p:nvPr/>
            </p:nvCxnSpPr>
            <p:spPr>
              <a:xfrm>
                <a:off x="3115800" y="2507400"/>
                <a:ext cx="64980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5" name=""/>
              <p:cNvCxnSpPr>
                <a:stCxn id="150" idx="3"/>
                <a:endCxn id="151" idx="1"/>
              </p:cNvCxnSpPr>
              <p:nvPr/>
            </p:nvCxnSpPr>
            <p:spPr>
              <a:xfrm>
                <a:off x="44132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6" name=""/>
              <p:cNvCxnSpPr>
                <a:stCxn id="151" idx="3"/>
                <a:endCxn id="152" idx="1"/>
              </p:cNvCxnSpPr>
              <p:nvPr/>
            </p:nvCxnSpPr>
            <p:spPr>
              <a:xfrm>
                <a:off x="57110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7" name=""/>
              <p:cNvCxnSpPr>
                <a:stCxn id="152" idx="3"/>
              </p:cNvCxnSpPr>
              <p:nvPr/>
            </p:nvCxnSpPr>
            <p:spPr>
              <a:xfrm flipV="1">
                <a:off x="7008840" y="2497680"/>
                <a:ext cx="629280" cy="97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8" name=""/>
              <p:cNvCxnSpPr>
                <a:endCxn id="149" idx="1"/>
              </p:cNvCxnSpPr>
              <p:nvPr/>
            </p:nvCxnSpPr>
            <p:spPr>
              <a:xfrm>
                <a:off x="1650960" y="2498040"/>
                <a:ext cx="816840" cy="97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cxnSp>
          <p:nvCxnSpPr>
            <p:cNvPr id="159" name=""/>
            <p:cNvCxnSpPr/>
            <p:nvPr/>
          </p:nvCxnSpPr>
          <p:spPr>
            <a:xfrm>
              <a:off x="3132360" y="2252160"/>
              <a:ext cx="65016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/>
            <p:nvPr/>
          </p:nvCxnSpPr>
          <p:spPr>
            <a:xfrm>
              <a:off x="4429080" y="2252160"/>
              <a:ext cx="64980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/>
            <p:nvPr/>
          </p:nvCxnSpPr>
          <p:spPr>
            <a:xfrm>
              <a:off x="5726160" y="2252160"/>
              <a:ext cx="65016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/>
            <p:nvPr/>
          </p:nvCxnSpPr>
          <p:spPr>
            <a:xfrm flipV="1">
              <a:off x="7025040" y="2244240"/>
              <a:ext cx="629280" cy="79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/>
            <p:nvPr/>
          </p:nvCxnSpPr>
          <p:spPr>
            <a:xfrm>
              <a:off x="1667160" y="2244240"/>
              <a:ext cx="816480" cy="79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grpSp>
          <p:nvGrpSpPr>
            <p:cNvPr id="164" name=""/>
            <p:cNvGrpSpPr/>
            <p:nvPr/>
          </p:nvGrpSpPr>
          <p:grpSpPr>
            <a:xfrm>
              <a:off x="1654200" y="2777400"/>
              <a:ext cx="5986800" cy="9720"/>
              <a:chOff x="1654200" y="2777400"/>
              <a:chExt cx="5986800" cy="9720"/>
            </a:xfrm>
          </p:grpSpPr>
          <p:cxnSp>
            <p:nvCxnSpPr>
              <p:cNvPr id="165" name=""/>
              <p:cNvCxnSpPr/>
              <p:nvPr/>
            </p:nvCxnSpPr>
            <p:spPr>
              <a:xfrm>
                <a:off x="3119040" y="2785320"/>
                <a:ext cx="64980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6" name=""/>
              <p:cNvCxnSpPr/>
              <p:nvPr/>
            </p:nvCxnSpPr>
            <p:spPr>
              <a:xfrm>
                <a:off x="44164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7" name=""/>
              <p:cNvCxnSpPr/>
              <p:nvPr/>
            </p:nvCxnSpPr>
            <p:spPr>
              <a:xfrm>
                <a:off x="57142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8" name=""/>
              <p:cNvCxnSpPr/>
              <p:nvPr/>
            </p:nvCxnSpPr>
            <p:spPr>
              <a:xfrm flipV="1">
                <a:off x="7012080" y="2777400"/>
                <a:ext cx="629280" cy="79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9" name=""/>
              <p:cNvCxnSpPr/>
              <p:nvPr/>
            </p:nvCxnSpPr>
            <p:spPr>
              <a:xfrm>
                <a:off x="1654200" y="2777400"/>
                <a:ext cx="816840" cy="79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sp>
          <p:nvSpPr>
            <p:cNvPr id="170" name=""/>
            <p:cNvSpPr/>
            <p:nvPr/>
          </p:nvSpPr>
          <p:spPr>
            <a:xfrm>
              <a:off x="1332000" y="1916280"/>
              <a:ext cx="325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39200" y="1920600"/>
              <a:ext cx="34128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006560" y="335772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lantas multipropósito (Jobshop plants):</a:t>
            </a: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Los productos no necesariamente siguen la misma secuencia, o requieren de todas las etapas, a través del proceso de p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332000" y="4941360"/>
            <a:ext cx="5576400" cy="1627560"/>
            <a:chOff x="1332000" y="4941360"/>
            <a:chExt cx="5576400" cy="1627560"/>
          </a:xfrm>
        </p:grpSpPr>
        <p:sp>
          <p:nvSpPr>
            <p:cNvPr id="174" name=""/>
            <p:cNvSpPr/>
            <p:nvPr/>
          </p:nvSpPr>
          <p:spPr>
            <a:xfrm>
              <a:off x="228420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7212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60040" y="5399280"/>
              <a:ext cx="5443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4976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8" name=""/>
            <p:cNvCxnSpPr/>
            <p:nvPr/>
          </p:nvCxnSpPr>
          <p:spPr>
            <a:xfrm>
              <a:off x="5004360" y="5813640"/>
              <a:ext cx="545400" cy="21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/>
            <p:nvPr/>
          </p:nvCxnSpPr>
          <p:spPr>
            <a:xfrm flipV="1">
              <a:off x="6092640" y="5804280"/>
              <a:ext cx="52812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/>
            <p:nvPr/>
          </p:nvCxnSpPr>
          <p:spPr>
            <a:xfrm>
              <a:off x="1599480" y="5804640"/>
              <a:ext cx="68544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grpSp>
          <p:nvGrpSpPr>
            <p:cNvPr id="181" name=""/>
            <p:cNvGrpSpPr/>
            <p:nvPr/>
          </p:nvGrpSpPr>
          <p:grpSpPr>
            <a:xfrm>
              <a:off x="1611720" y="5504400"/>
              <a:ext cx="5022360" cy="10800"/>
              <a:chOff x="1611720" y="5504400"/>
              <a:chExt cx="5022360" cy="10800"/>
            </a:xfrm>
          </p:grpSpPr>
          <p:cxnSp>
            <p:nvCxnSpPr>
              <p:cNvPr id="182" name=""/>
              <p:cNvCxnSpPr/>
              <p:nvPr/>
            </p:nvCxnSpPr>
            <p:spPr>
              <a:xfrm>
                <a:off x="284076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3" name=""/>
              <p:cNvCxnSpPr/>
              <p:nvPr/>
            </p:nvCxnSpPr>
            <p:spPr>
              <a:xfrm>
                <a:off x="3928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4" name=""/>
              <p:cNvCxnSpPr/>
              <p:nvPr/>
            </p:nvCxnSpPr>
            <p:spPr>
              <a:xfrm>
                <a:off x="5017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5" name=""/>
              <p:cNvCxnSpPr/>
              <p:nvPr/>
            </p:nvCxnSpPr>
            <p:spPr>
              <a:xfrm flipV="1">
                <a:off x="6106320" y="5504400"/>
                <a:ext cx="528120" cy="900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6" name=""/>
              <p:cNvCxnSpPr/>
              <p:nvPr/>
            </p:nvCxnSpPr>
            <p:spPr>
              <a:xfrm>
                <a:off x="1611720" y="5504760"/>
                <a:ext cx="685440" cy="900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sp>
          <p:nvSpPr>
            <p:cNvPr id="187" name=""/>
            <p:cNvSpPr/>
            <p:nvPr/>
          </p:nvSpPr>
          <p:spPr>
            <a:xfrm>
              <a:off x="1332000" y="5123160"/>
              <a:ext cx="271800" cy="13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21840" y="5128200"/>
              <a:ext cx="2865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stCxn id="174" idx="3"/>
            </p:cNvCxnSpPr>
            <p:nvPr/>
          </p:nvCxnSpPr>
          <p:spPr>
            <a:xfrm flipV="1">
              <a:off x="2827440" y="5801400"/>
              <a:ext cx="223200" cy="104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endCxn id="176" idx="1"/>
            </p:cNvCxnSpPr>
            <p:nvPr/>
          </p:nvCxnSpPr>
          <p:spPr>
            <a:xfrm>
              <a:off x="4137480" y="5802840"/>
              <a:ext cx="32292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/>
            <p:nvPr/>
          </p:nvCxnSpPr>
          <p:spPr>
            <a:xfrm flipV="1">
              <a:off x="3049560" y="4949280"/>
              <a:ext cx="1800" cy="8312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/>
            <p:nvPr/>
          </p:nvCxnSpPr>
          <p:spPr>
            <a:xfrm flipV="1">
              <a:off x="4153320" y="4983480"/>
              <a:ext cx="2160" cy="8312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/>
            <p:nvPr/>
          </p:nvCxnSpPr>
          <p:spPr>
            <a:xfrm>
              <a:off x="3063960" y="4941360"/>
              <a:ext cx="1088280" cy="39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/>
            <p:nvPr/>
          </p:nvCxnSpPr>
          <p:spPr>
            <a:xfrm flipH="1">
              <a:off x="1609560" y="6078600"/>
              <a:ext cx="662040" cy="176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/>
            <p:nvPr/>
          </p:nvCxnSpPr>
          <p:spPr>
            <a:xfrm flipH="1">
              <a:off x="2802240" y="6056640"/>
              <a:ext cx="545040" cy="57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/>
            <p:nvPr/>
          </p:nvCxnSpPr>
          <p:spPr>
            <a:xfrm flipH="1">
              <a:off x="3897360" y="6058080"/>
              <a:ext cx="257400" cy="176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/>
            <p:nvPr/>
          </p:nvCxnSpPr>
          <p:spPr>
            <a:xfrm flipH="1">
              <a:off x="6073920" y="6093000"/>
              <a:ext cx="545040" cy="57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/>
            <p:nvPr/>
          </p:nvCxnSpPr>
          <p:spPr>
            <a:xfrm flipH="1">
              <a:off x="5275440" y="6118560"/>
              <a:ext cx="257040" cy="158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9" name=""/>
            <p:cNvCxnSpPr/>
            <p:nvPr/>
          </p:nvCxnSpPr>
          <p:spPr>
            <a:xfrm flipH="1">
              <a:off x="4156200" y="6055200"/>
              <a:ext cx="5040" cy="51408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/>
            <p:nvPr/>
          </p:nvCxnSpPr>
          <p:spPr>
            <a:xfrm>
              <a:off x="5289480" y="6159240"/>
              <a:ext cx="11520" cy="3805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/>
            <p:nvPr/>
          </p:nvCxnSpPr>
          <p:spPr>
            <a:xfrm flipH="1">
              <a:off x="4123440" y="6554880"/>
              <a:ext cx="1176840" cy="126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990720" y="533520"/>
          <a:ext cx="670536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67053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990720" y="3733920"/>
          <a:ext cx="6781680" cy="2649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733920"/>
                    <a:ext cx="6781680" cy="26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81000" y="1882800"/>
            <a:ext cx="8964720" cy="2663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80880" y="380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lanta sin unidades en paralelo y con tanques de almacen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2209680"/>
            <a:ext cx="533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2209680"/>
            <a:ext cx="53352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0120" y="2209680"/>
            <a:ext cx="533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3962520"/>
            <a:ext cx="20574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1066680" y="838080"/>
          <a:ext cx="6477120" cy="27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838080"/>
                    <a:ext cx="6477120" cy="27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042920" y="4005360"/>
          <a:ext cx="6553440" cy="223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005360"/>
                    <a:ext cx="655344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clusion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16000" y="19162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adición d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nques intermedi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ntre dos operaciones batch resulta beneficiosa dado que permite un significativ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horro en los costos de capital (40%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l tener que minimizarse el número de unidades en paralelo a utilizar dado que las existentes son operadas con mínimo tiempo ocio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ontagna J.M., Vecchietti A.R., Iribarren O.A., Pinto J.M., Asenjo J.A (2000)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“Optimal design of protein production plants with time and size factor process models”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Biotechnol. Prog. 2000, 16, 228-23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1520" y="1198440"/>
            <a:ext cx="8918640" cy="2357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ducción de proteínas recombin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3716280"/>
            <a:ext cx="716256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bjetivo: Realizar un diseño que minimice los costos de capital para esta planta multi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duc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nsulina y Quimosina: extracel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teasa y Vacuna: Intracel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rma de operación de cada equipo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1371600"/>
          <a:ext cx="114300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11430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19320" y="1371600"/>
            <a:ext cx="266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Fermentador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Reactor donde crece la biomasa produciendo el producto de interés (intra o extra celular), es operado en forma bat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881520"/>
            <a:ext cx="41148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</a:rPr>
              <a:t>1º Microfiltro: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 Separa la biomasa, que es re- circulada y concentrada (remanente),  del medio de cultivo que pasa continuamente a formar parte del permeado. Es una operación semi-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En el caso de producto intracelular se conserva el remanente, en caso de producto extracelular se conserva el perme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09680" y="3800520"/>
          <a:ext cx="2552760" cy="30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800520"/>
                    <a:ext cx="255276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952880" y="1447920"/>
          <a:ext cx="1074960" cy="15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447920"/>
                    <a:ext cx="10749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095880" y="1447920"/>
            <a:ext cx="32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Homogenizador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En el caso de proteínas intracelulares las células se deben romper. Es una operación semicontin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1485720" y="3467160"/>
            <a:ext cx="533160" cy="609480"/>
          </a:xfrm>
          <a:custGeom>
            <a:avLst/>
            <a:gdLst>
              <a:gd name="textAreaLeft" fmla="*/ 17784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3200400"/>
            <a:ext cx="533520" cy="609480"/>
          </a:xfrm>
          <a:custGeom>
            <a:avLst/>
            <a:gdLst>
              <a:gd name="textAreaLeft" fmla="*/ 17784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24680" y="31240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 de operación de cada equipo (cont..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880" y="1447920"/>
          <a:ext cx="81936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193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3352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37160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</a:rPr>
              <a:t>2º Microfiltro: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 En el caso de rompimiento celular, se utiliza para separar los desechos celulares de la mezcla de proteínas, opera de igual forma que el primer filtro, pero siempre interesa recuperar el perme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14600" y="3733920"/>
          <a:ext cx="198108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733920"/>
                    <a:ext cx="1981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4572000" y="4724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1º Ultrafiltro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Se utiliza para concentrar las proteínas que van siendo retenidas, sólo interesa recuperar el remanente. Opera en forma semi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990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1447920"/>
            <a:ext cx="2895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Extractor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Es un sistema de extracción líquido-líquido que permite separar las proteínas de otras por sus características de afinidad a una de las fases. Opera en forma batc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34120" y="1600200"/>
          <a:ext cx="752400" cy="19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1600200"/>
                    <a:ext cx="7524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 rot="5400000">
            <a:off x="1637640" y="4000320"/>
            <a:ext cx="533520" cy="609480"/>
          </a:xfrm>
          <a:custGeom>
            <a:avLst/>
            <a:gdLst>
              <a:gd name="textAreaLeft" fmla="*/ 17784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3581280"/>
            <a:ext cx="533160" cy="609840"/>
          </a:xfrm>
          <a:custGeom>
            <a:avLst/>
            <a:gdLst>
              <a:gd name="textAreaLeft" fmla="*/ 177840 w 533160"/>
              <a:gd name="textAreaRight" fmla="*/ 456840 w 53316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24680" y="35053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9051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 de operación de cada equipo (cont..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952880" y="1600200"/>
          <a:ext cx="115272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115272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066680" y="1600200"/>
          <a:ext cx="90504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600200"/>
                    <a:ext cx="9050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3520" y="19810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16002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2º Ultrafiltro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Se utiliza para concentrar las proteínas eliminando agua, opera de igual forma que el 1º ultrafil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1066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2362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16002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Cromatografía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Es la etapa que permite purificar hasta el grado deseado la proteína de interés. Opera en forma 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23880" y="3808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todología aplic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143000"/>
            <a:ext cx="7391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finición de los factores de tamaño, Si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j: Tamaño necesario de una operación batch dada  para producir un 1 Kg del producto i en la etapa j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81080" y="2819520"/>
          <a:ext cx="5257800" cy="34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19520"/>
                    <a:ext cx="5257800" cy="34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2514600" y="6324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** Etapas gobernadas por la ciné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riterios para definir los tamaños de los equipos batch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484280"/>
            <a:ext cx="769608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Microfiltro o Ultrafil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permeado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2*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tratad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= 2*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  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manente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tratad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=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Homogenizador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homogeneizador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¼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manente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xtr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extractor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1/3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riterios para definir los tamaños de equipos semi-continuos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2057400"/>
            <a:ext cx="739152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e define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Rj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que es una velocidad de proces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Homogenizadores: capacidad [m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de suspensión /hor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iltros: Area de filtración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Aj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[m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Rj = Dij * Bi /  </a:t>
            </a:r>
            <a:r>
              <a:rPr b="0" lang="es-E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Dij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Tamaño del equipo semi-continuo j para procesar en 1 hora 1 kilogramo del producto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Bi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Masa del batch a proces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ij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Tiempo que debe operar el equipo j para procesar un batch del producto 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08:19:18Z</dcterms:created>
  <dc:creator>Maria Elena Lienqueo C.</dc:creator>
  <dc:description/>
  <dc:language>en-US</dc:language>
  <cp:lastModifiedBy>Maria Elena Lienqueo C.</cp:lastModifiedBy>
  <dcterms:modified xsi:type="dcterms:W3CDTF">2004-11-15T04:01:03Z</dcterms:modified>
  <cp:revision>34</cp:revision>
  <dc:subject/>
  <dc:title>Presentación de PowerPoint</dc:title>
</cp:coreProperties>
</file>