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A85C-AB69-490D-A43B-980A3BE8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5A9C-8234-44D0-95F4-EB22F770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8E4-B05E-445F-A494-DA5E2543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FD5-24BC-45B2-BB4D-CA065205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70D-4C2A-4EC5-B285-9DB3427C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059-7138-40DA-BB63-F16ABEB4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894E-8A5E-4659-BFFE-AF49F9AE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7585-DFC3-47A6-BF5A-DC1BE80F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58D-EC18-4C61-AFB8-3BFFB668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1AA-9814-4B5E-B4AB-A1097DC7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344-7172-4FB7-9E26-17904DA9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4FA-DC3F-417D-A46A-C6C0732B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A210-D959-4615-AD12-35BFB0C92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0160" y="4067280"/>
            <a:ext cx="2263680" cy="1954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71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18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9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1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36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Se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8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37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189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48320" y="1676520"/>
          <a:ext cx="243828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243828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143000" y="1676520"/>
          <a:ext cx="3124080" cy="23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312408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3615840" y="100188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600200"/>
            <a:ext cx="1904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 de refrig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33526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2362320"/>
            <a:ext cx="1905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 Conge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505320"/>
            <a:ext cx="1904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cas calefact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6248160" y="3352320"/>
            <a:ext cx="53316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400440" y="2666880"/>
            <a:ext cx="68580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2286000" y="3843360"/>
            <a:ext cx="4068720" cy="301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ris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2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 C.</cp:lastModifiedBy>
  <dcterms:modified xsi:type="dcterms:W3CDTF">2004-10-25T02:16:49Z</dcterms:modified>
  <cp:revision>1</cp:revision>
  <dc:subject/>
  <dc:title>Operaciones de Refinamiento Final</dc:title>
</cp:coreProperties>
</file>