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DEE-05AC-4987-BF96-BB5878C3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7A8-9805-4D55-8750-3834D13E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B2C-B1D7-4B63-B8DD-0929A95B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96C-2492-451A-886E-9D35F7E6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40C-5AB3-485E-924D-7EE927C4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599-C172-4ED5-A5D1-3D8C19E1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24F2-908C-4C49-9E3D-4B8F0ACC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77F-1B95-4F13-96E3-87C7C7DD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1BB-998F-4CE6-A24C-61FD1C81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2B6-4F5D-4300-894B-5A845CAF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0A4-A2DA-454E-A516-054FA57C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564-7A48-4650-A454-B88F8D79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E97D-0D93-4F17-989D-6E1097072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0160" y="4067280"/>
            <a:ext cx="2263680" cy="1954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71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18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1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Se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37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189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8320" y="1676520"/>
          <a:ext cx="243828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24382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143000" y="1676520"/>
          <a:ext cx="3124080" cy="23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312408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3615840" y="10018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60020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de refrig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33526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36232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 Conge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50532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cas calefa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248160" y="3352320"/>
            <a:ext cx="53316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400440" y="2666880"/>
            <a:ext cx="6858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2286000" y="3843360"/>
            <a:ext cx="4068720" cy="301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ris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2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 C.</cp:lastModifiedBy>
  <dcterms:modified xsi:type="dcterms:W3CDTF">2004-10-25T02:16:49Z</dcterms:modified>
  <cp:revision>1</cp:revision>
  <dc:subject/>
  <dc:title>Operaciones de Refinamiento Final</dc:title>
</cp:coreProperties>
</file>