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B9D-3729-479F-8116-384E803A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6E4-B0BE-46EA-9388-80EAD88C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ED3-4AA0-446B-992E-6E481B27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61B-C599-4D99-B70C-89829920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807-6DE2-46BD-AC12-FE68CFC8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AAA-6F9C-4CAD-81D6-499D68AE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86E-1951-41F6-88EA-CDDE2CD8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132-B96B-4974-80B0-40A9790A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F5D-09D0-4D5E-B559-23566725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7BD-91DD-476C-AFB6-1F0926E2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59D-CD07-4988-B2E7-EF4FE6DF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571-1754-448C-BDB9-E4F89092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D52A-8210-4202-B20E-F01E81780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71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18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1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37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189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8320" y="1676520"/>
          <a:ext cx="2438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2438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143000" y="1676520"/>
          <a:ext cx="3124080" cy="23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615840" y="1001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60020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refrig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3526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36232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 Conge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50532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cas calefa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248160" y="3352320"/>
            <a:ext cx="5331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400440" y="26668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2286000" y="3843360"/>
            <a:ext cx="40687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2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 C.</cp:lastModifiedBy>
  <dcterms:modified xsi:type="dcterms:W3CDTF">2004-10-25T02:16:49Z</dcterms:modified>
  <cp:revision>1</cp:revision>
  <dc:subject/>
  <dc:title>Operaciones de Refinamiento Final</dc:title>
</cp:coreProperties>
</file>