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4D2-EC3D-4996-9319-134B7856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F48-0A0A-4A0E-A9A6-2A9850FF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8C1-D428-40C9-B370-A9744B7F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6F2-40BA-4355-9686-BDC3D48C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379-8481-4AD3-8F9F-A92A2886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A6D-7368-4D5F-BE4A-F79EAAD2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619-CB7B-4DD6-A8B3-BC65DAAC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ED1-3F04-497E-844A-2FA5200B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BB9-0CF5-4071-861B-A349E413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47A-D0A2-4A7D-B601-8834D916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256-BFAB-4D93-A65C-A018BBDD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D98-381B-4504-9787-4FE48A03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F7D6-F290-40C5-94D4-27563F936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71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18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1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37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189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8320" y="1676520"/>
          <a:ext cx="2438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2438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143000" y="1676520"/>
          <a:ext cx="3124080" cy="23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615840" y="1001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60020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refrig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3526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36232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 Conge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50532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cas calefa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248160" y="3352320"/>
            <a:ext cx="5331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400440" y="26668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2286000" y="3843360"/>
            <a:ext cx="40687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2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 C.</cp:lastModifiedBy>
  <dcterms:modified xsi:type="dcterms:W3CDTF">2004-10-25T02:16:49Z</dcterms:modified>
  <cp:revision>1</cp:revision>
  <dc:subject/>
  <dc:title>Operaciones de Refinamiento Final</dc:title>
</cp:coreProperties>
</file>