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7C9-1552-4BA1-A812-73E4A394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EE8-C4FF-4DDD-94F5-58D5D0C4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3B2-2617-41EA-920C-60243D39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CA78-C322-4851-9E1F-836CF610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F7B-7405-4425-B3F5-89985815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81D-46C0-42F1-BFFA-B17EB8DC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21E-A327-40B0-B11E-A55CD257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6D5-653F-4AD6-A384-F755A83D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2F3B-34B7-4665-B647-DF541371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D78-DC5E-48FC-ACCF-E52B82B2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C45-8A6E-404F-9C0E-84886553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EEF-A15C-441E-9686-4D1A55DB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D3E2-AE8E-4C69-9BFC-4B6A0BDFC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40160" y="4067280"/>
            <a:ext cx="2263680" cy="1954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71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18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21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37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189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00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8320" y="1676520"/>
          <a:ext cx="2438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2438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143000" y="1676520"/>
          <a:ext cx="3124080" cy="23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676520"/>
                    <a:ext cx="312408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615840" y="10018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60020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refrig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3526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362320"/>
            <a:ext cx="1905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ción Conge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505320"/>
            <a:ext cx="1904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cas calefa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248160" y="3352320"/>
            <a:ext cx="5331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400440" y="2666880"/>
            <a:ext cx="685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2286000" y="3843360"/>
            <a:ext cx="4068720" cy="301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2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 C.</cp:lastModifiedBy>
  <dcterms:modified xsi:type="dcterms:W3CDTF">2004-10-25T02:16:49Z</dcterms:modified>
  <cp:revision>1</cp:revision>
  <dc:subject/>
  <dc:title>Operaciones de Refinamiento Final</dc:title>
</cp:coreProperties>
</file>