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9.png" ContentType="image/png"/>
  <Override PartName="/ppt/media/image21.jpeg" ContentType="image/jpeg"/>
  <Override PartName="/ppt/media/image13.jpeg" ContentType="image/jpeg"/>
  <Override PartName="/ppt/media/image23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12.png" ContentType="image/png"/>
  <Override PartName="/ppt/media/image2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9.png" ContentType="image/png"/>
  <Override PartName="/ppt/media/image22.jpeg" ContentType="image/jpeg"/>
  <Override PartName="/ppt/media/image26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B2F5-DE7D-4A67-9782-738BDE0A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C555-2807-4CCC-B9AC-CDBAD7CF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A1D1-539F-4B73-9D70-B30C69AB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3A39-8801-4970-A6CB-587FBB51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A49B-7F44-4860-B47B-8614B8CD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BF67-4236-4F9E-8669-36C6E456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8C47-0176-4FE2-AA07-C07A85FE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89B9-739A-4DE2-AC90-7B78C466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2A2B-E9AC-46DE-89AE-2208FB71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9605-8FF7-4DE9-AF3F-43660ACC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2422-97DE-4FCE-9AC8-893ED6B1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0D94-E614-4412-861E-E3E91AA1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0CDB-2B8A-4130-8AE8-9C813F289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Electrofor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Purificación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5803920" cy="3111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867280" y="4368960"/>
            <a:ext cx="3022560" cy="2489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380880"/>
            <a:ext cx="830592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Protein fractionation in multi-well device using Off-gel  isoelectric 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HelveticaNeue-Light"/>
              </a:rPr>
              <a:t>P. Michel, F. Reymond, DiagnoSwiss SA, Monthey/CH;I. Arnaud, J. Josserand, H. Girault, Ecole Polytechnique Fédérale de Lausanne/CH; J.S. Rossier, DiagnoSwiss SA, Monthey/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55627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raccionamiento inicial por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828800" y="0"/>
            <a:ext cx="556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Geles 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paración por pI y 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33440" y="13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14400" y="1371600"/>
          <a:ext cx="739152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739152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609480" y="1905120"/>
          <a:ext cx="3934080" cy="30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905120"/>
                    <a:ext cx="393408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Geles 2D automáticos</a:t>
            </a:r>
            <a:br>
              <a:rPr sz="4400"/>
            </a:br>
            <a:br>
              <a:rPr sz="4400"/>
            </a:br>
            <a:r>
              <a:rPr b="1" lang="es-ES" sz="2400" spc="-1" strike="noStrike">
                <a:solidFill>
                  <a:srgbClr val="000000"/>
                </a:solidFill>
                <a:latin typeface="HelveticaNeue-Bold"/>
              </a:rPr>
              <a:t>Laboratory system based on a plastic chip for 2D</a:t>
            </a:r>
            <a:br>
              <a:rPr sz="2400"/>
            </a:br>
            <a:r>
              <a:rPr b="0" lang="es-ES" sz="2000" spc="-1" strike="noStrike">
                <a:solidFill>
                  <a:srgbClr val="000000"/>
                </a:solidFill>
                <a:latin typeface="HelveticaNeue-Light"/>
              </a:rPr>
              <a:t>A. Griebel, S. Rund, W. Dörner, R. Konrad, Institut für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HelveticaNeue-Light"/>
              </a:rPr>
              <a:t>Mikrotechnik Mainz GmbH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114800" y="3048120"/>
            <a:ext cx="4724280" cy="3149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3809880" cy="2540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4920" y="586728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maño de una tarjeta de créd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43360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747960" y="304920"/>
          <a:ext cx="539604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960" y="304920"/>
                    <a:ext cx="539604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0" y="1371600"/>
            <a:ext cx="32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pos tradicionales de electroforesis analít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1120" y="380880"/>
            <a:ext cx="4952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stema Horizontal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stema 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609480"/>
            <a:ext cx="8229600" cy="24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Usos a nivel prepar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metodología de geles en un soporte sólido pueden llegar a ser tediosos, dado que se debe cortar el gel y luego eluir la proteína, motivo por el cual se han desarrollado otras metodologías como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-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  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rabajar en medio líquido de películas muy delgadas o mediante membran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s tecnologías más utilizada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        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pos de flujo l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pos de flujo libre más recirculación</a:t>
            </a:r>
            <a:r>
              <a:rPr b="1" lang="es-ES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609480"/>
            <a:ext cx="8229600" cy="24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pos de flujo l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o hay recirculación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istancias pequeñas de migración o estabilización rot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Películas Delg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rriente continua y puntual de muestra sobre el buffer que se mueve en forma vertical entre 2 capas. En la parte lateral están los electrodos, hay un enfriamiento por refriger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Uso para la separación 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artículas sub-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</a:t>
            </a:r>
            <a:r>
              <a:rPr b="0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ponentes de membr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85920" y="847800"/>
            <a:ext cx="6572160" cy="5162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927680" cy="5816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508720" y="4762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quema de un equipo de electroforesis de flujo continuo en una celda de electrofor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5734080"/>
            <a:ext cx="431640" cy="57456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19640" y="5734080"/>
            <a:ext cx="431640" cy="57456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5734080"/>
            <a:ext cx="431640" cy="574560"/>
          </a:xfrm>
          <a:prstGeom prst="can">
            <a:avLst>
              <a:gd name="adj" fmla="val 25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0"/>
            <a:ext cx="82296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lectroforesis an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ilindro externo gira hasta 150 rpm (lento) para neutralizar los efectos convectivos radiales.</a:t>
            </a:r>
            <a:r>
              <a:rPr b="1" lang="es-ES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76520" y="1295280"/>
          <a:ext cx="5790960" cy="526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95280"/>
                    <a:ext cx="5790960" cy="526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0"/>
            <a:ext cx="82296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pos de flujo libre con recir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eldas tipo tamb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resenta compartimientos separados por discos de membranas de poliéster con poros de 10 </a:t>
            </a: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, opera con gradiente de pH, la descarga es por vací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elícula delgada con recir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realizan ciclos de la muestra que ingresa en diferentes canales como un isoelectroenfoq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Electrofor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000" y="907920"/>
            <a:ext cx="74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 una de las técnicas más poderosas para la purificación de moléculas biológ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Defin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lectroforesi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transporte de partículas cargadas a través de un campo eléctrico. Basada en la migración diferencial de las partículas carg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336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203640" y="4105440"/>
          <a:ext cx="3190680" cy="27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4105440"/>
                    <a:ext cx="3190680" cy="27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00400" y="3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86000" y="0"/>
          <a:ext cx="51181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0"/>
                    <a:ext cx="5118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Procesos Integrado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- Cromatografía de Lecho expandido</a:t>
            </a:r>
            <a:br>
              <a:rPr sz="4000"/>
            </a:b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-Cromatografía Anular Plan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romatografía de Lechos Expandid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1052640"/>
            <a:ext cx="7345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roceso consiste esencialmente de 6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tiene el lecho almace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estabiliza el lecho expandido a un determinado ni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equilibrio el lecho con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carga el caldo directo de la fer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lava el l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uye y regenera el l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romatografía de Lechos Expandid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224920" cy="4952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2178000" cy="3048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300720" y="1268280"/>
            <a:ext cx="2160720" cy="2880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419640" y="1197000"/>
            <a:ext cx="2214360" cy="2952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9640" y="4724280"/>
            <a:ext cx="25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tapas de estabilización 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47242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tapas de carga del cal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Condi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debe purificar un producto extracel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caldo se inyecta  directamente a la columna, se ahorran las etapas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de cél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romatografías Continuas: Cromatografía Anula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638680" y="1143000"/>
            <a:ext cx="3194280" cy="5334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4114800" cy="4003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9480" y="990720"/>
            <a:ext cx="48006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Ide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Inyectar continuament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Condi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yectar continuamente la muestra, reemplaza a los carruseles de colum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romatografía de Afinidad en membran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523880"/>
          <a:ext cx="3505320" cy="40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505320" cy="40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3429000" y="4114800"/>
            <a:ext cx="6858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4419720"/>
            <a:ext cx="458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luente Libre de células y productos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2819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Membrana de afin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1447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 1 se carga la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romatografía de Afinidad en membran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441972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uye sólo la proteína de interes que estaba adsorbida en la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2819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Membrana de afin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12952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tapa 2 se eluye la proteína adsor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8600" y="1752480"/>
          <a:ext cx="3029040" cy="41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3029040" cy="41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048120" y="4038480"/>
            <a:ext cx="76176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2819520"/>
            <a:ext cx="0" cy="76176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22860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utilizar tanto en esca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nalítica ( más conoci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epa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spectos que afectas  la separación: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arga de la prote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amaño de la prote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Forma de la proteína</a:t>
            </a:r>
            <a:r>
              <a:rPr b="1" lang="es-ES" sz="24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336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895480" y="3886200"/>
          <a:ext cx="5410440" cy="27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886200"/>
                    <a:ext cx="541044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Bioreactor%20filter%20DrIng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3520" y="3808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lles de un sistema integ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495680" y="4572000"/>
          <a:ext cx="4496040" cy="170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4572000"/>
                    <a:ext cx="4496040" cy="1700280"/>
                  </a:xfrm>
                  <a:prstGeom prst="rect">
                    <a:avLst/>
                  </a:prstGeom>
                  <a:ln w="1260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4800600" y="3505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lles de la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280" y="76320"/>
            <a:ext cx="8839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ados de la Integ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09480" y="1433520"/>
            <a:ext cx="7848720" cy="4249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43280" y="640080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Castilho LR, Anspach FB, Deckwer WD (2002), </a:t>
            </a: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An integrated process for mammalian cell perfusion </a:t>
            </a:r>
            <a:br>
              <a:rPr sz="1400"/>
            </a:b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cultivation and product purification using a dynamic filter.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Biotechnol. Prog., 18, 776-78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14400"/>
            <a:ext cx="9144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aluación de los niveles de recup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80" y="562464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lución ciclo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9920" y="16765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uestra des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l Biore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05720" y="5791320"/>
            <a:ext cx="21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lución cic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Condi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debe purificar un producto extracel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caldo se inyecta  directamente a la columna, se ahorran las etapas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de cél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trabajar a flujos altos pues la membrana es res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00"/>
                </a:solidFill>
                <a:latin typeface="Comic Sans MS"/>
              </a:rPr>
              <a:t>Electrofil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484360" y="2133720"/>
          <a:ext cx="4918320" cy="38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133720"/>
                    <a:ext cx="4918320" cy="38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1066680" y="10666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ación a la que se le aplica un campo eléctrico,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 torta se minimiza y el proceso es más ráp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84360" y="6093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48360" y="609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ectro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Tecnología de purificación magnética para proteínas inmoviliz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152388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idea consiste en inmovilizar la proteína a partículas que tengan propiedades magné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14400" y="2514600"/>
          <a:ext cx="7153200" cy="18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14600"/>
                    <a:ext cx="715320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8080" y="457200"/>
            <a:ext cx="72392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steriormente, las partículas magnéticas son atrapadas en un campo eléctrico, quedando solo ellas retenidas y el resto de las especies de la mezcla son elimin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r ultimo, se desorben las proteínas desde las partículas magné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Diagrama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magnetos4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610840" cy="5538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Nuevos Materiales Cromatográficos</a:t>
            </a:r>
            <a:br>
              <a:rPr sz="4000"/>
            </a:br>
            <a:r>
              <a:rPr b="0" lang="es-ES" sz="2000" spc="-1" strike="noStrike">
                <a:solidFill>
                  <a:srgbClr val="b1161d"/>
                </a:solidFill>
                <a:latin typeface="SSFranklinGothic-Heavy"/>
              </a:rPr>
              <a:t>Monolith Separation Technology</a:t>
            </a:r>
            <a:br>
              <a:rPr sz="2000"/>
            </a:br>
            <a:r>
              <a:rPr b="0" lang="es-ES" sz="2000" spc="-1" strike="noStrike">
                <a:solidFill>
                  <a:srgbClr val="b1161d"/>
                </a:solidFill>
                <a:latin typeface="SSFranklinGothic-Heavy"/>
              </a:rPr>
              <a:t>http://www.monoliths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3770280" cy="2950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334120" y="2819520"/>
            <a:ext cx="32004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oporte Monol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les son una sola pieza, altamente interconectada con grandes y pequeños ca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3352320" y="4191120"/>
            <a:ext cx="1981800" cy="2057400"/>
            <a:chOff x="3352320" y="4191120"/>
            <a:chExt cx="1981800" cy="2057400"/>
          </a:xfrm>
        </p:grpSpPr>
        <p:sp>
          <p:nvSpPr>
            <p:cNvPr id="170" name=""/>
            <p:cNvSpPr/>
            <p:nvPr/>
          </p:nvSpPr>
          <p:spPr>
            <a:xfrm>
              <a:off x="3733920" y="4876920"/>
              <a:ext cx="990360" cy="137160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91120" y="4191120"/>
              <a:ext cx="0" cy="1218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352320" y="5715000"/>
              <a:ext cx="762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19720" y="5715000"/>
              <a:ext cx="914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57200" y="533520"/>
            <a:ext cx="76201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cortos de s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os activos fácilmente acce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as capacidades para moléculas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os tipo de cromatografía: Intercambio Iónico, Filtración por g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as, Dis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O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ltración por Ge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ormalmente se trabajan a flujos &lt; 1.0 ml/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evos materiales  Flujos = 5 ml/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Fund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icialmente se desarrollaba electroforesis en medio líquido, pero se producía dispersión, se requirió de medios que proporcionarán mayor resistencia mecánica, tale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elul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mid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oliacrilam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ichos medios resultan s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ás poro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tamente hidra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0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isminuyen los efectos de calor gene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odo el sistema sumido en un electrolito que sirve como buffer.</a:t>
            </a:r>
            <a:r>
              <a:rPr b="0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36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480" y="3809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 partícula al estar cargada genera capas de iones que la rod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336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1948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828800" y="380880"/>
          <a:ext cx="4457880" cy="31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80880"/>
                    <a:ext cx="445788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0"/>
            <a:ext cx="82296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CU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componente se mueve a diferente velocidad, entonces se logra separar la mezcla. Dicha velocidad de movilidad, velocidad de la partícula (v) por unidad de campo eléctrico (E), se puede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vilidad = v/E = k (pH-pI)/ 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¿ Qué pasa a pH = pI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¿ Qué proteínas se demoran más en migrar, las grandes o las pequeñ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¿ Qué pasa se aplico un campo eléctrico muy gran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0"/>
            <a:ext cx="82296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USOS A NIVEL ANALÍ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ectroforesis se puede utilizar para determin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eso molecular de proteínas por medio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Geles nativos (P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Geles denaturantes (SDS-P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unto isoléctrico por geles de isoelectroenfo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urvas de titulación por geles de isoelectroenfoque en dos dimen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eso molecular y pI por geles en 2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ctividad de enzimas por zimogra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828800" y="0"/>
            <a:ext cx="556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SDS-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paración por masa molecular, m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362320" y="1066680"/>
          <a:ext cx="470376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066680"/>
                    <a:ext cx="470376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743200" y="1219320"/>
            <a:ext cx="762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K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1219320"/>
            <a:ext cx="762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K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52480" y="1676520"/>
          <a:ext cx="5486400" cy="25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76520"/>
                    <a:ext cx="5486400" cy="25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905120" y="533520"/>
            <a:ext cx="5562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Isoelectroenfo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paración por 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20:29:52Z</dcterms:created>
  <dc:creator>Maria Elena Lienqueo C.</dc:creator>
  <dc:description/>
  <dc:language>en-US</dc:language>
  <cp:lastModifiedBy>Maria Elena Lienqueo C.</cp:lastModifiedBy>
  <dcterms:modified xsi:type="dcterms:W3CDTF">2004-10-25T02:17:05Z</dcterms:modified>
  <cp:revision>63</cp:revision>
  <dc:subject/>
  <dc:title>Cromatografía en Lecho Fijo</dc:title>
</cp:coreProperties>
</file>