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894-76A4-43F5-B8DC-F40E3D17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A2A-6B99-4CCE-8F1E-B845B494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CF2-2AF4-4DF5-89F4-0EC26BBC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2BB-95FE-4EF1-AD0E-411E2616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BA6-DFD0-4960-B92C-1A44A485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E20-AA5C-4E71-9FEF-E7000AC1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EB5-D365-45CA-A7E2-417F1FDF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E77-4688-448C-9ED8-2BD8EBD3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F46-CA17-49E3-8B2C-A92D4557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066-B966-428B-98A2-1A968863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011-E078-4E00-8A4A-C7702F46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C75-7CF8-4FC8-BD4A-6EBEBEB2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5781-349E-4EB4-961D-09C0C925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09480"/>
            <a:ext cx="7696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os para predecir los perfiles cromat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457200"/>
            <a:ext cx="533376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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: graficando ([t/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-1]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/-2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versus  ln(y/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67280" y="914400"/>
                <a:ext cx="285768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4" name=""/>
          <p:cNvGraphicFramePr/>
          <p:nvPr/>
        </p:nvGraphicFramePr>
        <p:xfrm>
          <a:off x="1066680" y="3276720"/>
          <a:ext cx="541044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541044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28600"/>
            <a:ext cx="8226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108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533520" y="3124080"/>
            <a:ext cx="8610480" cy="3738600"/>
            <a:chOff x="533520" y="3124080"/>
            <a:chExt cx="8610480" cy="373860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609480" y="510552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4038480" y="4979880"/>
              <a:ext cx="510552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Las constantes A, B y C incluyen los efectos de transferencia de material líquido sólido, la dispersión axial hacia delante y atrás y la distribución no lineal del líquido  a través del rellen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520" y="312408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58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60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166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3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7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94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80880" y="3809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36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42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43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5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51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0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7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8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iempo de retención del peak, to, es 93 minutos y la desviación estándar, s, es de 0,129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76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78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00200" y="2362320"/>
                <a:ext cx="48816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752480" y="4648320"/>
                <a:ext cx="396252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9-24T10:55:04Z</dcterms:modified>
  <cp:revision>164</cp:revision>
  <dc:subject/>
  <dc:title>Separación Sólido-Líquido</dc:title>
</cp:coreProperties>
</file>