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D78-705B-4447-BF01-526AA707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B8C-0E70-40B8-A7A7-211182E1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2AB-C8CF-4423-93BA-7124E1A7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C2F-B7D9-422C-AAA0-6DF31A26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CE5-A7F9-47D4-AE80-5BEFDF10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BF0-E557-4CDE-8A63-7BDD191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359-D14E-4D0F-911B-D0C6CCC2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37B-06D5-4116-8362-ED7C6B6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890-4629-4F9C-B8B2-3B7BC782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5AF-92D3-4F80-9867-1455C97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952-E162-4D29-9859-36DDEFB5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C85-FF3B-4844-8F30-198C457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40A-D788-45AE-BEA2-00EE179FCA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90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5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7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8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1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7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1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2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8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286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9-22T10:59:58Z</dcterms:modified>
  <cp:revision>116</cp:revision>
  <dc:subject/>
  <dc:title>Separación Sólido-Líquido</dc:title>
</cp:coreProperties>
</file>