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53E-B0AC-4F39-84DD-FBD80C8B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AA3-4638-41DB-8756-E6492F9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CC5-B90C-456A-9A2F-D8601026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9C6-201D-48A0-AD3B-9EDFAD4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BC2-389C-4C51-BD89-C58F117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F58-5586-4BBE-937C-55C9007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55D-722C-4F48-BDF6-26B1B1E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D7F-FE48-4B51-AC19-53C5EEF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C0D-F281-45ED-AFD4-7A4E119C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182-8FAC-470F-B994-A6E0ADC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D26-D262-4590-9789-8A88FA8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3DE-8491-400E-99AF-C924ED2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78D3-A4AE-4D58-B52B-7C7A32F6CC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90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5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7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1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7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1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2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8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28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2T10:59:58Z</dcterms:modified>
  <cp:revision>116</cp:revision>
  <dc:subject/>
  <dc:title>Separación Sólido-Líquido</dc:title>
</cp:coreProperties>
</file>