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15E-4A89-47A4-BC17-426F738E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575-14B8-4279-A005-6319242A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966-2115-443D-AA15-B691BCBF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3FB-AE04-4DCB-9C85-723EDFA8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8F0-DA88-4DDA-9919-9E67D358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C3D-1C90-49A9-968B-FFAC4A0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2C6-EA22-4398-9045-E6CD5184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C98-9AC3-42E0-AEAA-5BDCFF50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80C-2203-4BE2-A5A5-64A8761B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EB3-8B98-4CB0-9A41-4ACC2DF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6A8-0600-4BBD-8BFC-702F23C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4FD-C404-4E91-89C3-BFA0DA7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E571-4736-4757-B6F6-3CD74D2411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90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155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57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158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1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57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1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2480" y="1143000"/>
          <a:ext cx="5639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639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72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78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286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676520"/>
            <a:ext cx="4953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72280" y="144792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44792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9-22T10:59:58Z</dcterms:modified>
  <cp:revision>116</cp:revision>
  <dc:subject/>
  <dc:title>Separación Sólido-Líquido</dc:title>
</cp:coreProperties>
</file>