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2E8-7BC1-47EE-AE25-466C263C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B42-C51B-4A2D-9325-2BC36440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B06-35AC-4EE4-BF84-3F0CCA17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A8C-930A-418C-AE25-A4F87AD0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88C-A776-4493-9B74-C73A2FB5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70A-FFF6-4EBE-811D-5DC98607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9FB-923C-4547-B1D2-CD26964B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EA0-93C3-42BC-85F3-194062BE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78B-9E22-438A-9EE4-F8D0F3D7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60A-F026-40B3-A245-A7C91E49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0ED-5414-469C-9F54-17707A49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FB9-DAAD-4A42-B279-7E9F116C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7D6C-5394-4DD8-A174-E21A3B1FD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Tratamiento de desech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80880"/>
            <a:ext cx="297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proteína  40  a 50 % del total de polipéptidos que forman estas agreg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es de de separar de otros desechos celulares y componentes solubles de la célula por medio de centrifugación mode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091040" y="228600"/>
          <a:ext cx="505296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1040" y="228600"/>
                    <a:ext cx="505296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33520"/>
            <a:ext cx="83059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ost tratamiento (Renatu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los cuerpos in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tamiento con  Hidrocloruro de guanidina (GdmC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s proteínas contienen cisteína se debe agregar un agente reductor como D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proteína contiene enlaces disulfuro el DTT debe ser eliminado por medio de di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olding (Re-enrol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do de proteínas deben ser diluidas a una concentración muy bajas (5 - 20 mg/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icionar buffer fosfato con una solución de glutathione reducido y glutathione oxid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Separación de desechos celulares</a:t>
            </a: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Clarificación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amaño de los desechos celulare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debris)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Viscosidad del extra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9520" y="472428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Esta etapa resulta ser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de las etapas más difíciles y costo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 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8288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entrifug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icro o Ultrafil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Extracción en dos fases acuosa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utilizando un sistema de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olietilenglicol (PEG) -dext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Adsorción en lechos expandido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Expanded bed adsorp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Tipos de dese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2860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rote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rozo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Organelos celul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uerpos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05740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bajar a bajas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justar el pH quí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0574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l DNA aumenta la viscosidad del extracto, por otra parte si el producto es de uso terapéutico e inyectable todos los ácidos nucleicos deben ser removi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s alternativ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recipitar el DNA formando agregados con macromoléculas policationicas, tales como sulfato de prota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Utilizar DNA-asa para reducir la viscosidad, pero se deber en cuenta que al agregar productos al extracto se dificultan las etapas siguientes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Trozo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0574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Los trozos de membrana se pueden separar utilizado las operaciones de separación sólido-líquido ya mencionadas como son microfiltración, centrifugación o extracción líquido-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Organel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057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ara cada organelo, ya se sea mitocondria, cloroplasto, núcleo, etc. existen procedimientos especí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ris and Angel (1989) “ Protein purification methods: a practical approach”, IRL Press, pp 97-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cesamiento de proteínas agregadas </a:t>
            </a:r>
            <a:br>
              <a:rPr sz="2800"/>
            </a:b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Inclusion bod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371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modificadas genéticamente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roteínas recombinante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uerpos inc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n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solu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ción beneficiosa: Agregaciones no son degradadas significativamente por proteasas, ya que los sitios sensible a la actividad de proteasas se encuentran inaccesi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867280" y="2514600"/>
          <a:ext cx="25718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5718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7:17:19Z</dcterms:created>
  <dc:creator>li</dc:creator>
  <dc:description/>
  <dc:language>en-US</dc:language>
  <cp:lastModifiedBy>Maria Elena Lienqueo C.</cp:lastModifiedBy>
  <dcterms:modified xsi:type="dcterms:W3CDTF">2002-08-30T23:03:35Z</dcterms:modified>
  <cp:revision>11</cp:revision>
  <dc:subject/>
  <dc:title>Tratamiento de desechos celulares</dc:title>
</cp:coreProperties>
</file>