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5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2.wmf" ContentType="image/x-wmf"/>
  <Override PartName="/ppt/media/image4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675C-CEF2-4C89-8794-E1D27A53D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8DFE-1987-41CF-BB19-3F370DE2C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42F3-2F37-4ADB-8801-1D43D9B63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7BCB-8102-4291-AAF2-61FBE66F4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A754-9401-4ACA-827A-EEB1B9B1F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68A1-DD3C-43D3-9FCD-5FA87F48E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C359-ACA6-411A-8AB5-ED7E00C93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F206-AF46-4620-AE00-C62C169B8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12DF-54BA-4152-94A6-BFFFB01FD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AF21-DA74-4E92-983E-4F6DD95F8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ED70-2674-49ED-923A-BAA7B8C56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C7D8-8EFC-40BC-A6FD-781ADE6D4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4D2F7-3017-4A27-8029-FE3E59B330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Separación Sólido-Líquido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Operaciones de membrana </a:t>
            </a: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Part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66"/>
                </a:solidFill>
                <a:latin typeface="Times New Roman"/>
              </a:rPr>
              <a:t>Separación y Procesos Biotecnológic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1447920" y="1989000"/>
          <a:ext cx="7315200" cy="463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989000"/>
                    <a:ext cx="7315200" cy="463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304920" y="304920"/>
            <a:ext cx="7315200" cy="17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2.- Concentración de Proteínas, Cp</a:t>
            </a:r>
            <a:r>
              <a:rPr b="1" lang="es-ES_tradnl" sz="2000" spc="-1" strike="noStrike" u="sng" baseline="-25000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rpteí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Zona I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J = f(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TM,Cp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rpteína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Zona II: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J = (Cp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rpteína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304920"/>
            <a:ext cx="868680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2.- Velocidades de Recirculación, 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Zona I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 J = f(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TM,Cp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rpteína,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Zona II: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J = (Cp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rpteína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 U) : En cierta forma se está formando una to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38080" y="2133720"/>
          <a:ext cx="7925040" cy="448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133720"/>
                    <a:ext cx="7925040" cy="44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80880" y="457200"/>
            <a:ext cx="822960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1.- Para la región I donde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Symbol"/>
                <a:ea typeface="Symbol"/>
              </a:rPr>
              <a:t>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entury Gothic"/>
                <a:ea typeface="Times New Roman"/>
              </a:rPr>
              <a:t>PTM &lt;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Symbol"/>
                <a:ea typeface="Symbol"/>
              </a:rPr>
              <a:t>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entury Gothic"/>
                <a:ea typeface="Times New Roman"/>
              </a:rPr>
              <a:t>PTM</a:t>
            </a:r>
            <a:r>
              <a:rPr b="1" lang="es-ES_tradnl" sz="2000" spc="-1" strike="noStrike" u="sng" baseline="30000">
                <a:solidFill>
                  <a:srgbClr val="3333cc"/>
                </a:solidFill>
                <a:uFillTx/>
                <a:latin typeface="Century Gothic"/>
                <a:ea typeface="Times New Roman"/>
              </a:rPr>
              <a:t>*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Se puede considerar que </a:t>
            </a:r>
            <a:r>
              <a:rPr b="1" lang="es-ES_tradnl" sz="2000" spc="-1" strike="noStrike">
                <a:solidFill>
                  <a:srgbClr val="a50021"/>
                </a:solidFill>
                <a:latin typeface="Century Gothic"/>
                <a:ea typeface="Times New Roman"/>
              </a:rPr>
              <a:t>R</a:t>
            </a:r>
            <a:r>
              <a:rPr b="1" lang="es-ES_tradnl" sz="2000" spc="-1" strike="noStrike" baseline="-25000">
                <a:solidFill>
                  <a:srgbClr val="a50021"/>
                </a:solidFill>
                <a:latin typeface="Century Gothic"/>
                <a:ea typeface="Times New Roman"/>
              </a:rPr>
              <a:t>m</a:t>
            </a:r>
            <a:r>
              <a:rPr b="1" lang="es-ES_tradnl" sz="2000" spc="-1" strike="noStrike">
                <a:solidFill>
                  <a:srgbClr val="a50021"/>
                </a:solidFill>
                <a:latin typeface="Century Gothic"/>
                <a:ea typeface="Times New Roman"/>
              </a:rPr>
              <a:t> &gt;R</a:t>
            </a:r>
            <a:r>
              <a:rPr b="1" lang="es-ES_tradnl" sz="2000" spc="-1" strike="noStrike" baseline="-25000">
                <a:solidFill>
                  <a:srgbClr val="a50021"/>
                </a:solidFill>
                <a:latin typeface="Century Gothic"/>
                <a:ea typeface="Times New Roman"/>
              </a:rPr>
              <a:t>c</a:t>
            </a:r>
            <a:r>
              <a:rPr b="0" lang="es-ES_tradnl" sz="2000" spc="-1" strike="noStrike">
                <a:solidFill>
                  <a:srgbClr val="a50021"/>
                </a:solidFill>
                <a:latin typeface="Century Gothic"/>
                <a:ea typeface="Times New Roman"/>
              </a:rPr>
              <a:t>,</a:t>
            </a: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 hay control por la membr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J depende de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PTM, pero los aumentos producen un aumento en R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Century Gothic"/>
                <a:ea typeface="Times New Roman"/>
              </a:rPr>
              <a:t>c</a:t>
            </a: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 alcanzándose un máxim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066680" y="2438280"/>
          <a:ext cx="6705720" cy="430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438280"/>
                    <a:ext cx="6705720" cy="430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19320" y="2666880"/>
            <a:ext cx="3581280" cy="3429000"/>
          </a:xfrm>
          <a:prstGeom prst="ellipse">
            <a:avLst/>
          </a:prstGeom>
          <a:noFill/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80880" y="457200"/>
            <a:ext cx="8229600" cy="23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2.- Para la región II donde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Symbol"/>
                <a:ea typeface="Symbol"/>
              </a:rPr>
              <a:t>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entury Gothic"/>
                <a:ea typeface="Times New Roman"/>
              </a:rPr>
              <a:t>PTM &gt;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Symbol"/>
                <a:ea typeface="Symbol"/>
              </a:rPr>
              <a:t>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entury Gothic"/>
                <a:ea typeface="Times New Roman"/>
              </a:rPr>
              <a:t>PTM</a:t>
            </a:r>
            <a:r>
              <a:rPr b="1" lang="es-ES_tradnl" sz="2000" spc="-1" strike="noStrike" u="sng" baseline="30000">
                <a:solidFill>
                  <a:srgbClr val="3333cc"/>
                </a:solidFill>
                <a:uFillTx/>
                <a:latin typeface="Century Gothic"/>
                <a:ea typeface="Times New Roman"/>
              </a:rPr>
              <a:t>*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No hay efectos por la diferencia de presión hay un cambio en el control, ahora  </a:t>
            </a:r>
            <a:r>
              <a:rPr b="1" lang="es-ES_tradnl" sz="2000" spc="-1" strike="noStrike">
                <a:solidFill>
                  <a:srgbClr val="a50021"/>
                </a:solidFill>
                <a:latin typeface="Century Gothic"/>
                <a:ea typeface="Times New Roman"/>
              </a:rPr>
              <a:t>R</a:t>
            </a:r>
            <a:r>
              <a:rPr b="1" lang="es-ES_tradnl" sz="2000" spc="-1" strike="noStrike" baseline="-25000">
                <a:solidFill>
                  <a:srgbClr val="a50021"/>
                </a:solidFill>
                <a:latin typeface="Century Gothic"/>
                <a:ea typeface="Times New Roman"/>
              </a:rPr>
              <a:t>c</a:t>
            </a:r>
            <a:r>
              <a:rPr b="1" lang="es-ES_tradnl" sz="2000" spc="-1" strike="noStrike">
                <a:solidFill>
                  <a:srgbClr val="a50021"/>
                </a:solidFill>
                <a:latin typeface="Century Gothic"/>
                <a:ea typeface="Times New Roman"/>
              </a:rPr>
              <a:t> &gt;R</a:t>
            </a:r>
            <a:r>
              <a:rPr b="1" lang="es-ES_tradnl" sz="2000" spc="-1" strike="noStrike" baseline="-25000">
                <a:solidFill>
                  <a:srgbClr val="a50021"/>
                </a:solidFill>
                <a:latin typeface="Century Gothic"/>
                <a:ea typeface="Times New Roman"/>
              </a:rPr>
              <a:t>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Los incrementos en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PTM sólo aumentan R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Century Gothic"/>
                <a:ea typeface="Times New Roman"/>
              </a:rPr>
              <a:t>C</a:t>
            </a: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, en esta zona sólo hay una dependencia con la velocidad de los flujos cruzados y la concentración de proteí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752480" y="3051000"/>
          <a:ext cx="6477120" cy="380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3051000"/>
                    <a:ext cx="6477120" cy="38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4800600" y="2971800"/>
            <a:ext cx="3581280" cy="3429000"/>
          </a:xfrm>
          <a:prstGeom prst="ellipse">
            <a:avLst/>
          </a:prstGeom>
          <a:noFill/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odelo para la determinación de una expresión para el Flujo de permeado, 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80880" y="0"/>
            <a:ext cx="822960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Modelo gen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J = L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(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TM –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</a:t>
            </a: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Flux de Perme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676520" y="4724280"/>
                <a:ext cx="15127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4648320" y="480060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447920"/>
            <a:ext cx="5410080" cy="31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Coeficiente de perme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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esión osmótica, En el caso de macromoléculas en solución y dispersiones coloidales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proteínas y células)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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es muy ba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Coeficiente de rechazo del soluto por la membrana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181480" y="1981080"/>
            <a:ext cx="3695760" cy="4515480"/>
            <a:chOff x="5181480" y="1981080"/>
            <a:chExt cx="3695760" cy="4515480"/>
          </a:xfrm>
        </p:grpSpPr>
        <p:grpSp>
          <p:nvGrpSpPr>
            <p:cNvPr id="115" name=""/>
            <p:cNvGrpSpPr/>
            <p:nvPr/>
          </p:nvGrpSpPr>
          <p:grpSpPr>
            <a:xfrm>
              <a:off x="5181480" y="2133720"/>
              <a:ext cx="3695760" cy="4362840"/>
              <a:chOff x="5181480" y="2133720"/>
              <a:chExt cx="3695760" cy="4362840"/>
            </a:xfrm>
          </p:grpSpPr>
          <p:sp>
            <p:nvSpPr>
              <p:cNvPr id="116" name=""/>
              <p:cNvSpPr/>
              <p:nvPr/>
            </p:nvSpPr>
            <p:spPr>
              <a:xfrm>
                <a:off x="5181480" y="4648320"/>
                <a:ext cx="3695760" cy="184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660033"/>
                    </a:solidFill>
                    <a:latin typeface="Times New Roman"/>
                  </a:rPr>
                  <a:t>C</a:t>
                </a:r>
                <a:r>
                  <a:rPr b="0" lang="es-ES" sz="2400" spc="-1" strike="noStrike" baseline="-25000">
                    <a:solidFill>
                      <a:srgbClr val="660033"/>
                    </a:solidFill>
                    <a:latin typeface="Times New Roman"/>
                  </a:rPr>
                  <a:t>B</a:t>
                </a:r>
                <a:r>
                  <a:rPr b="0" lang="es-ES" sz="2400" spc="-1" strike="noStrike">
                    <a:solidFill>
                      <a:srgbClr val="660033"/>
                    </a:solidFill>
                    <a:latin typeface="Times New Roman"/>
                  </a:rPr>
                  <a:t>: Conc. soluto en el seno de la solución a la cual se desea llegar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660033"/>
                    </a:solidFill>
                    <a:latin typeface="Times New Roman"/>
                  </a:rPr>
                  <a:t>C</a:t>
                </a:r>
                <a:r>
                  <a:rPr b="0" lang="es-ES" sz="2400" spc="-1" strike="noStrike" baseline="-25000">
                    <a:solidFill>
                      <a:srgbClr val="660033"/>
                    </a:solidFill>
                    <a:latin typeface="Times New Roman"/>
                  </a:rPr>
                  <a:t>P</a:t>
                </a:r>
                <a:r>
                  <a:rPr b="0" lang="es-ES" sz="2400" spc="-1" strike="noStrike">
                    <a:solidFill>
                      <a:srgbClr val="660033"/>
                    </a:solidFill>
                    <a:latin typeface="Times New Roman"/>
                  </a:rPr>
                  <a:t>: Conc. soluto permead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7" name=""/>
              <p:cNvGrpSpPr/>
              <p:nvPr/>
            </p:nvGrpSpPr>
            <p:grpSpPr>
              <a:xfrm>
                <a:off x="6629400" y="2133720"/>
                <a:ext cx="1980720" cy="1828800"/>
                <a:chOff x="6629400" y="2133720"/>
                <a:chExt cx="1980720" cy="182880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7543440" y="2133720"/>
                  <a:ext cx="152280" cy="18288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6629400" y="2895840"/>
                  <a:ext cx="76176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6629400" y="3353040"/>
                  <a:ext cx="5331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8076960" y="3353040"/>
                  <a:ext cx="5331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P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2" name=""/>
            <p:cNvSpPr/>
            <p:nvPr/>
          </p:nvSpPr>
          <p:spPr>
            <a:xfrm>
              <a:off x="7772400" y="2895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01000" y="19810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09480" y="5791320"/>
            <a:ext cx="358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Symbol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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tención compl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Symbol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= 0 Retención Nu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883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entury Gothic"/>
                <a:ea typeface="Times New Roman"/>
              </a:rPr>
              <a:t>Modelo de polarización de Pelícu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roduce un fenómeno de polarización en la capa límite próxima a la membra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perfiles se ven modificados sólo por cambios en 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PT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4038480" y="2362320"/>
            <a:ext cx="457200" cy="1218960"/>
          </a:xfrm>
          <a:prstGeom prst="ellipse">
            <a:avLst/>
          </a:prstGeom>
          <a:noFill/>
          <a:ln w="1908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676520" y="1860480"/>
          <a:ext cx="5619600" cy="499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860480"/>
                    <a:ext cx="5619600" cy="499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6934320" y="2895480"/>
            <a:ext cx="533160" cy="228600"/>
          </a:xfrm>
          <a:prstGeom prst="rightArrow">
            <a:avLst>
              <a:gd name="adj1" fmla="val 50000"/>
              <a:gd name="adj2" fmla="val 58307"/>
            </a:avLst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934320" y="4191120"/>
            <a:ext cx="1066680" cy="457200"/>
          </a:xfrm>
          <a:prstGeom prst="rightArrow">
            <a:avLst>
              <a:gd name="adj1" fmla="val 50000"/>
              <a:gd name="adj2" fmla="val 58327"/>
            </a:avLst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010280" y="5791320"/>
            <a:ext cx="1524240" cy="685800"/>
          </a:xfrm>
          <a:prstGeom prst="rightArrow">
            <a:avLst>
              <a:gd name="adj1" fmla="val 50000"/>
              <a:gd name="adj2" fmla="val 55564"/>
            </a:avLst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4952880"/>
            <a:ext cx="3124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T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&lt;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T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&lt;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T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838080" y="914400"/>
            <a:ext cx="7848720" cy="45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entury Gothic"/>
                <a:ea typeface="Times New Roman"/>
              </a:rPr>
              <a:t>Balance de m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Movimiento convectivo de soluto a la interfase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Movimiento difusivo del soluto de la interfase al seno del flui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Movimiento difusivo del soluto desde la interfase al seno del flui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1208160" y="838080"/>
                <a:ext cx="586260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J</m:t>
                        </m:r>
                      </m:e>
                      <m:sup/>
                    </m:sSup>
                    <m:r>
                      <m:rPr>
                        <m:lit/>
                        <m:nor/>
                      </m:rPr>
                      <m:t xml:space="preserve">C        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       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            J</m:t>
                        </m:r>
                      </m:e>
                      <m:sup/>
                    </m:s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762120" y="1981080"/>
            <a:ext cx="685800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En estado estacion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Consideraciones de bor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x=0 C=C</a:t>
            </a:r>
            <a:r>
              <a:rPr b="0" lang="es-ES" sz="2400" spc="-1" strike="noStrike" baseline="-25000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x=</a:t>
            </a:r>
            <a:r>
              <a:rPr b="0" lang="es-ES" sz="2400" spc="-1" strike="noStrike">
                <a:solidFill>
                  <a:srgbClr val="000099"/>
                </a:solidFill>
                <a:latin typeface="Symbol"/>
                <a:ea typeface="Symbol"/>
              </a:rPr>
              <a:t></a:t>
            </a: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C =C</a:t>
            </a:r>
            <a:r>
              <a:rPr b="0" lang="es-ES" sz="2400" spc="-1" strike="noStrike" baseline="-25000">
                <a:solidFill>
                  <a:srgbClr val="000099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Integra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3200400" y="5029200"/>
                <a:ext cx="295740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J</m:t>
                        </m:r>
                      </m:e>
                      <m:sup/>
                    </m:s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</m:num>
                      <m:den>
                        <m:r>
                          <m:t xml:space="preserve">δ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  <m:sup/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/>
                        </m:sSubSup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/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0" y="304920"/>
            <a:ext cx="2666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Movimiento convectiv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de soluto a  la interf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0"/>
            <a:ext cx="289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Movimiento difusivo del soluto de la interfase al seno del fluido</a:t>
            </a: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57800" y="228600"/>
            <a:ext cx="3124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Movimiento difusivo del soluto desde la interfase al seno del fluid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85800" y="228600"/>
            <a:ext cx="7467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Si hay un coeficiente  rechazo total </a:t>
            </a:r>
            <a:r>
              <a:rPr b="0" lang="es-ES" sz="2400" spc="-1" strike="noStrike">
                <a:solidFill>
                  <a:srgbClr val="000099"/>
                </a:solidFill>
                <a:latin typeface="Symbol"/>
                <a:ea typeface="Symbol"/>
              </a:rPr>
              <a:t></a:t>
            </a: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=1 entonces C</a:t>
            </a:r>
            <a:r>
              <a:rPr b="0" lang="es-ES" sz="2400" spc="-1" strike="noStrike" baseline="-25000">
                <a:solidFill>
                  <a:srgbClr val="000099"/>
                </a:solidFill>
                <a:latin typeface="Times New Roman"/>
              </a:rPr>
              <a:t>p</a:t>
            </a:r>
            <a:r>
              <a:rPr b="0" lang="es-ES" sz="2400" spc="-1" strike="noStrike" baseline="30000">
                <a:solidFill>
                  <a:srgbClr val="000099"/>
                </a:solidFill>
                <a:latin typeface="Times New Roman"/>
              </a:rPr>
              <a:t>*</a:t>
            </a: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1905120" y="838080"/>
                <a:ext cx="3821040" cy="9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J</m:t>
                        </m:r>
                      </m:e>
                      <m:sup/>
                    </m:s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</m:num>
                      <m:den>
                        <m:r>
                          <m:t xml:space="preserve">δ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  <m:sup/>
                        </m:sSubSup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  <m:sup/>
                        </m:sSubSup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>
            <a:off x="685800" y="1981080"/>
            <a:ext cx="8001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k</a:t>
            </a:r>
            <a:r>
              <a:rPr b="0" lang="es-ES" sz="2400" spc="-1" strike="noStrike" baseline="-25000">
                <a:solidFill>
                  <a:srgbClr val="000099"/>
                </a:solidFill>
                <a:latin typeface="Times New Roman"/>
              </a:rPr>
              <a:t>s</a:t>
            </a: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 es el coeficiente de transferencia de masa, el cual se determina por medio de correlaciones o experimentos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86200" y="4724280"/>
            <a:ext cx="5335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600200" y="2971800"/>
            <a:ext cx="6552720" cy="3582720"/>
            <a:chOff x="1600200" y="2971800"/>
            <a:chExt cx="6552720" cy="3582720"/>
          </a:xfrm>
        </p:grpSpPr>
        <p:grpSp>
          <p:nvGrpSpPr>
            <p:cNvPr id="145" name=""/>
            <p:cNvGrpSpPr/>
            <p:nvPr/>
          </p:nvGrpSpPr>
          <p:grpSpPr>
            <a:xfrm>
              <a:off x="1600200" y="2971800"/>
              <a:ext cx="6552720" cy="3582720"/>
              <a:chOff x="1600200" y="2971800"/>
              <a:chExt cx="6552720" cy="3582720"/>
            </a:xfrm>
          </p:grpSpPr>
          <p:graphicFrame>
            <p:nvGraphicFramePr>
              <p:cNvPr id="146" name=""/>
              <p:cNvGraphicFramePr/>
              <p:nvPr/>
            </p:nvGraphicFramePr>
            <p:xfrm>
              <a:off x="1600200" y="2971800"/>
              <a:ext cx="6552720" cy="358272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147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600200" y="2971800"/>
                        <a:ext cx="6552720" cy="3582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48" name=""/>
              <p:cNvSpPr/>
              <p:nvPr/>
            </p:nvSpPr>
            <p:spPr>
              <a:xfrm>
                <a:off x="4840920" y="4359960"/>
                <a:ext cx="0" cy="51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840920" y="4871880"/>
                <a:ext cx="845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" name=""/>
            <p:cNvSpPr/>
            <p:nvPr/>
          </p:nvSpPr>
          <p:spPr>
            <a:xfrm>
              <a:off x="5223240" y="3508920"/>
              <a:ext cx="25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Diferentes </a:t>
              </a:r>
              <a:r>
                <a:rPr b="0" lang="es-E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s-ES" sz="2400" spc="-1" strike="noStrike">
                  <a:solidFill>
                    <a:srgbClr val="000000"/>
                  </a:solidFill>
                  <a:latin typeface="Century Gothic"/>
                </a:rPr>
                <a:t>PT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4038480" y="44956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50021"/>
                </a:solidFill>
                <a:latin typeface="Times New Roman"/>
              </a:rPr>
              <a:t>k</a:t>
            </a:r>
            <a:r>
              <a:rPr b="1" lang="es-ES" sz="2400" spc="-1" strike="noStrike" baseline="-25000">
                <a:solidFill>
                  <a:srgbClr val="a50021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457200"/>
            <a:ext cx="82296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fectos de la polar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bido a las diferentes velocidades de transporte de los </a:t>
            </a:r>
            <a:r>
              <a:rPr b="1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diferentes solutos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se produce un gradiente de concentración en la proximidad de la membrana, este efecto se conoce como “Efecto de Polarización”. </a:t>
            </a:r>
            <a:r>
              <a:rPr b="1" lang="es-ES" sz="2400" spc="-1" strike="noStrike">
                <a:solidFill>
                  <a:srgbClr val="a50021"/>
                </a:solidFill>
                <a:latin typeface="Times New Roman"/>
              </a:rPr>
              <a:t>No se trata de formación de tor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Image2" descr=""/>
          <p:cNvPicPr/>
          <p:nvPr/>
        </p:nvPicPr>
        <p:blipFill>
          <a:blip r:embed="rId1"/>
          <a:stretch/>
        </p:blipFill>
        <p:spPr>
          <a:xfrm>
            <a:off x="1981080" y="2819520"/>
            <a:ext cx="513108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85800" y="228600"/>
            <a:ext cx="8001000" cy="284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99"/>
                </a:solidFill>
                <a:uFillTx/>
                <a:latin typeface="Times New Roman"/>
              </a:rPr>
              <a:t>Modelo de polarización en película y capa de g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99"/>
                </a:solidFill>
                <a:uFillTx/>
                <a:latin typeface="Comic Sans MS"/>
              </a:rPr>
              <a:t>Sólo en Región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Comic Sans MS"/>
              </a:rPr>
              <a:t>Si se supone que el aumento de C</a:t>
            </a:r>
            <a:r>
              <a:rPr b="0" lang="es-ES" sz="2400" spc="-1" strike="noStrike" baseline="-25000">
                <a:solidFill>
                  <a:srgbClr val="000099"/>
                </a:solidFill>
                <a:latin typeface="Comic Sans MS"/>
              </a:rPr>
              <a:t>w</a:t>
            </a:r>
            <a:r>
              <a:rPr b="0" lang="es-ES" sz="2400" spc="-1" strike="noStrike">
                <a:solidFill>
                  <a:srgbClr val="000099"/>
                </a:solidFill>
                <a:latin typeface="Comic Sans MS"/>
              </a:rPr>
              <a:t> con </a:t>
            </a:r>
            <a:r>
              <a:rPr b="0" lang="es-ES_tradnl" sz="2400" spc="-1" strike="noStrike">
                <a:solidFill>
                  <a:srgbClr val="000099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PTM tiene un límite C</a:t>
            </a:r>
            <a:r>
              <a:rPr b="0" lang="es-ES_tradnl" sz="2400" spc="-1" strike="noStrike" baseline="-25000">
                <a:solidFill>
                  <a:srgbClr val="000099"/>
                </a:solidFill>
                <a:latin typeface="Comic Sans MS"/>
                <a:ea typeface="Times New Roman"/>
              </a:rPr>
              <a:t>G</a:t>
            </a:r>
            <a:r>
              <a:rPr b="0" lang="es-ES_tradnl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donde se forma la llamada “capa gel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3048120" y="2590920"/>
                <a:ext cx="200808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J</m:t>
                        </m:r>
                      </m:e>
                      <m:sup/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3886200" y="4724280"/>
            <a:ext cx="5335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371600" y="3808440"/>
            <a:ext cx="6477120" cy="3049560"/>
            <a:chOff x="1371600" y="3808440"/>
            <a:chExt cx="6477120" cy="3049560"/>
          </a:xfrm>
        </p:grpSpPr>
        <p:grpSp>
          <p:nvGrpSpPr>
            <p:cNvPr id="156" name=""/>
            <p:cNvGrpSpPr/>
            <p:nvPr/>
          </p:nvGrpSpPr>
          <p:grpSpPr>
            <a:xfrm>
              <a:off x="1371600" y="3808440"/>
              <a:ext cx="6477120" cy="3049560"/>
              <a:chOff x="1371600" y="3808440"/>
              <a:chExt cx="6477120" cy="3049560"/>
            </a:xfrm>
          </p:grpSpPr>
          <p:graphicFrame>
            <p:nvGraphicFramePr>
              <p:cNvPr id="157" name=""/>
              <p:cNvGraphicFramePr/>
              <p:nvPr/>
            </p:nvGraphicFramePr>
            <p:xfrm>
              <a:off x="1371600" y="3808440"/>
              <a:ext cx="6477120" cy="304956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158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371600" y="3808440"/>
                        <a:ext cx="6477120" cy="3049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59" name=""/>
              <p:cNvSpPr/>
              <p:nvPr/>
            </p:nvSpPr>
            <p:spPr>
              <a:xfrm>
                <a:off x="4574880" y="4989960"/>
                <a:ext cx="0" cy="43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574880" y="5425560"/>
                <a:ext cx="83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6019920" y="5789520"/>
              <a:ext cx="609480" cy="228600"/>
            </a:xfrm>
            <a:prstGeom prst="line">
              <a:avLst/>
            </a:prstGeom>
            <a:ln w="57240">
              <a:solidFill>
                <a:srgbClr val="cc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400800" y="6094440"/>
              <a:ext cx="1066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a50021"/>
                  </a:solidFill>
                  <a:latin typeface="Times New Roman"/>
                </a:rPr>
                <a:t>Ln C</a:t>
              </a:r>
              <a:r>
                <a:rPr b="1" lang="es-ES" sz="2400" spc="-1" strike="noStrike" baseline="-25000">
                  <a:solidFill>
                    <a:srgbClr val="a50021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533520" y="380880"/>
            <a:ext cx="8001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99"/>
                </a:solidFill>
                <a:uFillTx/>
                <a:latin typeface="Comic Sans MS"/>
              </a:rPr>
              <a:t>Características de la capa g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Comic Sans MS"/>
              </a:rPr>
              <a:t>Se producen problemas por incrustaciones en la membr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Comic Sans MS"/>
              </a:rPr>
              <a:t>Este efecto es diferente a la polarización de la membr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304920" y="2590920"/>
          <a:ext cx="8839080" cy="386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590920"/>
                    <a:ext cx="8839080" cy="38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5867280" y="3048120"/>
            <a:ext cx="76320" cy="228600"/>
          </a:xfrm>
          <a:prstGeom prst="line">
            <a:avLst/>
          </a:prstGeom>
          <a:ln w="381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533520" y="380880"/>
            <a:ext cx="80010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99"/>
                </a:solidFill>
                <a:uFillTx/>
                <a:latin typeface="Comic Sans MS"/>
              </a:rPr>
              <a:t>Caracterís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Comic Sans MS"/>
              </a:rPr>
              <a:t>Las incrustaciones disminuyen las porosidad de la membrana necesitándose tratamientos físicos y quím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Comic Sans MS"/>
              </a:rPr>
              <a:t>Aumento de co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Comic Sans MS"/>
              </a:rPr>
              <a:t>Disminuyendo la vida útil de los equi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80880" y="0"/>
            <a:ext cx="8382240" cy="24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Problema 1  Microfiltración Modelo de la capa de polariza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n base a los datos de la siguiente tabla determin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1.- Coeficiente de transferencia de ma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2.- La concentración de la “capa gel”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abla 1 Flux a diferentes condiciones de presión y concentración de proteí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09480" y="2590920"/>
            <a:ext cx="8153280" cy="4267080"/>
            <a:chOff x="609480" y="2590920"/>
            <a:chExt cx="8153280" cy="4267080"/>
          </a:xfrm>
        </p:grpSpPr>
        <p:grpSp>
          <p:nvGrpSpPr>
            <p:cNvPr id="170" name=""/>
            <p:cNvGrpSpPr/>
            <p:nvPr/>
          </p:nvGrpSpPr>
          <p:grpSpPr>
            <a:xfrm>
              <a:off x="618480" y="2592720"/>
              <a:ext cx="8133480" cy="4262400"/>
              <a:chOff x="618480" y="2592720"/>
              <a:chExt cx="8133480" cy="4262400"/>
            </a:xfrm>
          </p:grpSpPr>
          <p:grpSp>
            <p:nvGrpSpPr>
              <p:cNvPr id="171" name=""/>
              <p:cNvGrpSpPr/>
              <p:nvPr/>
            </p:nvGrpSpPr>
            <p:grpSpPr>
              <a:xfrm>
                <a:off x="618480" y="2592720"/>
                <a:ext cx="2725200" cy="628920"/>
                <a:chOff x="618480" y="2592720"/>
                <a:chExt cx="2725200" cy="62892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705600" y="2592720"/>
                  <a:ext cx="2550240" cy="62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000099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0" lang="es-ES_tradnl" sz="2400" spc="-1" strike="noStrike">
                      <a:solidFill>
                        <a:srgbClr val="000099"/>
                      </a:solidFill>
                      <a:latin typeface="Comic Sans MS"/>
                      <a:ea typeface="Times New Roman"/>
                    </a:rPr>
                    <a:t>PTM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618480" y="2592720"/>
                  <a:ext cx="2725200" cy="628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3344040" y="2592720"/>
                <a:ext cx="5407920" cy="628920"/>
                <a:chOff x="3344040" y="2592720"/>
                <a:chExt cx="5407920" cy="62892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3431880" y="2592720"/>
                  <a:ext cx="5231520" cy="62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a50021"/>
                      </a:solidFill>
                      <a:latin typeface="Times New Roman"/>
                      <a:ea typeface="Times New Roman"/>
                    </a:rPr>
                    <a:t>Concentración en el seno de la solución C</a:t>
                  </a:r>
                  <a:r>
                    <a:rPr b="1" lang="es-ES_tradnl" sz="2000" spc="-1" strike="noStrike" baseline="-30000">
                      <a:solidFill>
                        <a:srgbClr val="a50021"/>
                      </a:solidFill>
                      <a:latin typeface="Times New Roman"/>
                      <a:ea typeface="Times New Roman"/>
                    </a:rPr>
                    <a:t>B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 baseline="-30000">
                      <a:solidFill>
                        <a:srgbClr val="a50021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es-ES_tradnl" sz="2000" spc="-1" strike="noStrike">
                      <a:solidFill>
                        <a:srgbClr val="a50021"/>
                      </a:solidFill>
                      <a:latin typeface="Times New Roman"/>
                      <a:ea typeface="Times New Roman"/>
                    </a:rPr>
                    <a:t>[ % en peso]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344040" y="2592720"/>
                  <a:ext cx="5407920" cy="628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618480" y="3221640"/>
                <a:ext cx="2725200" cy="349200"/>
                <a:chOff x="618480" y="3221640"/>
                <a:chExt cx="2725200" cy="34920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705600" y="3221640"/>
                  <a:ext cx="255024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[Kg/cm</a:t>
                  </a:r>
                  <a:r>
                    <a:rPr b="0" lang="es-ES_tradnl" sz="20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]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618480" y="3221640"/>
                  <a:ext cx="2725200" cy="34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3344040" y="3221640"/>
                <a:ext cx="1328040" cy="349200"/>
                <a:chOff x="3344040" y="3221640"/>
                <a:chExt cx="1328040" cy="34920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3431880" y="3221640"/>
                  <a:ext cx="115236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a50021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3344040" y="3221640"/>
                  <a:ext cx="1328040" cy="34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4672440" y="3221640"/>
                <a:ext cx="1419120" cy="349200"/>
                <a:chOff x="4672440" y="3221640"/>
                <a:chExt cx="1419120" cy="34920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4760280" y="3221640"/>
                  <a:ext cx="124272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a50021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4672440" y="3221640"/>
                  <a:ext cx="1419120" cy="34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6092280" y="3221640"/>
                <a:ext cx="1240200" cy="349200"/>
                <a:chOff x="6092280" y="3221640"/>
                <a:chExt cx="1240200" cy="34920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6179400" y="3221640"/>
                  <a:ext cx="106524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a50021"/>
                      </a:solidFill>
                      <a:latin typeface="Times New Roman"/>
                      <a:ea typeface="Times New Roman"/>
                    </a:rPr>
                    <a:t>1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6092280" y="3221640"/>
                  <a:ext cx="1240200" cy="34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7332840" y="3221640"/>
                <a:ext cx="1419120" cy="349200"/>
                <a:chOff x="7332840" y="3221640"/>
                <a:chExt cx="1419120" cy="34920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7420680" y="3221640"/>
                  <a:ext cx="124272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a50021"/>
                      </a:solidFill>
                      <a:latin typeface="Times New Roman"/>
                      <a:ea typeface="Times New Roman"/>
                    </a:rPr>
                    <a:t>2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7332840" y="3221640"/>
                  <a:ext cx="1419120" cy="34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618480" y="3570840"/>
                <a:ext cx="2725200" cy="349200"/>
                <a:chOff x="618480" y="3570840"/>
                <a:chExt cx="2725200" cy="34920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705600" y="3570840"/>
                  <a:ext cx="255024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99"/>
                      </a:solidFill>
                      <a:latin typeface="Times New Roman"/>
                      <a:ea typeface="Times New Roman"/>
                    </a:rPr>
                    <a:t>0.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618480" y="3570840"/>
                  <a:ext cx="2725200" cy="34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3344040" y="3570840"/>
                <a:ext cx="1328040" cy="349200"/>
                <a:chOff x="3344040" y="3570840"/>
                <a:chExt cx="1328040" cy="34920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3431880" y="3570840"/>
                  <a:ext cx="115236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3344040" y="3570840"/>
                  <a:ext cx="1328040" cy="34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4672440" y="3570840"/>
                <a:ext cx="1419120" cy="349200"/>
                <a:chOff x="4672440" y="3570840"/>
                <a:chExt cx="1419120" cy="34920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4760280" y="3570840"/>
                  <a:ext cx="124272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4672440" y="3570840"/>
                  <a:ext cx="1419120" cy="34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6092280" y="3570840"/>
                <a:ext cx="1240200" cy="349200"/>
                <a:chOff x="6092280" y="3570840"/>
                <a:chExt cx="1240200" cy="34920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6179400" y="3570840"/>
                  <a:ext cx="106524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6092280" y="3570840"/>
                  <a:ext cx="1240200" cy="34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7332840" y="3570840"/>
                <a:ext cx="1419120" cy="349200"/>
                <a:chOff x="7332840" y="3570840"/>
                <a:chExt cx="1419120" cy="34920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7420680" y="3570840"/>
                  <a:ext cx="124272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7332840" y="3570840"/>
                  <a:ext cx="1419120" cy="34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618480" y="3920400"/>
                <a:ext cx="2725200" cy="489240"/>
                <a:chOff x="618480" y="3920400"/>
                <a:chExt cx="2725200" cy="48924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705600" y="3920400"/>
                  <a:ext cx="255024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99"/>
                      </a:solidFill>
                      <a:latin typeface="Times New Roman"/>
                      <a:ea typeface="Times New Roman"/>
                    </a:rPr>
                    <a:t>0,3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618480" y="3920400"/>
                  <a:ext cx="272520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3344040" y="3920400"/>
                <a:ext cx="1328040" cy="489240"/>
                <a:chOff x="3344040" y="3920400"/>
                <a:chExt cx="1328040" cy="48924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3431880" y="3920400"/>
                  <a:ext cx="115236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8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3344040" y="3920400"/>
                  <a:ext cx="132804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4672440" y="3920400"/>
                <a:ext cx="1419120" cy="489240"/>
                <a:chOff x="4672440" y="3920400"/>
                <a:chExt cx="1419120" cy="48924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4760280" y="3920400"/>
                  <a:ext cx="124272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7,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672440" y="3920400"/>
                  <a:ext cx="141912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6092280" y="3920400"/>
                <a:ext cx="1240200" cy="489240"/>
                <a:chOff x="6092280" y="3920400"/>
                <a:chExt cx="1240200" cy="48924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6179400" y="3920400"/>
                  <a:ext cx="106524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7.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6092280" y="3920400"/>
                  <a:ext cx="124020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7332840" y="3920400"/>
                <a:ext cx="1419120" cy="489240"/>
                <a:chOff x="7332840" y="3920400"/>
                <a:chExt cx="1419120" cy="48924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7420680" y="3920400"/>
                  <a:ext cx="124272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7332840" y="3920400"/>
                  <a:ext cx="141912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618480" y="4409640"/>
                <a:ext cx="2725200" cy="488880"/>
                <a:chOff x="618480" y="4409640"/>
                <a:chExt cx="2725200" cy="48888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705600" y="4409640"/>
                  <a:ext cx="255024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99"/>
                      </a:solidFill>
                      <a:latin typeface="Times New Roman"/>
                      <a:ea typeface="Times New Roman"/>
                    </a:rPr>
                    <a:t>0,6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618480" y="4409640"/>
                  <a:ext cx="272520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3344040" y="4409640"/>
                <a:ext cx="1328040" cy="488880"/>
                <a:chOff x="3344040" y="4409640"/>
                <a:chExt cx="1328040" cy="48888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3431880" y="4409640"/>
                  <a:ext cx="115236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344040" y="4409640"/>
                  <a:ext cx="132804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4672440" y="4409640"/>
                <a:ext cx="1419120" cy="488880"/>
                <a:chOff x="4672440" y="4409640"/>
                <a:chExt cx="1419120" cy="48888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4760280" y="4409640"/>
                  <a:ext cx="124272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0.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4672440" y="4409640"/>
                  <a:ext cx="141912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6092280" y="4409640"/>
                <a:ext cx="1240200" cy="488880"/>
                <a:chOff x="6092280" y="4409640"/>
                <a:chExt cx="1240200" cy="48888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6179400" y="4409640"/>
                  <a:ext cx="106524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1,8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6092280" y="4409640"/>
                  <a:ext cx="124020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7332840" y="4409640"/>
                <a:ext cx="1419120" cy="488880"/>
                <a:chOff x="7332840" y="4409640"/>
                <a:chExt cx="1419120" cy="48888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7420680" y="4409640"/>
                  <a:ext cx="124272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,3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7332840" y="4409640"/>
                  <a:ext cx="141912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618480" y="4898880"/>
                <a:ext cx="2725200" cy="488880"/>
                <a:chOff x="618480" y="4898880"/>
                <a:chExt cx="2725200" cy="48888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705600" y="4898880"/>
                  <a:ext cx="255024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99"/>
                      </a:solidFill>
                      <a:latin typeface="Times New Roman"/>
                      <a:ea typeface="Times New Roman"/>
                    </a:rPr>
                    <a:t>1.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618480" y="4898880"/>
                  <a:ext cx="272520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3344040" y="4898880"/>
                <a:ext cx="1328040" cy="488880"/>
                <a:chOff x="3344040" y="4898880"/>
                <a:chExt cx="1328040" cy="48888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3431880" y="4898880"/>
                  <a:ext cx="115236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7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344040" y="4898880"/>
                  <a:ext cx="132804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4672440" y="4898880"/>
                <a:ext cx="1419120" cy="488880"/>
                <a:chOff x="4672440" y="4898880"/>
                <a:chExt cx="1419120" cy="48888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4760280" y="4898880"/>
                  <a:ext cx="124272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6.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4672440" y="4898880"/>
                  <a:ext cx="141912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6092280" y="4898880"/>
                <a:ext cx="1240200" cy="488880"/>
                <a:chOff x="6092280" y="4898880"/>
                <a:chExt cx="1240200" cy="48888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6179400" y="4898880"/>
                  <a:ext cx="106524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2,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6092280" y="4898880"/>
                  <a:ext cx="124020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7332840" y="4898880"/>
                <a:ext cx="1419120" cy="488880"/>
                <a:chOff x="7332840" y="4898880"/>
                <a:chExt cx="1419120" cy="48888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7420680" y="4898880"/>
                  <a:ext cx="124272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,6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7332840" y="4898880"/>
                  <a:ext cx="141912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618480" y="5387760"/>
                <a:ext cx="2725200" cy="489240"/>
                <a:chOff x="618480" y="5387760"/>
                <a:chExt cx="2725200" cy="4892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705600" y="5387760"/>
                  <a:ext cx="255024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99"/>
                      </a:solidFill>
                      <a:latin typeface="Times New Roman"/>
                      <a:ea typeface="Times New Roman"/>
                    </a:rPr>
                    <a:t>1,3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618480" y="5387760"/>
                  <a:ext cx="272520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3344040" y="5387760"/>
                <a:ext cx="1328040" cy="489240"/>
                <a:chOff x="3344040" y="5387760"/>
                <a:chExt cx="1328040" cy="48924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3431880" y="5387760"/>
                  <a:ext cx="115236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3344040" y="5387760"/>
                  <a:ext cx="132804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4672440" y="5387760"/>
                <a:ext cx="1419120" cy="489240"/>
                <a:chOff x="4672440" y="5387760"/>
                <a:chExt cx="1419120" cy="48924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4760280" y="5387760"/>
                  <a:ext cx="124272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6,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4672440" y="5387760"/>
                  <a:ext cx="141912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6092280" y="5387760"/>
                <a:ext cx="1240200" cy="489240"/>
                <a:chOff x="6092280" y="5387760"/>
                <a:chExt cx="1240200" cy="48924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6179400" y="5387760"/>
                  <a:ext cx="106524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2,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092280" y="5387760"/>
                  <a:ext cx="124020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7332840" y="5387760"/>
                <a:ext cx="1419120" cy="489240"/>
                <a:chOff x="7332840" y="5387760"/>
                <a:chExt cx="1419120" cy="48924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7420680" y="5387760"/>
                  <a:ext cx="124272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.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7332840" y="5387760"/>
                  <a:ext cx="141912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618480" y="5877360"/>
                <a:ext cx="2725200" cy="488880"/>
                <a:chOff x="618480" y="5877360"/>
                <a:chExt cx="2725200" cy="48888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705600" y="5877360"/>
                  <a:ext cx="255024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99"/>
                      </a:solidFill>
                      <a:latin typeface="Times New Roman"/>
                      <a:ea typeface="Times New Roman"/>
                    </a:rPr>
                    <a:t>1,6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618480" y="5877360"/>
                  <a:ext cx="272520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3344040" y="5877360"/>
                <a:ext cx="1328040" cy="488880"/>
                <a:chOff x="3344040" y="5877360"/>
                <a:chExt cx="1328040" cy="48888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3431880" y="5877360"/>
                  <a:ext cx="115236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3344040" y="5877360"/>
                  <a:ext cx="132804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4672440" y="5877360"/>
                <a:ext cx="1419120" cy="488880"/>
                <a:chOff x="4672440" y="5877360"/>
                <a:chExt cx="1419120" cy="4888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4760280" y="5877360"/>
                  <a:ext cx="124272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7.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4672440" y="5877360"/>
                  <a:ext cx="141912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6092280" y="5877360"/>
                <a:ext cx="1240200" cy="488880"/>
                <a:chOff x="6092280" y="5877360"/>
                <a:chExt cx="1240200" cy="4888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6179400" y="5877360"/>
                  <a:ext cx="106524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3.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6092280" y="5877360"/>
                  <a:ext cx="124020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7332840" y="5877360"/>
                <a:ext cx="1419120" cy="488880"/>
                <a:chOff x="7332840" y="5877360"/>
                <a:chExt cx="1419120" cy="4888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7420680" y="5877360"/>
                  <a:ext cx="124272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,3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7332840" y="5877360"/>
                  <a:ext cx="141912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18480" y="6366240"/>
                <a:ext cx="2725200" cy="488880"/>
                <a:chOff x="618480" y="6366240"/>
                <a:chExt cx="2725200" cy="4888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705600" y="6366240"/>
                  <a:ext cx="255024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99"/>
                      </a:solidFill>
                      <a:latin typeface="Times New Roman"/>
                      <a:ea typeface="Times New Roman"/>
                    </a:rPr>
                    <a:t>2.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18480" y="6366240"/>
                  <a:ext cx="272520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3344040" y="6366240"/>
                <a:ext cx="1328040" cy="488880"/>
                <a:chOff x="3344040" y="6366240"/>
                <a:chExt cx="1328040" cy="48888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3431880" y="6366240"/>
                  <a:ext cx="115236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3344040" y="6366240"/>
                  <a:ext cx="132804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4672440" y="6366240"/>
                <a:ext cx="1419120" cy="488880"/>
                <a:chOff x="4672440" y="6366240"/>
                <a:chExt cx="1419120" cy="48888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4760280" y="6366240"/>
                  <a:ext cx="124272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7,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4672440" y="6366240"/>
                  <a:ext cx="141912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6092280" y="6366240"/>
                <a:ext cx="1240200" cy="488880"/>
                <a:chOff x="6092280" y="6366240"/>
                <a:chExt cx="1240200" cy="48888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6179400" y="6366240"/>
                  <a:ext cx="106524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3,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6092280" y="6366240"/>
                  <a:ext cx="124020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7332840" y="6366240"/>
                <a:ext cx="1419120" cy="488880"/>
                <a:chOff x="7332840" y="6366240"/>
                <a:chExt cx="1419120" cy="48888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7420680" y="6366240"/>
                  <a:ext cx="124272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,6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7332840" y="6366240"/>
                  <a:ext cx="141912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97" name=""/>
            <p:cNvSpPr/>
            <p:nvPr/>
          </p:nvSpPr>
          <p:spPr>
            <a:xfrm>
              <a:off x="609480" y="2590920"/>
              <a:ext cx="8153280" cy="42670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8" name=""/>
          <p:cNvGraphicFramePr/>
          <p:nvPr/>
        </p:nvGraphicFramePr>
        <p:xfrm>
          <a:off x="0" y="914400"/>
          <a:ext cx="8991720" cy="4667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14400"/>
                    <a:ext cx="8991720" cy="466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" name=""/>
          <p:cNvSpPr/>
          <p:nvPr/>
        </p:nvSpPr>
        <p:spPr>
          <a:xfrm>
            <a:off x="1600200" y="6095880"/>
            <a:ext cx="624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J = -20.22*ln (C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/30.3) = 20.22* ln (30.3/C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2705040" y="25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4920" y="228600"/>
            <a:ext cx="8076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Modos de 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      </a:t>
            </a: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oncentración B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1676520" y="1219320"/>
          <a:ext cx="6191280" cy="293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219320"/>
                    <a:ext cx="6191280" cy="293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5" name=""/>
          <p:cNvSpPr/>
          <p:nvPr/>
        </p:nvSpPr>
        <p:spPr>
          <a:xfrm>
            <a:off x="533520" y="4327560"/>
            <a:ext cx="8229600" cy="23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diciones Inicia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o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 C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diciones Fi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manente V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f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 C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B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ermeado V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pf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= V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o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- V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f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 C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(Constan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914400" y="35053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Reman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181480" y="37339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Perme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2743200" y="2286000"/>
                <a:ext cx="334800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9" name=""/>
          <p:cNvSpPr/>
          <p:nvPr/>
        </p:nvSpPr>
        <p:spPr>
          <a:xfrm>
            <a:off x="685800" y="533520"/>
            <a:ext cx="7772400" cy="14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99"/>
                </a:solidFill>
                <a:uFillTx/>
                <a:latin typeface="Comic Sans MS"/>
              </a:rPr>
              <a:t>Balance de Masa del Soluto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Comic Sans MS"/>
              </a:rPr>
              <a:t>La masa que disminuye del tanque de reciclo es la que aumente en el tanque de perme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3200400"/>
            <a:ext cx="876312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siderando q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centración del permeado (C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)  se mantiene consta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 = t, 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</a:t>
            </a:r>
            <a:r>
              <a:rPr b="1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= V</a:t>
            </a:r>
            <a:r>
              <a:rPr b="1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–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o es const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838080" y="4572000"/>
                <a:ext cx="717408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2" name=""/>
          <p:cNvSpPr/>
          <p:nvPr/>
        </p:nvSpPr>
        <p:spPr>
          <a:xfrm flipV="1">
            <a:off x="5334120" y="4572000"/>
            <a:ext cx="380880" cy="4572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543800" y="25909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610480" y="51814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276720" y="5715000"/>
                <a:ext cx="275724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560680" y="1322280"/>
                <a:ext cx="371304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7" name=""/>
          <p:cNvSpPr/>
          <p:nvPr/>
        </p:nvSpPr>
        <p:spPr>
          <a:xfrm>
            <a:off x="685800" y="5335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Comic Sans MS"/>
              </a:rPr>
              <a:t>Aplicando regla de la cadena al lado der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251460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ordena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2743200" y="2971800"/>
                <a:ext cx="340524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0" name=""/>
          <p:cNvSpPr/>
          <p:nvPr/>
        </p:nvSpPr>
        <p:spPr>
          <a:xfrm>
            <a:off x="4267080" y="1219320"/>
            <a:ext cx="762120" cy="99036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638680" y="1219320"/>
            <a:ext cx="762120" cy="99036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77240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620120" y="32004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3305160" y="4059360"/>
                <a:ext cx="2279520" cy="97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5" name=""/>
          <p:cNvSpPr/>
          <p:nvPr/>
        </p:nvSpPr>
        <p:spPr>
          <a:xfrm>
            <a:off x="0" y="510552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tegra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3112920" y="5369040"/>
                <a:ext cx="275940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−</m:t>
                            </m:r>
                            <m:nary>
                              <m:naryPr>
                                <m:chr m:val="∫"/>
                              </m:naryPr>
                              <m: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o</m:t>
                                    </m:r>
                                  </m:sub>
                                </m:sSub>
                              </m:sub>
                              <m:sup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sup>
                              <m:e/>
                            </m:nary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C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27" name=""/>
          <p:cNvSpPr/>
          <p:nvPr/>
        </p:nvSpPr>
        <p:spPr>
          <a:xfrm>
            <a:off x="7696080" y="41148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(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620120" y="56386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(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685800" y="533520"/>
            <a:ext cx="7772400" cy="1393560"/>
            <a:chOff x="685800" y="533520"/>
            <a:chExt cx="7772400" cy="1393560"/>
          </a:xfrm>
        </p:grpSpPr>
        <mc:AlternateContent>
          <mc:Choice xmlns:a14="http://schemas.microsoft.com/office/drawing/2010/main" Requires="a14">
            <p:sp>
              <p:nvSpPr>
                <p:cNvPr id="330" name=""/>
                <p:cNvSpPr txBox="1"/>
                <p:nvPr/>
              </p:nvSpPr>
              <p:spPr>
                <a:xfrm>
                  <a:off x="3505320" y="1066680"/>
                  <a:ext cx="1716120" cy="860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  <m:r>
                        <m:t xml:space="preserve">⋅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V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31" name=""/>
            <p:cNvSpPr/>
            <p:nvPr/>
          </p:nvSpPr>
          <p:spPr>
            <a:xfrm>
              <a:off x="685800" y="533520"/>
              <a:ext cx="777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99"/>
                  </a:solidFill>
                  <a:latin typeface="Comic Sans MS"/>
                </a:rPr>
                <a:t>Por otra parte, el flux se puede calcular como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7772400" y="1295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(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0" y="2209680"/>
            <a:ext cx="8763120" cy="1220760"/>
            <a:chOff x="0" y="2209680"/>
            <a:chExt cx="8763120" cy="1220760"/>
          </a:xfrm>
        </p:grpSpPr>
        <p:sp>
          <p:nvSpPr>
            <p:cNvPr id="334" name=""/>
            <p:cNvSpPr/>
            <p:nvPr/>
          </p:nvSpPr>
          <p:spPr>
            <a:xfrm>
              <a:off x="0" y="2209680"/>
              <a:ext cx="876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Flux promedio, &lt;J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620120" y="266688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cc"/>
                  </a:solidFill>
                  <a:latin typeface="Comic Sans MS"/>
                </a:rPr>
                <a:t>(8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6" name=""/>
                <p:cNvSpPr txBox="1"/>
                <p:nvPr/>
              </p:nvSpPr>
              <p:spPr>
                <a:xfrm>
                  <a:off x="2819520" y="2514600"/>
                  <a:ext cx="2896920" cy="91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rPr>
                          <m:lit/>
                          <m:nor/>
                        </m:rPr>
                        <m:t xml:space="preserve">&gt;=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  <m:r>
                        <m:t xml:space="preserve">⋅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Δ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37" name=""/>
          <p:cNvGrpSpPr/>
          <p:nvPr/>
        </p:nvGrpSpPr>
        <p:grpSpPr>
          <a:xfrm>
            <a:off x="0" y="3657600"/>
            <a:ext cx="8763120" cy="1436760"/>
            <a:chOff x="0" y="3657600"/>
            <a:chExt cx="8763120" cy="1436760"/>
          </a:xfrm>
        </p:grpSpPr>
        <p:sp>
          <p:nvSpPr>
            <p:cNvPr id="338" name=""/>
            <p:cNvSpPr/>
            <p:nvPr/>
          </p:nvSpPr>
          <p:spPr>
            <a:xfrm>
              <a:off x="7696080" y="411480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cc"/>
                  </a:solidFill>
                  <a:latin typeface="Comic Sans MS"/>
                </a:rPr>
                <a:t>(9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0" y="3657600"/>
              <a:ext cx="876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Aplicando regla de la cadena a (7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0" name=""/>
                <p:cNvSpPr txBox="1"/>
                <p:nvPr/>
              </p:nvSpPr>
              <p:spPr>
                <a:xfrm>
                  <a:off x="2736720" y="4149720"/>
                  <a:ext cx="2643480" cy="94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  <m:r>
                        <m:t xml:space="preserve">⋅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V</m:t>
                          </m:r>
                        </m:num>
                        <m:den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den>
                      </m:f>
                      <m:r>
                        <m:t xml:space="preserve">⋅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41" name=""/>
          <p:cNvGrpSpPr/>
          <p:nvPr/>
        </p:nvGrpSpPr>
        <p:grpSpPr>
          <a:xfrm>
            <a:off x="0" y="5105520"/>
            <a:ext cx="8763120" cy="1428480"/>
            <a:chOff x="0" y="5105520"/>
            <a:chExt cx="8763120" cy="1428480"/>
          </a:xfrm>
        </p:grpSpPr>
        <p:sp>
          <p:nvSpPr>
            <p:cNvPr id="342" name=""/>
            <p:cNvSpPr/>
            <p:nvPr/>
          </p:nvSpPr>
          <p:spPr>
            <a:xfrm>
              <a:off x="0" y="5105520"/>
              <a:ext cx="876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Reordenando la ecuación (5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620120" y="5638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cc"/>
                  </a:solidFill>
                  <a:latin typeface="Comic Sans MS"/>
                </a:rPr>
                <a:t>(10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4" name=""/>
                <p:cNvSpPr txBox="1"/>
                <p:nvPr/>
              </p:nvSpPr>
              <p:spPr>
                <a:xfrm>
                  <a:off x="3054240" y="5562720"/>
                  <a:ext cx="2421000" cy="97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V</m:t>
                          </m:r>
                        </m:num>
                        <m:den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V</m:t>
                          </m:r>
                        </m:num>
                        <m:den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887400" y="976320"/>
                <a:ext cx="706104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⋅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−</m:t>
                                </m:r>
                                <m:nary>
                                  <m:naryPr>
                                    <m:chr m:val="∫"/>
                                  </m:naryPr>
                                  <m:sub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o</m:t>
                                        </m:r>
                                      </m:sub>
                                    </m:sSub>
                                  </m:sub>
                                  <m:sup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B</m:t>
                                        </m:r>
                                      </m:sub>
                                    </m:sSub>
                                  </m:sup>
                                  <m:e>
                                    <m:f>
                                      <m:num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C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B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p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nary>
                              </m:e>
                            </m:d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6" name=""/>
          <p:cNvSpPr/>
          <p:nvPr/>
        </p:nvSpPr>
        <p:spPr>
          <a:xfrm>
            <a:off x="685800" y="5335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Comic Sans MS"/>
              </a:rPr>
              <a:t>Aplicando (10) en (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362320" y="1447920"/>
            <a:ext cx="761760" cy="53316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45820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(1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0" y="4191120"/>
            <a:ext cx="8763120" cy="2498760"/>
            <a:chOff x="0" y="4191120"/>
            <a:chExt cx="8763120" cy="2498760"/>
          </a:xfrm>
        </p:grpSpPr>
        <p:sp>
          <p:nvSpPr>
            <p:cNvPr id="350" name=""/>
            <p:cNvSpPr/>
            <p:nvPr/>
          </p:nvSpPr>
          <p:spPr>
            <a:xfrm>
              <a:off x="0" y="4191120"/>
              <a:ext cx="8763120" cy="10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Integran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Para  t=0</a:t>
              </a: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C</a:t>
              </a:r>
              <a:r>
                <a:rPr b="0" lang="en-US" sz="2000" spc="-1" strike="noStrike" baseline="-25000">
                  <a:solidFill>
                    <a:srgbClr val="3333cc"/>
                  </a:solidFill>
                  <a:latin typeface="Comic Sans MS"/>
                  <a:ea typeface="Times New Roman"/>
                </a:rPr>
                <a:t>B</a:t>
              </a: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= C</a:t>
              </a:r>
              <a:r>
                <a:rPr b="0" lang="en-US" sz="2000" spc="-1" strike="noStrike" baseline="-25000">
                  <a:solidFill>
                    <a:srgbClr val="3333cc"/>
                  </a:solidFill>
                  <a:latin typeface="Comic Sans MS"/>
                  <a:ea typeface="Times New Roman"/>
                </a:rPr>
                <a:t>B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baseline="-25000">
                  <a:solidFill>
                    <a:srgbClr val="3333cc"/>
                  </a:solidFill>
                  <a:latin typeface="Comic Sans MS"/>
                  <a:ea typeface="Times New Roman"/>
                </a:rPr>
                <a:t>	</a:t>
              </a:r>
              <a:r>
                <a:rPr b="0" lang="en-US" sz="2000" spc="-1" strike="noStrike" baseline="-25000">
                  <a:solidFill>
                    <a:srgbClr val="3333cc"/>
                  </a:solidFill>
                  <a:latin typeface="Comic Sans MS"/>
                  <a:ea typeface="Times New Roman"/>
                </a:rPr>
                <a:t>    </a:t>
              </a: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t=0</a:t>
              </a: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C</a:t>
              </a:r>
              <a:r>
                <a:rPr b="0" lang="en-US" sz="2000" spc="-1" strike="noStrike" baseline="-25000">
                  <a:solidFill>
                    <a:srgbClr val="3333cc"/>
                  </a:solidFill>
                  <a:latin typeface="Comic Sans MS"/>
                  <a:ea typeface="Times New Roman"/>
                </a:rPr>
                <a:t>B</a:t>
              </a: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 = C</a:t>
              </a:r>
              <a:r>
                <a:rPr b="0" lang="en-US" sz="2000" spc="-1" strike="noStrike" baseline="-25000">
                  <a:solidFill>
                    <a:srgbClr val="3333cc"/>
                  </a:solidFill>
                  <a:latin typeface="Comic Sans MS"/>
                  <a:ea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1" name=""/>
                <p:cNvSpPr txBox="1"/>
                <p:nvPr/>
              </p:nvSpPr>
              <p:spPr>
                <a:xfrm>
                  <a:off x="2676600" y="5105520"/>
                  <a:ext cx="3632040" cy="158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t</m:t>
                          </m:r>
                          <m:r>
                            <m:t xml:space="preserve">⋅</m:t>
                          </m:r>
                          <m:r>
                            <m:t xml:space="preserve">A</m:t>
                          </m:r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Bo</m:t>
                              </m:r>
                            </m:sub>
                          </m:sSub>
                        </m:sub>
                        <m:sup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sup>
                        <m:e>
                          <m:f>
                            <m:num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d>
                                    <m:dPr>
                                      <m:begChr m:val="{"/>
                                      <m:endChr m:val="}"/>
                                    </m:dPr>
                                    <m:e>
                                      <m:r>
                                        <m:t xml:space="preserve">−</m:t>
                                      </m:r>
                                      <m:nary>
                                        <m:naryPr>
                                          <m:chr m:val="∫"/>
                                        </m:naryPr>
                                        <m:sub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rPr>
                                                  <m:lit/>
                                                  <m:nor/>
                                                </m:rPr>
                                                <m:t xml:space="preserve">Bo</m:t>
                                              </m:r>
                                            </m:sub>
                                          </m:sSub>
                                        </m:sub>
                                        <m:sup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B</m:t>
                                              </m:r>
                                            </m:sub>
                                          </m:sSub>
                                        </m:sup>
                                        <m:e/>
                                      </m:nary>
                                      <m:f>
                                        <m:num>
                                          <m:sSub>
                                            <m:e>
                                              <m:r>
                                                <m:rPr>
                                                  <m:lit/>
                                                  <m:nor/>
                                                </m:rPr>
                                                <m:t xml:space="preserve">d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B</m:t>
                                              </m:r>
                                            </m:sub>
                                          </m:sSub>
                                        </m:num>
                                        <m:den>
                                          <m:r>
                                            <m:t xml:space="preserve">(</m:t>
                                          </m:r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B</m:t>
                                              </m:r>
                                            </m:sub>
                                          </m:sSub>
                                          <m:r>
                                            <m:t xml:space="preserve">−</m:t>
                                          </m:r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P</m:t>
                                              </m:r>
                                            </m:sub>
                                          </m:sSub>
                                          <m:r>
                                            <m:t xml:space="preserve">)</m:t>
                                          </m:r>
                                        </m:den>
                                      </m:f>
                                    </m:e>
                                  </m:d>
                                </m:sup>
                              </m:sSup>
                            </m:num>
                            <m:den>
                              <m:r>
                                <m:t xml:space="preserve">J</m:t>
                              </m:r>
                              <m:r>
                                <m:t xml:space="preserve">⋅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den>
                          </m:f>
                        </m:e>
                      </m:nary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dC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52" name=""/>
            <p:cNvSpPr/>
            <p:nvPr/>
          </p:nvSpPr>
          <p:spPr>
            <a:xfrm>
              <a:off x="7620120" y="563868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cc"/>
                  </a:solidFill>
                  <a:latin typeface="Comic Sans MS"/>
                </a:rPr>
                <a:t>(13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0" y="2514600"/>
            <a:ext cx="9144000" cy="1539720"/>
            <a:chOff x="0" y="2514600"/>
            <a:chExt cx="9144000" cy="1539720"/>
          </a:xfrm>
        </p:grpSpPr>
        <p:sp>
          <p:nvSpPr>
            <p:cNvPr id="354" name=""/>
            <p:cNvSpPr/>
            <p:nvPr/>
          </p:nvSpPr>
          <p:spPr>
            <a:xfrm>
              <a:off x="0" y="2514600"/>
              <a:ext cx="876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Reordenan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381880" y="320040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cc"/>
                  </a:solidFill>
                  <a:latin typeface="Comic Sans MS"/>
                </a:rPr>
                <a:t>(1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6" name=""/>
                <p:cNvSpPr txBox="1"/>
                <p:nvPr/>
              </p:nvSpPr>
              <p:spPr>
                <a:xfrm>
                  <a:off x="2579760" y="2529000"/>
                  <a:ext cx="3882960" cy="152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  <m:r>
                        <m:t xml:space="preserve">⋅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⋅</m:t>
                      </m:r>
                      <m:f>
                        <m:num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d>
                                <m:dPr>
                                  <m:begChr m:val="{"/>
                                  <m:endChr m:val="}"/>
                                </m:dPr>
                                <m:e>
                                  <m:r>
                                    <m:t xml:space="preserve">−</m:t>
                                  </m:r>
                                  <m:nary>
                                    <m:naryPr>
                                      <m:chr m:val="∫"/>
                                    </m:naryPr>
                                    <m:sub>
                                      <m:sSub>
                                        <m:e>
                                          <m:r>
                                            <m:t xml:space="preserve">C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Bo</m:t>
                                          </m:r>
                                        </m:sub>
                                      </m:sSub>
                                    </m:sub>
                                    <m:sup>
                                      <m:sSub>
                                        <m:e>
                                          <m:r>
                                            <m:t xml:space="preserve">C</m:t>
                                          </m:r>
                                        </m:e>
                                        <m:sub>
                                          <m:r>
                                            <m:t xml:space="preserve">B</m:t>
                                          </m:r>
                                        </m:sub>
                                      </m:sSub>
                                    </m:sup>
                                    <m:e>
                                      <m:f>
                                        <m:num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dC</m:t>
                                          </m:r>
                                        </m:num>
                                        <m:den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B</m:t>
                                              </m:r>
                                            </m:sub>
                                          </m:sSub>
                                          <m:r>
                                            <m:t xml:space="preserve">−</m:t>
                                          </m:r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p</m:t>
                                              </m:r>
                                            </m:sub>
                                          </m:sSub>
                                        </m:den>
                                      </m:f>
                                    </m:e>
                                  </m:nary>
                                </m:e>
                              </m:d>
                            </m:sup>
                          </m:sSup>
                        </m:num>
                        <m:den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</m:den>
                      </m:f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1600200"/>
            <a:ext cx="4343400" cy="28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isminución flux (F/A) de solvente (aumento en la resistenci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teracción del soluto con la membrana, provocando incrustaci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800600" y="1371600"/>
          <a:ext cx="408636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371600"/>
                    <a:ext cx="408636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0" y="4952880"/>
            <a:ext cx="7924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660033"/>
                </a:solidFill>
                <a:uFillTx/>
                <a:latin typeface="Comic Sans MS"/>
                <a:ea typeface="Times New Roman"/>
              </a:rPr>
              <a:t>Diálisi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66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0033"/>
                </a:solidFill>
                <a:latin typeface="Comic Sans MS"/>
                <a:ea typeface="Times New Roman"/>
              </a:rPr>
              <a:t>Disminución gradiente de concentración efectivo, disminuyendo el flux de impurezas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380880"/>
            <a:ext cx="86868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fectos de la Polar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MicroFiltración, UltraFiltración , Osmasis Inver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4120" y="1676520"/>
            <a:ext cx="251460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629400" y="16002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Sin ef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34320" y="31240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on ef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0" y="5105520"/>
            <a:ext cx="876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a expresión permitiría determinar el tiempo necesario para alcanzar una determinada concentración, si se conoce A y una expresión del flu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685800" y="533520"/>
            <a:ext cx="8001000" cy="2041560"/>
            <a:chOff x="685800" y="533520"/>
            <a:chExt cx="8001000" cy="2041560"/>
          </a:xfrm>
        </p:grpSpPr>
        <p:sp>
          <p:nvSpPr>
            <p:cNvPr id="359" name=""/>
            <p:cNvSpPr/>
            <p:nvPr/>
          </p:nvSpPr>
          <p:spPr>
            <a:xfrm>
              <a:off x="685800" y="533520"/>
              <a:ext cx="8001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99"/>
                  </a:solidFill>
                  <a:latin typeface="Comic Sans MS"/>
                </a:rPr>
                <a:t>Si el rechazo es total, ie, no se deja pasar nada  del sólido, C</a:t>
              </a:r>
              <a:r>
                <a:rPr b="0" lang="es-ES" sz="2000" spc="-1" strike="noStrike" baseline="-25000">
                  <a:solidFill>
                    <a:srgbClr val="000099"/>
                  </a:solidFill>
                  <a:latin typeface="Comic Sans MS"/>
                </a:rPr>
                <a:t>p</a:t>
              </a:r>
              <a:r>
                <a:rPr b="0" lang="es-ES" sz="2000" spc="-1" strike="noStrike">
                  <a:solidFill>
                    <a:srgbClr val="000099"/>
                  </a:solidFill>
                  <a:latin typeface="Comic Sans MS"/>
                </a:rPr>
                <a:t> =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0" name=""/>
                <p:cNvSpPr txBox="1"/>
                <p:nvPr/>
              </p:nvSpPr>
              <p:spPr>
                <a:xfrm>
                  <a:off x="2743200" y="990720"/>
                  <a:ext cx="3154320" cy="158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t</m:t>
                          </m:r>
                          <m:r>
                            <m:t xml:space="preserve">⋅</m:t>
                          </m:r>
                          <m:r>
                            <m:t xml:space="preserve">A</m:t>
                          </m:r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Bo</m:t>
                              </m:r>
                            </m:sub>
                          </m:sSub>
                        </m:sub>
                        <m:sup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sup>
                        <m:e>
                          <m:f>
                            <m:num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d>
                                    <m:dPr>
                                      <m:begChr m:val="{"/>
                                      <m:endChr m:val="}"/>
                                    </m:dPr>
                                    <m:e>
                                      <m:r>
                                        <m:t xml:space="preserve">−</m:t>
                                      </m:r>
                                      <m:nary>
                                        <m:naryPr>
                                          <m:chr m:val="∫"/>
                                        </m:naryPr>
                                        <m:sub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rPr>
                                                  <m:lit/>
                                                  <m:nor/>
                                                </m:rPr>
                                                <m:t xml:space="preserve">Bo</m:t>
                                              </m:r>
                                            </m:sub>
                                          </m:sSub>
                                        </m:sub>
                                        <m:sup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B</m:t>
                                              </m:r>
                                            </m:sub>
                                          </m:sSub>
                                        </m:sup>
                                        <m:e/>
                                      </m:nary>
                                      <m:f>
                                        <m:num>
                                          <m:sSub>
                                            <m:e>
                                              <m:r>
                                                <m:rPr>
                                                  <m:lit/>
                                                  <m:nor/>
                                                </m:rPr>
                                                <m:t xml:space="preserve">d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B</m:t>
                                              </m:r>
                                            </m:sub>
                                          </m:sSub>
                                        </m:num>
                                        <m:den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B</m:t>
                                              </m:r>
                                            </m:sub>
                                          </m:sSub>
                                        </m:den>
                                      </m:f>
                                    </m:e>
                                  </m:d>
                                </m:sup>
                              </m:sSup>
                            </m:num>
                            <m:den>
                              <m:r>
                                <m:t xml:space="preserve">J</m:t>
                              </m:r>
                              <m:r>
                                <m:t xml:space="preserve">⋅</m:t>
                              </m:r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den>
                          </m:f>
                        </m:e>
                      </m:nary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dC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61" name=""/>
            <p:cNvSpPr/>
            <p:nvPr/>
          </p:nvSpPr>
          <p:spPr>
            <a:xfrm>
              <a:off x="7543800" y="18288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cc"/>
                  </a:solidFill>
                  <a:latin typeface="Comic Sans MS"/>
                </a:rPr>
                <a:t>(14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0" y="2666880"/>
            <a:ext cx="8763120" cy="2021040"/>
            <a:chOff x="0" y="2666880"/>
            <a:chExt cx="8763120" cy="2021040"/>
          </a:xfrm>
        </p:grpSpPr>
        <p:sp>
          <p:nvSpPr>
            <p:cNvPr id="363" name=""/>
            <p:cNvSpPr/>
            <p:nvPr/>
          </p:nvSpPr>
          <p:spPr>
            <a:xfrm>
              <a:off x="0" y="2666880"/>
              <a:ext cx="8763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Realizando un cambio de variables a (1/C</a:t>
              </a:r>
              <a:r>
                <a:rPr b="0" lang="en-US" sz="2000" spc="-1" strike="noStrike" baseline="-25000">
                  <a:solidFill>
                    <a:srgbClr val="3333cc"/>
                  </a:solidFill>
                  <a:latin typeface="Comic Sans MS"/>
                  <a:ea typeface="Times New Roman"/>
                </a:rPr>
                <a:t>B</a:t>
              </a: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620120" y="3733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cc"/>
                  </a:solidFill>
                  <a:latin typeface="Comic Sans MS"/>
                </a:rPr>
                <a:t>(15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5" name=""/>
                <p:cNvSpPr txBox="1"/>
                <p:nvPr/>
              </p:nvSpPr>
              <p:spPr>
                <a:xfrm>
                  <a:off x="2637000" y="3297240"/>
                  <a:ext cx="3520800" cy="1390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t</m:t>
                          </m:r>
                          <m:r>
                            <m:t xml:space="preserve">⋅</m:t>
                          </m:r>
                          <m:r>
                            <m:t xml:space="preserve">A</m:t>
                          </m:r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o</m:t>
                          </m:r>
                        </m:sub>
                      </m:sSub>
                      <m:r>
                        <m:t xml:space="preserve">⋅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1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sub>
                        <m:sup>
                          <m:r>
                            <m:t xml:space="preserve">1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Bo</m:t>
                              </m:r>
                            </m:sub>
                          </m:sSub>
                        </m:sup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J</m:t>
                              </m:r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  </m:t>
                          </m:r>
                        </m:e>
                      </m:nary>
                      <m:r>
                        <m:t xml:space="preserve">d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"/>
          <p:cNvGrpSpPr/>
          <p:nvPr/>
        </p:nvGrpSpPr>
        <p:grpSpPr>
          <a:xfrm>
            <a:off x="685800" y="533520"/>
            <a:ext cx="8001000" cy="1326960"/>
            <a:chOff x="685800" y="533520"/>
            <a:chExt cx="8001000" cy="1326960"/>
          </a:xfrm>
        </p:grpSpPr>
        <p:sp>
          <p:nvSpPr>
            <p:cNvPr id="367" name=""/>
            <p:cNvSpPr/>
            <p:nvPr/>
          </p:nvSpPr>
          <p:spPr>
            <a:xfrm>
              <a:off x="685800" y="533520"/>
              <a:ext cx="800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99"/>
                  </a:solidFill>
                  <a:latin typeface="Comic Sans MS"/>
                </a:rPr>
                <a:t>Recordando que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8" name=""/>
                <p:cNvSpPr txBox="1"/>
                <p:nvPr/>
              </p:nvSpPr>
              <p:spPr>
                <a:xfrm>
                  <a:off x="3352680" y="914400"/>
                  <a:ext cx="1886040" cy="94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⋅</m:t>
                      </m:r>
                      <m:r>
                        <m:rPr>
                          <m:lit/>
                          <m:nor/>
                        </m:rPr>
                        <m:t xml:space="preserve">ln</m:t>
                      </m:r>
                      <m:f>
                        <m:num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69" name=""/>
          <p:cNvGrpSpPr/>
          <p:nvPr/>
        </p:nvGrpSpPr>
        <p:grpSpPr>
          <a:xfrm>
            <a:off x="0" y="2057400"/>
            <a:ext cx="8763120" cy="3447000"/>
            <a:chOff x="0" y="2057400"/>
            <a:chExt cx="8763120" cy="3447000"/>
          </a:xfrm>
        </p:grpSpPr>
        <p:sp>
          <p:nvSpPr>
            <p:cNvPr id="370" name=""/>
            <p:cNvSpPr/>
            <p:nvPr/>
          </p:nvSpPr>
          <p:spPr>
            <a:xfrm>
              <a:off x="0" y="2057400"/>
              <a:ext cx="8763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Si se reemplaza “J” y se realiza la integración se pueden determinar “t” o “A”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0" y="5105520"/>
              <a:ext cx="876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Gráficamen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620120" y="3733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cc"/>
                  </a:solidFill>
                  <a:latin typeface="Comic Sans MS"/>
                </a:rPr>
                <a:t>(15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3" name=""/>
                <p:cNvSpPr txBox="1"/>
                <p:nvPr/>
              </p:nvSpPr>
              <p:spPr>
                <a:xfrm>
                  <a:off x="1508040" y="2790720"/>
                  <a:ext cx="5127840" cy="2059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t</m:t>
                          </m:r>
                          <m:r>
                            <m:t xml:space="preserve">⋅</m:t>
                          </m:r>
                          <m:r>
                            <m:t xml:space="preserve">A</m:t>
                          </m:r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o</m:t>
                          </m:r>
                        </m:sub>
                      </m:sSub>
                      <m:r>
                        <m:t xml:space="preserve">⋅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1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sub>
                        <m:sup>
                          <m:r>
                            <m:t xml:space="preserve">1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Bo</m:t>
                              </m:r>
                            </m:sub>
                          </m:sSub>
                        </m:sup>
                        <m:e>
                          <m:d>
                            <m:dPr>
                              <m:begChr m:val="{"/>
                              <m:endChr m:val="}"/>
                            </m:dP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t xml:space="preserve">s</m:t>
                                      </m:r>
                                    </m:sub>
                                  </m:sSub>
                                  <m:r>
                                    <m:t xml:space="preserve">⋅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ln</m:t>
                                  </m:r>
                                  <m:d>
                                    <m:dPr>
                                      <m:begChr m:val="["/>
                                      <m:endChr m:val="]"/>
                                    </m:dPr>
                                    <m:e>
                                      <m:f>
                                        <m:num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G</m:t>
                                              </m:r>
                                            </m:sub>
                                          </m:sSub>
                                        </m:num>
                                        <m:den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B</m:t>
                                              </m:r>
                                            </m:sub>
                                          </m:sSub>
                                        </m:den>
                                      </m:f>
                                    </m:e>
                                  </m:d>
                                </m:den>
                              </m:f>
                            </m:e>
                          </m:d>
                          <m:r>
                            <m:rPr>
                              <m:lit/>
                              <m:nor/>
                            </m:rPr>
                            <m:t xml:space="preserve">  </m:t>
                          </m:r>
                        </m:e>
                      </m:nary>
                      <m:r>
                        <m:t xml:space="preserve">d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4" name=""/>
          <p:cNvGraphicFramePr/>
          <p:nvPr/>
        </p:nvGraphicFramePr>
        <p:xfrm>
          <a:off x="1981080" y="1481040"/>
          <a:ext cx="5410440" cy="373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481040"/>
                    <a:ext cx="5410440" cy="37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76" name=""/>
          <p:cNvGrpSpPr/>
          <p:nvPr/>
        </p:nvGrpSpPr>
        <p:grpSpPr>
          <a:xfrm>
            <a:off x="4952880" y="838080"/>
            <a:ext cx="3886200" cy="1828800"/>
            <a:chOff x="4952880" y="838080"/>
            <a:chExt cx="3886200" cy="1828800"/>
          </a:xfrm>
        </p:grpSpPr>
        <mc:AlternateContent>
          <mc:Choice xmlns:a14="http://schemas.microsoft.com/office/drawing/2010/main" Requires="a14">
            <p:sp>
              <p:nvSpPr>
                <p:cNvPr id="377" name=""/>
                <p:cNvSpPr txBox="1"/>
                <p:nvPr/>
              </p:nvSpPr>
              <p:spPr>
                <a:xfrm>
                  <a:off x="4952880" y="1066680"/>
                  <a:ext cx="3521160" cy="1390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t</m:t>
                          </m:r>
                          <m:r>
                            <m:t xml:space="preserve">⋅</m:t>
                          </m:r>
                          <m:r>
                            <m:t xml:space="preserve">A</m:t>
                          </m:r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o</m:t>
                          </m:r>
                        </m:sub>
                      </m:sSub>
                      <m:r>
                        <m:t xml:space="preserve">⋅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1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sub>
                        <m:sup>
                          <m:r>
                            <m:t xml:space="preserve">1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Bo</m:t>
                              </m:r>
                            </m:sub>
                          </m:sSub>
                        </m:sup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J</m:t>
                              </m:r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  </m:t>
                          </m:r>
                        </m:e>
                      </m:nary>
                      <m:r>
                        <m:t xml:space="preserve">d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378" name=""/>
            <p:cNvSpPr/>
            <p:nvPr/>
          </p:nvSpPr>
          <p:spPr>
            <a:xfrm>
              <a:off x="6172200" y="838080"/>
              <a:ext cx="2666880" cy="18288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9" name=""/>
          <p:cNvSpPr/>
          <p:nvPr/>
        </p:nvSpPr>
        <p:spPr>
          <a:xfrm flipH="1">
            <a:off x="4419360" y="2743200"/>
            <a:ext cx="2819160" cy="9907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0" y="457200"/>
            <a:ext cx="8610480" cy="59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jemplo1  Ultra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desea concentrar una solución de proteínas de </a:t>
            </a:r>
            <a:r>
              <a:rPr b="1" lang="es-C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2% a 10%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en peso. Por cada día de producción se tienen 4 horas de tiempo muerto (limpieza, descarga, etc.), luego el tiempo de operación es de 20 horas por dí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realizaron pruebas de laboratorio utilizando una unidad de ultrafiltración de fibra hueca con tubos de </a:t>
            </a:r>
            <a:r>
              <a:rPr b="1" lang="es-C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0,012 [m] de diámetro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1" lang="es-C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y 1,2 [m] de largo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datos de laboratorio muestran que para una caída de presión (</a:t>
            </a:r>
            <a:r>
              <a:rPr b="0" lang="es-C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TM) de 1,5 [Kg/cm</a:t>
            </a:r>
            <a:r>
              <a:rPr b="0" lang="es-C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] y un flujo de recirculación de 8 [L/min], el flux en [L/m</a:t>
            </a:r>
            <a:r>
              <a:rPr b="0" lang="es-C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h] está dado por la expresión  (C</a:t>
            </a:r>
            <a:r>
              <a:rPr b="0" lang="es-C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B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en %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)</a:t>
            </a:r>
            <a:r>
              <a:rPr b="0" lang="es-C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      </a:t>
            </a:r>
            <a:r>
              <a:rPr b="0" lang="es-C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lcule el área de ultrafiltración necesaria para concentrar los 10 [m</a:t>
            </a:r>
            <a:r>
              <a:rPr b="0" lang="es-C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/día] de la solución de proteínas en el equipo de ultrafiltración de fibra hueca considerando que el flux está dado por la expresión anterior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6736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3429000" y="4191120"/>
                <a:ext cx="191772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*ln</m:t>
                    </m:r>
                    <m:r>
                      <m:t xml:space="preserve">(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Image4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686800" cy="301464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685800" y="533520"/>
            <a:ext cx="8001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a50021"/>
                </a:solidFill>
                <a:uFillTx/>
                <a:latin typeface="Times New Roman"/>
              </a:rPr>
              <a:t>Costos de un sistema de Micro-Ultrafil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a50021"/>
                </a:solidFill>
                <a:uFillTx/>
                <a:latin typeface="Times New Roman"/>
              </a:rPr>
              <a:t>Costos Capi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685800" y="533520"/>
            <a:ext cx="8001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a50021"/>
                </a:solidFill>
                <a:uFillTx/>
                <a:latin typeface="Times New Roman"/>
              </a:rPr>
              <a:t>Costos de un sistema de Micro-Ultrafil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a50021"/>
                </a:solidFill>
                <a:uFillTx/>
                <a:latin typeface="Times New Roman"/>
              </a:rPr>
              <a:t>Costos de 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Image5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467480" cy="35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1905120"/>
            <a:ext cx="82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DISEÑO DE MICRO-ULTRA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80880" y="457200"/>
            <a:ext cx="82296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Teoría de micro-ultra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a teoría permite predecir el flux (flujo/área transversal) a través de la membra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teoría tiene una aplicación limita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parámetros s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rea necesaria para lograr una concen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iempo de op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stri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ango de pre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olerancia de los equi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80880" y="304920"/>
            <a:ext cx="8229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uerza impuls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fuerza impulsora es un gradiente de presión a través de la membrana (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T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743200" y="1981080"/>
          <a:ext cx="2762280" cy="133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1981080"/>
                    <a:ext cx="2762280" cy="13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1295280" y="2438280"/>
            <a:ext cx="12193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638680" y="2362320"/>
            <a:ext cx="12193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14800" y="3048120"/>
            <a:ext cx="0" cy="7617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7524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lim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781680" y="17524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te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648320" y="32767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Filt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251460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50021"/>
                </a:solidFill>
                <a:latin typeface="Times New Roman"/>
              </a:rPr>
              <a:t>P</a:t>
            </a:r>
            <a:r>
              <a:rPr b="1" lang="es-ES" sz="2400" spc="-1" strike="noStrike" baseline="-25000">
                <a:solidFill>
                  <a:srgbClr val="a50021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086600" y="2362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50021"/>
                </a:solidFill>
                <a:latin typeface="Times New Roman"/>
              </a:rPr>
              <a:t>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3429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50021"/>
                </a:solidFill>
                <a:latin typeface="Times New Roman"/>
              </a:rPr>
              <a:t>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2666880" y="4876920"/>
                <a:ext cx="322920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PTM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609480" y="41911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e gradiente de presión (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TM) se calcula com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a50021"/>
                </a:solidFill>
                <a:uFillTx/>
                <a:latin typeface="Century Gothic"/>
              </a:rPr>
              <a:t>¿Cómo se mide en el equip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2590920" y="1752480"/>
          <a:ext cx="2292120" cy="299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752480"/>
                    <a:ext cx="2292120" cy="29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1828800" y="4038480"/>
            <a:ext cx="1295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05320" y="403848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1980720" y="220968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581280" y="213372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343400" y="2133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43400" y="36576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48320" y="304812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105520" y="3886200"/>
            <a:ext cx="457200" cy="4572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52880" y="1828800"/>
            <a:ext cx="457200" cy="4572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43400" y="403848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267080" y="213372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952880" y="182880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81480" y="3886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791320" y="2895480"/>
            <a:ext cx="289548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50021"/>
                </a:solidFill>
                <a:latin typeface="Times New Roman"/>
              </a:rPr>
              <a:t>J: Flux de Perme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4800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Gothic"/>
              </a:rPr>
              <a:t>Si</a:t>
            </a:r>
            <a:r>
              <a:rPr b="0" lang="es-E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 = Pi – 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Gradiente de Presión del flujo tangen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2602080" y="5562720"/>
                <a:ext cx="349380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PT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>
            <a:off x="3048120" y="1981080"/>
            <a:ext cx="533160" cy="381240"/>
          </a:xfrm>
          <a:prstGeom prst="flowChartSummingJunction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4876920" y="762120"/>
                <a:ext cx="384624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lujo Volumetrico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rea Transversal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80880" y="457200"/>
            <a:ext cx="8229600" cy="23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flujo de Permeado, J,  variará c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Gradiente de Presión,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centración de proteínas, C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proteí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elocidad de recirculación, 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 Cómo se ve afectado  el flujo de permeado por cada variabl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990720" y="3049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Symbol"/>
                <a:ea typeface="Symbol"/>
              </a:rPr>
              <a:t>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P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838080"/>
            <a:ext cx="73152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modelación del flux comprende 2 zo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Zona I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0&lt; 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TM&lt; 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TM*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pendencia Line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J = f(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T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Zona II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a50021"/>
                </a:solidFill>
                <a:latin typeface="Symbol"/>
                <a:ea typeface="Symbol"/>
              </a:rPr>
              <a:t></a:t>
            </a:r>
            <a:r>
              <a:rPr b="1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PTM&gt; </a:t>
            </a:r>
            <a:r>
              <a:rPr b="1" lang="es-ES_tradnl" sz="2000" spc="-1" strike="noStrike">
                <a:solidFill>
                  <a:srgbClr val="a50021"/>
                </a:solidFill>
                <a:latin typeface="Symbol"/>
                <a:ea typeface="Symbol"/>
              </a:rPr>
              <a:t></a:t>
            </a:r>
            <a:r>
              <a:rPr b="1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PTM*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Independ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J = c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562200" y="1523880"/>
          <a:ext cx="558180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2200" y="1523880"/>
                    <a:ext cx="55818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2:24:41Z</dcterms:created>
  <dc:creator>Maria Elena Lienqueo C.</dc:creator>
  <dc:description/>
  <dc:language>en-US</dc:language>
  <cp:lastModifiedBy>Maria Elena Lienqueo C.</cp:lastModifiedBy>
  <dcterms:modified xsi:type="dcterms:W3CDTF">2004-08-14T08:06:29Z</dcterms:modified>
  <cp:revision>97</cp:revision>
  <dc:subject/>
  <dc:title>Separación Sólido-Líquido</dc:title>
</cp:coreProperties>
</file>