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60D-1F8F-4152-9742-316DDCD6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093-901E-432D-B96D-D47E3D8B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89F-BC1F-4CAE-8421-70B5DBDB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90C-1C99-43CA-83DE-7280A1B6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3F7-9AD2-4502-9F40-E98C2EA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2AC-A113-4827-AAD8-DC270BDE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258-661D-46AF-8F59-6C41E65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18D-9062-42FB-B8E6-90509E5B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460-2CFA-465A-AE70-73CCD93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33A-48A7-4E69-A4D3-C0FD802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A73-507E-476C-ADD5-65E1E8C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68A-6A6C-4E26-86FF-FBC0BB1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439D-E4F5-4BD3-A098-BCF29DCF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1T11:47:11Z</dcterms:modified>
  <cp:revision>96</cp:revision>
  <dc:subject/>
  <dc:title>Separación Sólido-Líquido</dc:title>
</cp:coreProperties>
</file>