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669-D6FE-405F-8361-015E4CDD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D89-3D97-4FD9-B424-BAD1C502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151-15D3-43BF-9C11-8B8BB8A3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CDB-6C78-42AF-88A7-90E12C52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0AB-36E0-4540-9EB8-EBF68BC8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BF4-71C6-484C-A89D-672C3D9B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F35-3280-47F0-AC73-6F8ECD11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1AF-7AED-442F-B0D3-B6A785C8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C36-8046-485E-A342-8D4D8FF0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E09-D88F-48E4-990E-2C44273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657-5C2B-4013-B39B-B1DCA17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6F8-CE15-4167-BA68-A1CB7D31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D57F-C06D-4217-B720-327B51928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4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1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28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Image2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Image3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6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Image2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Image2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3-08-08T07:46:11Z</dcterms:modified>
  <cp:revision>92</cp:revision>
  <dc:subject/>
  <dc:title>Separación Sólido-Líquido</dc:title>
</cp:coreProperties>
</file>