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7.jpeg" ContentType="image/jpeg"/>
  <Override PartName="/ppt/media/image11.png" ContentType="image/png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56C5-EF5D-480D-AC67-72E725A9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620F-FF7F-4640-A767-414DDDEC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8630-CD7F-429C-BC9B-B116E2BF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2416-6A7D-4C7C-8202-7B3BD9013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9F44-EDB2-4FA3-B091-C97DCB44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D103-08C7-48D3-A5D7-6C56CF82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F978-D0E1-4AB8-B48C-F9023FB0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208E-A7DE-4D85-9B5B-3BC13DEE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208A-F676-465B-9CF5-A8CA56D8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FD61-E0CB-4147-98A0-EEABDE76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088E-DB3B-45B0-A28B-42E4BFEB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3A2F-AEEC-488A-8472-FA2A817D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EDB4-866F-44A1-9D0F-088A5C4BE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Operaciones de membr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" y="-684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404640"/>
            <a:ext cx="8915040" cy="6705720"/>
            <a:chOff x="0" y="404640"/>
            <a:chExt cx="8915040" cy="6705720"/>
          </a:xfrm>
        </p:grpSpPr>
        <p:grpSp>
          <p:nvGrpSpPr>
            <p:cNvPr id="74" name=""/>
            <p:cNvGrpSpPr/>
            <p:nvPr/>
          </p:nvGrpSpPr>
          <p:grpSpPr>
            <a:xfrm>
              <a:off x="5400" y="408600"/>
              <a:ext cx="8903520" cy="6697080"/>
              <a:chOff x="5400" y="408600"/>
              <a:chExt cx="8903520" cy="669708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5400" y="408600"/>
                <a:ext cx="1529640" cy="564840"/>
                <a:chOff x="5400" y="408600"/>
                <a:chExt cx="1529640" cy="56484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57240" y="408600"/>
                  <a:ext cx="142596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ariab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400" y="408600"/>
                  <a:ext cx="152964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1535400" y="408600"/>
                <a:ext cx="1900800" cy="564840"/>
                <a:chOff x="1535400" y="408600"/>
                <a:chExt cx="1900800" cy="56484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1587600" y="4086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filtració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1535400" y="4086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3436560" y="408600"/>
                <a:ext cx="1900800" cy="564840"/>
                <a:chOff x="3436560" y="408600"/>
                <a:chExt cx="1900800" cy="56484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3488760" y="4086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Ultrafiltració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436560" y="4086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5338080" y="408600"/>
                <a:ext cx="2322360" cy="564840"/>
                <a:chOff x="5338080" y="408600"/>
                <a:chExt cx="2322360" cy="56484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5390280" y="408600"/>
                  <a:ext cx="22176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Osmosis Invers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5338080" y="408600"/>
                  <a:ext cx="232236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7660800" y="408600"/>
                <a:ext cx="1248120" cy="564840"/>
                <a:chOff x="7660800" y="408600"/>
                <a:chExt cx="1248120" cy="5648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7712640" y="408600"/>
                  <a:ext cx="114444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iálisi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660800" y="408600"/>
                  <a:ext cx="124812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5400" y="973440"/>
                <a:ext cx="1529640" cy="726120"/>
                <a:chOff x="5400" y="973440"/>
                <a:chExt cx="1529640" cy="7261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7240" y="973440"/>
                  <a:ext cx="142596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Fuerza Impulsor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400" y="973440"/>
                  <a:ext cx="152964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535400" y="973440"/>
                <a:ext cx="1900800" cy="726120"/>
                <a:chOff x="1535400" y="973440"/>
                <a:chExt cx="1900800" cy="72612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587600" y="973440"/>
                  <a:ext cx="17964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535400" y="973440"/>
                  <a:ext cx="190080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3436560" y="973440"/>
                <a:ext cx="1900800" cy="726120"/>
                <a:chOff x="3436560" y="973440"/>
                <a:chExt cx="1900800" cy="7261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3488760" y="973440"/>
                  <a:ext cx="17964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436560" y="973440"/>
                  <a:ext cx="190080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5338080" y="973440"/>
                <a:ext cx="2322360" cy="726120"/>
                <a:chOff x="5338080" y="973440"/>
                <a:chExt cx="2322360" cy="72612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5390280" y="973440"/>
                  <a:ext cx="22176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338080" y="973440"/>
                  <a:ext cx="232236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7660800" y="973440"/>
                <a:ext cx="1248120" cy="726120"/>
                <a:chOff x="7660800" y="973440"/>
                <a:chExt cx="1248120" cy="7261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7712640" y="973440"/>
                  <a:ext cx="114444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7660800" y="973440"/>
                  <a:ext cx="124812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5400" y="1699920"/>
                <a:ext cx="1529640" cy="887760"/>
                <a:chOff x="5400" y="1699920"/>
                <a:chExt cx="1529640" cy="8877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57240" y="1699920"/>
                  <a:ext cx="142596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esión de Operación [Kpa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400" y="1699920"/>
                  <a:ext cx="152964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1535400" y="1699920"/>
                <a:ext cx="1900800" cy="887760"/>
                <a:chOff x="1535400" y="1699920"/>
                <a:chExt cx="1900800" cy="8877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587600" y="169992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0-5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535400" y="169992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3436560" y="1699920"/>
                <a:ext cx="1900800" cy="887760"/>
                <a:chOff x="3436560" y="1699920"/>
                <a:chExt cx="1900800" cy="8877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3488760" y="169992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0-5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436560" y="169992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5338080" y="1699920"/>
                <a:ext cx="2322360" cy="887760"/>
                <a:chOff x="5338080" y="1699920"/>
                <a:chExt cx="2322360" cy="8877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5390280" y="1699920"/>
                  <a:ext cx="22176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700-2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338080" y="1699920"/>
                  <a:ext cx="232236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7660800" y="1699920"/>
                <a:ext cx="1248120" cy="887760"/>
                <a:chOff x="7660800" y="1699920"/>
                <a:chExt cx="1248120" cy="8877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7712640" y="1699920"/>
                  <a:ext cx="114444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660800" y="1699920"/>
                  <a:ext cx="124812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5400" y="2587680"/>
                <a:ext cx="1529640" cy="887400"/>
                <a:chOff x="5400" y="2587680"/>
                <a:chExt cx="1529640" cy="8874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57240" y="2587680"/>
                  <a:ext cx="142596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Tipo de Membran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400" y="2587680"/>
                  <a:ext cx="152964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1535400" y="2587680"/>
                <a:ext cx="1900800" cy="887400"/>
                <a:chOff x="1535400" y="2587680"/>
                <a:chExt cx="1900800" cy="8874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1587600" y="2587680"/>
                  <a:ext cx="17964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porosa Simétrica o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535400" y="2587680"/>
                  <a:ext cx="190080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3436560" y="2587680"/>
                <a:ext cx="1900800" cy="887400"/>
                <a:chOff x="3436560" y="2587680"/>
                <a:chExt cx="1900800" cy="8874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3488760" y="2587680"/>
                  <a:ext cx="17964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porosa Simétrica o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436560" y="2587680"/>
                  <a:ext cx="190080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5338080" y="2587680"/>
                <a:ext cx="2322360" cy="887400"/>
                <a:chOff x="5338080" y="2587680"/>
                <a:chExt cx="2322360" cy="8874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5390280" y="2587680"/>
                  <a:ext cx="22176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Semipermeable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338080" y="2587680"/>
                  <a:ext cx="232236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7660800" y="2587680"/>
                <a:ext cx="1248120" cy="887400"/>
                <a:chOff x="7660800" y="2587680"/>
                <a:chExt cx="1248120" cy="8874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7712640" y="2587680"/>
                  <a:ext cx="114444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iálisis Simétric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660800" y="2587680"/>
                  <a:ext cx="124812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5400" y="3475080"/>
                <a:ext cx="1529640" cy="887760"/>
                <a:chOff x="5400" y="3475080"/>
                <a:chExt cx="1529640" cy="8877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57240" y="3475080"/>
                  <a:ext cx="142596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Tamaño de partículas [cm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400" y="3475080"/>
                  <a:ext cx="152964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535400" y="3475080"/>
                <a:ext cx="1900800" cy="887760"/>
                <a:chOff x="1535400" y="3475080"/>
                <a:chExt cx="1900800" cy="8877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587600" y="347508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5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7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535400" y="347508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3436560" y="3475080"/>
                <a:ext cx="1900800" cy="887760"/>
                <a:chOff x="3436560" y="3475080"/>
                <a:chExt cx="1900800" cy="8877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3488760" y="347508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6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436560" y="347508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5338080" y="3475080"/>
                <a:ext cx="2322360" cy="887760"/>
                <a:chOff x="5338080" y="3475080"/>
                <a:chExt cx="2322360" cy="88776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5390280" y="3475080"/>
                  <a:ext cx="22176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7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2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338080" y="3475080"/>
                  <a:ext cx="232236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7660800" y="3475080"/>
                <a:ext cx="1248120" cy="887760"/>
                <a:chOff x="7660800" y="3475080"/>
                <a:chExt cx="1248120" cy="8877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712640" y="3475080"/>
                  <a:ext cx="114444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660800" y="3475080"/>
                  <a:ext cx="124812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5400" y="4363200"/>
                <a:ext cx="1529640" cy="564840"/>
                <a:chOff x="5400" y="4363200"/>
                <a:chExt cx="1529640" cy="5648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7240" y="4363200"/>
                  <a:ext cx="142596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Flux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[l/m</a:t>
                  </a:r>
                  <a:r>
                    <a:rPr b="1" lang="es-ES_tradnl" sz="18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h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400" y="4363200"/>
                  <a:ext cx="152964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1535400" y="4363200"/>
                <a:ext cx="1900800" cy="564840"/>
                <a:chOff x="1535400" y="4363200"/>
                <a:chExt cx="1900800" cy="5648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1587600" y="43632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0-1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535400" y="43632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3436560" y="4363200"/>
                <a:ext cx="1900800" cy="564840"/>
                <a:chOff x="3436560" y="4363200"/>
                <a:chExt cx="1900800" cy="5648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488760" y="43632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-2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436560" y="43632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338080" y="4363200"/>
                <a:ext cx="2322360" cy="564840"/>
                <a:chOff x="5338080" y="4363200"/>
                <a:chExt cx="2322360" cy="5648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390280" y="4363200"/>
                  <a:ext cx="22176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-2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338080" y="4363200"/>
                  <a:ext cx="232236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7660800" y="4363200"/>
                <a:ext cx="1248120" cy="564840"/>
                <a:chOff x="7660800" y="4363200"/>
                <a:chExt cx="1248120" cy="5648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7712640" y="4363200"/>
                  <a:ext cx="114444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660800" y="4363200"/>
                  <a:ext cx="124812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5400" y="4928040"/>
                <a:ext cx="1529640" cy="2177640"/>
                <a:chOff x="5400" y="4928040"/>
                <a:chExt cx="1529640" cy="21776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57240" y="4928040"/>
                  <a:ext cx="142596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Us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Separación d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400" y="4928040"/>
                  <a:ext cx="152964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1535400" y="4928040"/>
                <a:ext cx="1900800" cy="2177640"/>
                <a:chOff x="1535400" y="4928040"/>
                <a:chExt cx="1900800" cy="21776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587600" y="4928040"/>
                  <a:ext cx="17964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c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Levaduras 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Hongos 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acterias(3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(1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535400" y="4928040"/>
                  <a:ext cx="190080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3436560" y="4928040"/>
                <a:ext cx="1900800" cy="2177640"/>
                <a:chOff x="3436560" y="4928040"/>
                <a:chExt cx="1900800" cy="21776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488760" y="4928040"/>
                  <a:ext cx="17964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c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irus (30–300 n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oteína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olisacárido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nzima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436560" y="4928040"/>
                  <a:ext cx="190080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5338080" y="4928040"/>
                <a:ext cx="2322360" cy="2177640"/>
                <a:chOff x="5338080" y="4928040"/>
                <a:chExt cx="2322360" cy="21776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90280" y="4928040"/>
                  <a:ext cx="22176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liminación de Io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ntibióticos(3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zúcares (200–400 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c.Orgánicos (100–500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Iones Inorgánicos (10-100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338080" y="4928040"/>
                  <a:ext cx="232236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7660800" y="4928040"/>
                <a:ext cx="1248120" cy="2177640"/>
                <a:chOff x="7660800" y="4928040"/>
                <a:chExt cx="1248120" cy="21776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7712640" y="4928040"/>
                  <a:ext cx="114444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acteri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iru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oteín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olisacárid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ntibiótic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660800" y="4928040"/>
                  <a:ext cx="124812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0" name=""/>
            <p:cNvSpPr/>
            <p:nvPr/>
          </p:nvSpPr>
          <p:spPr>
            <a:xfrm>
              <a:off x="0" y="404640"/>
              <a:ext cx="8915040" cy="6705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04920" y="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aracterísticas de las principales operaciones de membran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740720" y="981000"/>
            <a:ext cx="1152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24360" y="1628640"/>
            <a:ext cx="1727280" cy="792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4365720"/>
            <a:ext cx="1619280" cy="7920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2000" fill="hold"/>
                                        <p:tgtEl>
                                          <p:spTgt spid="1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80880" y="609480"/>
            <a:ext cx="8229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scripción y Modos de Operación de 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icro y Ultrafiltración (MF-U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n pa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cen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iminar contaminantes de alta masa mole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mbios de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r macromoléculas de pequeñas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752480" y="1523880"/>
          <a:ext cx="6477120" cy="30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523880"/>
                    <a:ext cx="6477120" cy="30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380880" y="5562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concentración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914400"/>
            <a:ext cx="3505320" cy="2743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55627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icio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763640" y="981000"/>
          <a:ext cx="6121440" cy="42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981000"/>
                    <a:ext cx="612144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55627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nal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755640" y="909720"/>
          <a:ext cx="632628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909720"/>
                    <a:ext cx="632628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5562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diafiltración.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43280" y="476280"/>
            <a:ext cx="3505320" cy="2743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1472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00000" y="26028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cc66"/>
                </a:solidFill>
                <a:latin typeface="Times New Roman"/>
              </a:rPr>
              <a:t>Solución de Diál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187280" y="1268280"/>
          <a:ext cx="5999400" cy="42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268280"/>
                    <a:ext cx="599940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1835280" y="907920"/>
            <a:ext cx="504720" cy="1152720"/>
          </a:xfrm>
          <a:prstGeom prst="downArrow">
            <a:avLst>
              <a:gd name="adj1" fmla="val 50000"/>
              <a:gd name="adj2" fmla="val 570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16360" y="549360"/>
            <a:ext cx="3168720" cy="302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0880" y="609480"/>
            <a:ext cx="8229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smosis Inversa (O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 sistema que tiene una membrana semi-permeable que permite el paso sólo del solvente. La fuerza impulsora es una alta presión que debe vencer la presión osmótica, para invertir el flujo norm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n membrana no porosa de polímero que impiden la salida de iones que quedan solvatados y quedan atrapados en los espac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flujo de solvente continua hasta que se ejerce una presión en el capilar que detiene la dilución.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3716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dición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smosis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58920" y="450864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33"/>
                </a:solidFill>
                <a:latin typeface="Comic Sans MS"/>
              </a:rPr>
              <a:t>Solvente pasa desde la zona menos concentrada a la mas concentrada, hasta que se alcanza la presión osmótica.(</a:t>
            </a:r>
            <a:r>
              <a:rPr b="0" lang="el-GR" sz="2400" spc="-1" strike="noStrike">
                <a:solidFill>
                  <a:srgbClr val="660033"/>
                </a:solidFill>
                <a:latin typeface="Comic Sans MS"/>
              </a:rPr>
              <a:t>Δ</a:t>
            </a:r>
            <a:r>
              <a:rPr b="0" lang="ru-RU" sz="2400" spc="-1" strike="noStrike">
                <a:solidFill>
                  <a:srgbClr val="660033"/>
                </a:solidFill>
                <a:latin typeface="Comic Sans MS"/>
              </a:rPr>
              <a:t>П</a:t>
            </a:r>
            <a:r>
              <a:rPr b="0" lang="es-CL" sz="2400" spc="-1" strike="noStrike">
                <a:solidFill>
                  <a:srgbClr val="660033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332000" y="1052640"/>
          <a:ext cx="3240000" cy="21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052640"/>
                    <a:ext cx="324000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 flipH="1">
            <a:off x="6804000" y="2565360"/>
            <a:ext cx="720720" cy="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2916000" y="3212640"/>
            <a:ext cx="1368360" cy="647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87640" y="37162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003640" y="1052640"/>
            <a:ext cx="3816360" cy="2369880"/>
            <a:chOff x="5003640" y="1052640"/>
            <a:chExt cx="3816360" cy="2369880"/>
          </a:xfrm>
        </p:grpSpPr>
        <p:graphicFrame>
          <p:nvGraphicFramePr>
            <p:cNvPr id="221" name=""/>
            <p:cNvGraphicFramePr/>
            <p:nvPr/>
          </p:nvGraphicFramePr>
          <p:xfrm>
            <a:off x="5003640" y="1052640"/>
            <a:ext cx="3816360" cy="2369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1052640"/>
                      <a:ext cx="3816360" cy="23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3" name=""/>
            <p:cNvSpPr/>
            <p:nvPr/>
          </p:nvSpPr>
          <p:spPr>
            <a:xfrm>
              <a:off x="6804000" y="2349360"/>
              <a:ext cx="720720" cy="216000"/>
            </a:xfrm>
            <a:prstGeom prst="leftArrow">
              <a:avLst>
                <a:gd name="adj1" fmla="val 50000"/>
                <a:gd name="adj2" fmla="val 83417"/>
              </a:avLst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 flipV="1">
            <a:off x="4427640" y="3068280"/>
            <a:ext cx="1944720" cy="865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276720" y="2602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smosis Re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9640" y="51577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Solvente pasa la membrana y los iones que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0" y="1916280"/>
            <a:ext cx="4873680" cy="2727000"/>
            <a:chOff x="0" y="1916280"/>
            <a:chExt cx="4873680" cy="2727000"/>
          </a:xfrm>
        </p:grpSpPr>
        <p:graphicFrame>
          <p:nvGraphicFramePr>
            <p:cNvPr id="228" name=""/>
            <p:cNvGraphicFramePr/>
            <p:nvPr/>
          </p:nvGraphicFramePr>
          <p:xfrm>
            <a:off x="0" y="1916280"/>
            <a:ext cx="4873680" cy="272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916280"/>
                      <a:ext cx="4873680" cy="27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0" name=""/>
            <p:cNvSpPr/>
            <p:nvPr/>
          </p:nvSpPr>
          <p:spPr>
            <a:xfrm>
              <a:off x="2305080" y="3355560"/>
              <a:ext cx="1079640" cy="433080"/>
            </a:xfrm>
            <a:prstGeom prst="rightArrow">
              <a:avLst>
                <a:gd name="adj1" fmla="val 50000"/>
                <a:gd name="adj2" fmla="val 62323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1258920" y="98100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88000" y="981000"/>
            <a:ext cx="4356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Se aplica una presión mayor que la Presión osmótica que obliga a que el Solvente pase a través de la membrana y los iones queden retenidos en el otro 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80880" y="609480"/>
            <a:ext cx="8229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álisis (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 membranas de tamaño de poros muy pequeñas (menores que UF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ción del soluto basándose en : peso molecular, conformación y car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uerza motriz es un gradiente de concentración que hace que los solutos fluyan a la solución de lav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lectrodiálisis (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álogo a la diálisis, pero la fuerza motriz se ve incrementada por un campo eléctrico.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380880"/>
            <a:ext cx="83059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Dónde se  produce la mayor caída de presión en una filtración tradicional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puede eliminar este efecto?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038480" y="2286000"/>
            <a:ext cx="4800600" cy="4285440"/>
            <a:chOff x="4038480" y="2286000"/>
            <a:chExt cx="4800600" cy="4285440"/>
          </a:xfrm>
        </p:grpSpPr>
        <p:graphicFrame>
          <p:nvGraphicFramePr>
            <p:cNvPr id="46" name=""/>
            <p:cNvGraphicFramePr/>
            <p:nvPr/>
          </p:nvGraphicFramePr>
          <p:xfrm>
            <a:off x="4876920" y="2286000"/>
            <a:ext cx="2904840" cy="2800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76920" y="2286000"/>
                      <a:ext cx="2904840" cy="280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"/>
            <p:cNvSpPr/>
            <p:nvPr/>
          </p:nvSpPr>
          <p:spPr>
            <a:xfrm>
              <a:off x="4038480" y="5257800"/>
              <a:ext cx="4800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Un flujo transversal es capaz de limpiar por si mismo el filtro, así se minimizan los efectos de resistencia de la tort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" name="Image2" descr=""/>
          <p:cNvPicPr/>
          <p:nvPr/>
        </p:nvPicPr>
        <p:blipFill>
          <a:blip r:embed="rId3"/>
          <a:stretch/>
        </p:blipFill>
        <p:spPr>
          <a:xfrm>
            <a:off x="609480" y="2286000"/>
            <a:ext cx="29908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0880" y="609480"/>
            <a:ext cx="822960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Microfiltración-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laca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pi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bra Hu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senta mayor área por unidad de 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ácil de desconec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ben descartar cuando falla alguna parte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228600" y="1219320"/>
          <a:ext cx="8915400" cy="32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8915400" cy="32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laca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304920" y="1523880"/>
          <a:ext cx="8381880" cy="34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838188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spi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228600" y="1008000"/>
          <a:ext cx="8534520" cy="475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08000"/>
                    <a:ext cx="853452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bra Hu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609480"/>
            <a:ext cx="784872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icrofiltración y 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así como surge las técnicas de Microfiltración y Ultrafiltración  que se diferencian de la Filtración Tradicional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tamaño de poros de los medios filtrantes, llamados membra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flujo cruzado, que es transversal  al medio filtrante, minimiza la formación de tor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resistencia se localiza en la membrana y no en la tor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609480"/>
            <a:ext cx="7848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o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orma de operación se inicia con suspensiones diluidas que se van concentrado, por medio recirculación hasta que la viscosidad y la capacidad de bombeo lo permitan. Esto lleva a que se deba continuar con una filtración tradicional u otro méto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tiene un “Filtrado” que es la solución que ha pasado a través de la membrana y un “Remanente o Concentrado” que se recir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iendo de donde se localice el producto de interés es la solución que se colecta o descarta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66680" y="304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¿ Cómo funcion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2209680"/>
            <a:ext cx="3352680" cy="236232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838080"/>
            <a:ext cx="22096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04920" y="1066680"/>
          <a:ext cx="8383320" cy="51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383320" cy="51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581280" y="2057400"/>
            <a:ext cx="3353040" cy="2286000"/>
          </a:xfrm>
          <a:prstGeom prst="ellipse">
            <a:avLst/>
          </a:prstGeom>
          <a:noFill/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609480"/>
            <a:ext cx="82296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generales de las 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operaciones de membranas son varias y se diferencian por los tamaños de partícula que pueden separar y por la fuerza impulsora que provoca el paso del fluido a través de la membrana. A pesar de esto las características de las membranas son simila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ermiten concentrar insolu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medios filtrantes o membranas son delgadas y microporo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poros son pequeños, lo cual produ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aja perme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ta resistencia,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alta (inverso al caso de filtración tradicional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al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quieren de una limpieza periód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066680"/>
            <a:ext cx="4876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ienen 2 ca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elículas delgada y densa (0.1 a 1.5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) . Zon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ubestructura microporosa de 0.1  a 1 mm con aberturas progresivas. Zon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0492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membranas anisotróp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752480"/>
            <a:ext cx="18288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495680" y="2514240"/>
            <a:ext cx="167652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Image2" descr=""/>
          <p:cNvPicPr/>
          <p:nvPr/>
        </p:nvPicPr>
        <p:blipFill>
          <a:blip r:embed="rId1"/>
          <a:stretch/>
        </p:blipFill>
        <p:spPr>
          <a:xfrm>
            <a:off x="6303960" y="990720"/>
            <a:ext cx="2585880" cy="2895480"/>
          </a:xfrm>
          <a:prstGeom prst="rect">
            <a:avLst/>
          </a:prstGeom>
          <a:ln w="0">
            <a:noFill/>
          </a:ln>
        </p:spPr>
      </p:pic>
      <p:pic>
        <p:nvPicPr>
          <p:cNvPr id="64" name="Image3" descr=""/>
          <p:cNvPicPr/>
          <p:nvPr/>
        </p:nvPicPr>
        <p:blipFill>
          <a:blip r:embed="rId2"/>
          <a:stretch/>
        </p:blipFill>
        <p:spPr>
          <a:xfrm>
            <a:off x="1219320" y="3505320"/>
            <a:ext cx="44193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304920" y="533520"/>
            <a:ext cx="8381880" cy="3200400"/>
            <a:chOff x="304920" y="533520"/>
            <a:chExt cx="8381880" cy="3200400"/>
          </a:xfrm>
        </p:grpSpPr>
        <p:sp>
          <p:nvSpPr>
            <p:cNvPr id="66" name=""/>
            <p:cNvSpPr/>
            <p:nvPr/>
          </p:nvSpPr>
          <p:spPr>
            <a:xfrm>
              <a:off x="304920" y="533520"/>
              <a:ext cx="822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 u="sng">
                  <a:solidFill>
                    <a:srgbClr val="3333cc"/>
                  </a:solidFill>
                  <a:uFillTx/>
                  <a:latin typeface="Comic Sans MS"/>
                  <a:ea typeface="Times New Roman"/>
                </a:rPr>
                <a:t>Características de los Filtros microporos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05320" y="1143000"/>
              <a:ext cx="5181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iltros microporosos no presentan una distribución muy homogénea de tamaño, lo cual implica un rango de retención de partículas.</a:t>
              </a: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" name="Image2" descr=""/>
            <p:cNvPicPr/>
            <p:nvPr/>
          </p:nvPicPr>
          <p:blipFill>
            <a:blip r:embed="rId1"/>
            <a:stretch/>
          </p:blipFill>
          <p:spPr>
            <a:xfrm>
              <a:off x="914400" y="990720"/>
              <a:ext cx="2365200" cy="274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Image2" descr=""/>
          <p:cNvPicPr/>
          <p:nvPr/>
        </p:nvPicPr>
        <p:blipFill>
          <a:blip r:embed="rId2"/>
          <a:stretch/>
        </p:blipFill>
        <p:spPr>
          <a:xfrm>
            <a:off x="3657600" y="3200400"/>
            <a:ext cx="36194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609480"/>
            <a:ext cx="8229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NW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ltros y membranas se caracterizan por un tamaño de corte según la masa molecular en base a solutos solubles (NMWC, Nominal Molecular Weight Cut-Off ) que es retenido en un 90% por la membr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WMC varía entre 500-1.000.000 Da o 1-10.000 n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j. PM-5 o XM-10 (KDa)   ¿ Cuántos gramos es un 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3962520"/>
            <a:ext cx="71629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660033"/>
                </a:solidFill>
                <a:uFillTx/>
                <a:latin typeface="Comic Sans MS"/>
                <a:ea typeface="Times New Roman"/>
              </a:rPr>
              <a:t>Materiales de construcción de las membr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Esteres de celul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Ny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Cloruro de vini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Acrilonitratos</a:t>
            </a: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Maria Elena Lienqueo C.</cp:lastModifiedBy>
  <dcterms:modified xsi:type="dcterms:W3CDTF">2003-08-08T07:46:11Z</dcterms:modified>
  <cp:revision>92</cp:revision>
  <dc:subject/>
  <dc:title>Separación Sólido-Líquido</dc:title>
</cp:coreProperties>
</file>