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919-EE95-4947-B55D-CA32F610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608-2C96-41C7-B346-A009BDFF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045-0B62-47B0-872D-411BBFBA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1D6-EDBA-4CDE-AA57-179E510F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30B-5CF7-4C48-9A91-E527275E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F0D-D9B5-407B-AB07-5BC8DB4F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651-F7EE-45A7-9AE4-F711D688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C5B-8F85-4695-88F9-1EA3EF64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016-B3FD-4A74-8391-836124FF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ECA-63A8-4153-8DC7-18D69FD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3A3-69FC-4855-90ED-84CB22C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0FC-017E-4751-BFE1-870E2E4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D994-7EA0-45CA-BAF0-9C3BF8009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entrifuga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centrifuge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micro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edimentation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762120"/>
            <a:ext cx="807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1.02 g/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150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  Un fermentador 50 litros es usado para el crecimiento de estas células en los microcarrier para producir una vacuna.  Después que las células han crecido, la agitación es detenida y los microcarrier comienzan a sedimentar.  El estanque tiene una razón entre 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1.00 g/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1,1 cP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stime el tiempo para alcanzar esta velocidad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Arial"/>
              </a:rPr>
              <a:t>¿Cuál sería en nivel de procesamiento? [lt/dí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49320"/>
            <a:ext cx="838188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t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 C.</cp:lastModifiedBy>
  <dcterms:modified xsi:type="dcterms:W3CDTF">2004-07-26T08:39:44Z</dcterms:modified>
  <cp:revision>11</cp:revision>
  <dc:subject/>
  <dc:title>Centrifugación    Operación unitaria utilizada para la separación: sólido-líquido    líquido-líquido </dc:title>
</cp:coreProperties>
</file>