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913-59FC-44D7-B6A6-F03E7FBB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9B1-30C6-441C-9864-F3798299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584-076A-41D4-B806-6C40E188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A83-61EC-4EB1-86D6-BA0658DC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144-E16B-46E2-95FD-5C9438F1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9D4-7088-4F0D-9778-0EE14850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44C-757F-4DB3-8CA4-C7444D21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079-9118-454F-9058-586AD4C3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E36-04EC-4B1D-A801-11EE79D9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09D-5D48-489D-B316-C3352D18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284-40B5-40F4-A9CE-460502C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F74-9C7D-4913-A44A-FCF5CB7A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33D5-D986-4411-8B94-F3F49BD8F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entrifuga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ogicos, especiale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ícos y recuperación de productos insolubles (cuerpos incluí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centrifuge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micro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sedimentation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762120"/>
            <a:ext cx="807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1.02 g/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150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  Un fermentador 50 litros es usado para el crecimiento de estas células en los microcarrier para producir una vacuna.  Después que las células han crecido, la agitación es detenida y los microcarrier comienzan a sedimentar.  El estanque tiene una razón entre 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1.00 g/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1,1 cP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stime el tiempo para alcanzar esta velocidad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  <a:ea typeface="Arial"/>
              </a:rPr>
              <a:t>¿Cuál sería en nivel de procesamiento? [lt/dí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49320"/>
            <a:ext cx="8381880" cy="64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t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Maria Elena Lienqueo C.</cp:lastModifiedBy>
  <dcterms:modified xsi:type="dcterms:W3CDTF">2004-07-26T08:39:44Z</dcterms:modified>
  <cp:revision>11</cp:revision>
  <dc:subject/>
  <dc:title>Centrifugación    Operación unitaria utilizada para la separación: sólido-líquido    líquido-líquido </dc:title>
</cp:coreProperties>
</file>