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700-546B-41D5-95A8-66E111C4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8EA-3606-4A1E-826E-A8BA5B27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A2B-D01E-4B19-8C7E-2D6EBA1A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FA9-9C7B-45DB-A493-4FE939CA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619-41F8-4268-A51A-651481BE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C5C-CD03-4E9D-9CC9-EB24A490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47F-8970-4D9F-8741-C6AB4DD7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DD4-43AB-498D-BF44-E01AF281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C0A-BEEE-424E-BE48-44AE5D44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538-405D-4637-BF93-710CC50A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6C2-6A95-4A24-B7D5-19DB0F05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52D-DFDC-4179-9581-D41766C7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36A0-259F-4988-8D8F-A056D1213D0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ffff00"/>
                </a:solidFill>
                <a:latin typeface="Times New Roman"/>
              </a:rPr>
              <a:t>Activación de Células B y Producción de Anticuerp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306864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Alfredo de Ioa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Verdana"/>
              </a:rPr>
              <a:t>Inmunologí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Verdana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Verdana"/>
              </a:rPr>
              <a:t>Universidad de C 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ffff"/>
                </a:solidFill>
                <a:latin typeface="Verdana"/>
              </a:rPr>
              <a:t>Noviembre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ffff66"/>
                </a:solidFill>
                <a:latin typeface="Times New Roman"/>
              </a:rPr>
              <a:t>Migración e Interaciones Helper T-B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351480" cy="252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84360" y="3645000"/>
            <a:ext cx="4372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99960"/>
            <a:ext cx="805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esentación de Antígeno por Célula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 Linfocitos T Hel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31762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66"/>
                </a:solidFill>
                <a:latin typeface="Times New Roman"/>
              </a:rPr>
              <a:t>Activación de Células B por Linfocitos Helper: Papel de CD40 y CD40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8280360" cy="3141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88280" y="589752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terleuquinas: IL-2, IL-4, Il-5 son producidas por T-Hel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08720" y="609120"/>
            <a:ext cx="331128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ffff00"/>
                </a:solidFill>
                <a:latin typeface="Times New Roman"/>
              </a:rPr>
              <a:t>Experimentos que Demuestran el Papel de CD40 en la ayuda a Linfocitos B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42498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CL" sz="4000" spc="-1" strike="noStrike">
                <a:solidFill>
                  <a:srgbClr val="ffff66"/>
                </a:solidFill>
                <a:latin typeface="Times New Roman"/>
              </a:rPr>
              <a:t>Regulación del Cambio de Clase de Anticuerpos por Citoqu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4612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imes New Roman"/>
              </a:rPr>
              <a:t>Experimento Clásico que Demuestra el Papel de Linfoquinas en el swith de Cl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8138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imes New Roman"/>
              </a:rPr>
              <a:t>Mecanismos involucrados en el switch de Cl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1930320"/>
            <a:ext cx="48610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imes New Roman"/>
              </a:rPr>
              <a:t>Resumen de las Reacciones Frente a un antígeno T Dependiente en el Centro G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708440" cy="3665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92720" y="2781360"/>
            <a:ext cx="33591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imes New Roman"/>
              </a:rPr>
              <a:t>Selección de Células B en los Centros Germinales después de la Mutación So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132000" y="1916280"/>
            <a:ext cx="34052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Respuesta a Antígenos Timo Independ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4880" y="476280"/>
            <a:ext cx="74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tapas de la Respuesta Hum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638360"/>
            <a:ext cx="80344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imes New Roman"/>
              </a:rPr>
              <a:t>Comparación entre Antígenos T Dependientes y T Independ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8261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imes New Roman"/>
              </a:rPr>
              <a:t>Regulación por Retroalimentación Negativa de la Respuesta Hum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40000" y="2003400"/>
            <a:ext cx="46782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Times New Roman"/>
              </a:rPr>
              <a:t>Cinética de la Respuesta Primaria y Secund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5307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imes New Roman"/>
              </a:rPr>
              <a:t>Cracterísticas de la Respuesta Inmune Humoral Primaria y Secund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3035160"/>
            <a:ext cx="8280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2687400" cy="3632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407200" cy="4486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imes New Roman"/>
              </a:rPr>
              <a:t>Reconocimiento de Antígenos y Transducción de Señ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Papel de Complemento en la Activación de las Células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0658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Times New Roman"/>
              </a:rPr>
              <a:t>Respuestas de las Células B al Entrecruzamiento del BC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47640" y="1728720"/>
            <a:ext cx="561672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imes New Roman"/>
              </a:rPr>
              <a:t>Colaboración T-B en la Respuesta a Antígenos Timo Depend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543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Migraciones Celulares que Siguen la Inmunización con un Antígeno T 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2158920"/>
            <a:ext cx="66340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19:40:58Z</dcterms:created>
  <dc:creator>nombre</dc:creator>
  <dc:description/>
  <dc:language>en-US</dc:language>
  <cp:lastModifiedBy>biosonda</cp:lastModifiedBy>
  <dcterms:modified xsi:type="dcterms:W3CDTF">2004-11-11T15:27:01Z</dcterms:modified>
  <cp:revision>61</cp:revision>
  <dc:subject/>
  <dc:title>Sin título de diapositiva</dc:title>
</cp:coreProperties>
</file>