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99EF-CEC1-464D-9DB9-CF8A87BD0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3961-FFB0-489F-AE6C-AB1472BD9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445F-D0C6-491A-8D48-771C323F8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FA6C-8BE7-4BF5-948C-6691C7D68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7AC3-8AAA-486F-8C12-13A9E0030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64F9-ED34-4C9C-9EB2-2086035AD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827F-C5FD-4FFF-8C92-DA24EB304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1509-07CB-458C-94DF-A41E29022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1FAF-5275-46A8-9D32-728CBBD1D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69BD-A36E-4D4A-B57E-451D59792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91E6-EA61-4213-B22D-CE916336D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1F2A-9DDC-485B-9CF6-D15C2E729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5f7f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F8CEB-CE02-4014-8E11-D71A8C58FED7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5f7f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29528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ffff00"/>
                </a:solidFill>
                <a:latin typeface="Times New Roman"/>
              </a:rPr>
              <a:t>Activación de Células B y Producción de Anticuerpo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340000" y="3068640"/>
            <a:ext cx="4572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Alfredo de Ioan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Verdana"/>
              </a:rPr>
              <a:t>Inmunología Bás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cc"/>
                </a:solidFill>
                <a:latin typeface="Verdana"/>
              </a:rPr>
              <a:t>Facultad de Ingenier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cc"/>
                </a:solidFill>
                <a:latin typeface="Verdana"/>
              </a:rPr>
              <a:t>Universidad de C 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ffff"/>
                </a:solidFill>
                <a:latin typeface="Verdana"/>
              </a:rPr>
              <a:t>Noviembre de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5f7f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4960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ffff66"/>
                </a:solidFill>
                <a:latin typeface="Times New Roman"/>
              </a:rPr>
              <a:t>Migración e Interaciones Helper T-B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476360" y="1052640"/>
            <a:ext cx="6351480" cy="2520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484360" y="3645000"/>
            <a:ext cx="43722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5f7f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399960"/>
            <a:ext cx="805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Presentación de Antígeno por Células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a Linfocitos T Help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059280" y="1628640"/>
            <a:ext cx="3176280" cy="47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5f7f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66"/>
                </a:solidFill>
                <a:latin typeface="Times New Roman"/>
              </a:rPr>
              <a:t>Activación de Células B por Linfocitos Helper: Papel de CD40 y CD40 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11280" y="2205000"/>
            <a:ext cx="8280360" cy="31417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088280" y="5897520"/>
            <a:ext cx="751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Interleuquinas: IL-2, IL-4, Il-5 son producidas por T-Hel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5f7f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508720" y="609120"/>
            <a:ext cx="3311280" cy="59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900" spc="-1" strike="noStrike">
                <a:solidFill>
                  <a:srgbClr val="ffff00"/>
                </a:solidFill>
                <a:latin typeface="Times New Roman"/>
              </a:rPr>
              <a:t>Experimentos que Demuestran el Papel de CD40 en la ayuda a Linfocitos B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00000" y="260280"/>
            <a:ext cx="4249800" cy="631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5f7f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s-CL" sz="4000" spc="-1" strike="noStrike">
                <a:solidFill>
                  <a:srgbClr val="ffff66"/>
                </a:solidFill>
                <a:latin typeface="Times New Roman"/>
              </a:rPr>
              <a:t>Regulación del Cambio de Clase de Anticuerpos por Citoquin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050920" y="1916280"/>
            <a:ext cx="546120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5f7f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Times New Roman"/>
              </a:rPr>
              <a:t>Experimento Clásico que Demuestra el Papel de Linfoquinas en el swith de Cl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55640" y="2565360"/>
            <a:ext cx="781380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5f7f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00"/>
                </a:solidFill>
                <a:latin typeface="Times New Roman"/>
              </a:rPr>
              <a:t>Mecanismos involucrados en el switch de Cl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411280" y="1930320"/>
            <a:ext cx="486108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5f7f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Times New Roman"/>
              </a:rPr>
              <a:t>Resumen de las Reacciones Frente a un antígeno T Dependiente en el Centro Germi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4708440" cy="36655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292720" y="2781360"/>
            <a:ext cx="3359160" cy="22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5f7f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280" y="609120"/>
            <a:ext cx="820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Times New Roman"/>
              </a:rPr>
              <a:t>Selección de Células B en los Centros Germinales después de la Mutación Somá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132000" y="1916280"/>
            <a:ext cx="3405240" cy="45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5f7f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Respuesta a Antígenos Timo Independie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5f7f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74880" y="476280"/>
            <a:ext cx="748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00"/>
                </a:solidFill>
                <a:latin typeface="Times New Roman"/>
              </a:rPr>
              <a:t>Etapas de la Respuesta Humor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9640" y="1638360"/>
            <a:ext cx="803448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5f7f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00"/>
                </a:solidFill>
                <a:latin typeface="Times New Roman"/>
              </a:rPr>
              <a:t>Comparación entre Antígenos T Dependientes y T Independien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124000" y="2060640"/>
            <a:ext cx="4826160" cy="39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5f7f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00"/>
                </a:solidFill>
                <a:latin typeface="Times New Roman"/>
              </a:rPr>
              <a:t>Regulación por Retroalimentación Negativa de la Respuesta Humor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340000" y="2003400"/>
            <a:ext cx="46782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5f7f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66"/>
                </a:solidFill>
                <a:latin typeface="Times New Roman"/>
              </a:rPr>
              <a:t>Cinética de la Respuesta Primaria y Secundar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332000" y="1916280"/>
            <a:ext cx="6530760" cy="45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5f7f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2064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00"/>
                </a:solidFill>
                <a:latin typeface="Times New Roman"/>
              </a:rPr>
              <a:t>Cracterísticas de la Respuesta Inmune Humoral Primaria y Secunda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9640" y="3035160"/>
            <a:ext cx="828036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5f7f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24000" y="2708280"/>
            <a:ext cx="2687400" cy="36320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48000" y="1989000"/>
            <a:ext cx="5407200" cy="44863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00"/>
                </a:solidFill>
                <a:latin typeface="Times New Roman"/>
              </a:rPr>
              <a:t>Reconocimiento de Antígenos y Transducción de Señ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5f7f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00"/>
                </a:solidFill>
                <a:latin typeface="Times New Roman"/>
              </a:rPr>
              <a:t>Papel de Complemento en la Activación de las Células 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411280" y="2060640"/>
            <a:ext cx="406584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5f7f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66"/>
                </a:solidFill>
                <a:latin typeface="Times New Roman"/>
              </a:rPr>
              <a:t>Respuestas de las Células B al Entrecruzamiento del BC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547640" y="1728720"/>
            <a:ext cx="5616720" cy="48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5f7f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00"/>
                </a:solidFill>
                <a:latin typeface="Times New Roman"/>
              </a:rPr>
              <a:t>Colaboración T-B en la Respuesta a Antígenos Timo Dependien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332000" y="1773360"/>
            <a:ext cx="654372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5f7f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920" y="6091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Migraciones Celulares que Siguen la Inmunización con un Antígeno T Depend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16000" y="2158920"/>
            <a:ext cx="6634080" cy="41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9T19:40:58Z</dcterms:created>
  <dc:creator>nombre</dc:creator>
  <dc:description/>
  <dc:language>en-US</dc:language>
  <cp:lastModifiedBy>biosonda</cp:lastModifiedBy>
  <dcterms:modified xsi:type="dcterms:W3CDTF">2004-11-11T15:27:01Z</dcterms:modified>
  <cp:revision>61</cp:revision>
  <dc:subject/>
  <dc:title>Sin título de diapositiva</dc:title>
</cp:coreProperties>
</file>