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2D1-D854-4D07-BD44-3FA24DAC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C51-A8B9-4CA0-B980-B5ACEBB2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009-C7D1-4206-9A0B-B13D9459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872-0632-4AB5-A644-EAE6AA95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222-0CCC-4BF3-A25A-46918D9C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DD2-7CBC-433E-861D-B8DBA2D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B45-B14F-4F50-9F5F-C8518145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E72-5406-4FE7-BC76-3298F3D4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49F-36FA-47BF-8803-8112C6A4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BD9-5D8E-4168-8CE9-577F5FA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44F-90F3-4FF0-A620-5A42426F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E97-5491-4683-9955-33997EE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BF4B-716F-44A7-BD34-BE98BC8AEDA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00"/>
                </a:solidFill>
                <a:latin typeface="Times New Roman"/>
              </a:rPr>
              <a:t>Activación de Células B y Producción de Anticuerp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06864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Alfredo de Ioa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Verdana"/>
              </a:rPr>
              <a:t>Inmunologí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Verdana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Verdana"/>
              </a:rPr>
              <a:t>Universidad de C 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ffff"/>
                </a:solidFill>
                <a:latin typeface="Verdana"/>
              </a:rPr>
              <a:t>Noviembre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ffff66"/>
                </a:solidFill>
                <a:latin typeface="Times New Roman"/>
              </a:rPr>
              <a:t>Migración e Interaciones Helper T-B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35148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84360" y="3645000"/>
            <a:ext cx="4372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99960"/>
            <a:ext cx="805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esentación de Antígeno por Célula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 Linfocitos T Hel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31762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66"/>
                </a:solidFill>
                <a:latin typeface="Times New Roman"/>
              </a:rPr>
              <a:t>Activación de Células B por Linfocitos Helper: Papel de CD40 y CD40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8280360" cy="314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88280" y="589752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terleuquinas: IL-2, IL-4, Il-5 son producidas por T-Hel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08720" y="609120"/>
            <a:ext cx="331128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ff00"/>
                </a:solidFill>
                <a:latin typeface="Times New Roman"/>
              </a:rPr>
              <a:t>Experimentos que Demuestran el Papel de CD40 en la ayuda a Linfocitos B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4249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Regulación del Cambio de Clase de Anticuerpos por Citoqu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4612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imes New Roman"/>
              </a:rPr>
              <a:t>Experimento Clásico que Demuestra el Papel de Linfoquinas en el swith de C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8138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Mecanismos involucrados en el switch de Cl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1930320"/>
            <a:ext cx="48610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imes New Roman"/>
              </a:rPr>
              <a:t>Resumen de las Reacciones Frente a un antígeno T Dependiente en el Centro G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708440" cy="366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2781360"/>
            <a:ext cx="33591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imes New Roman"/>
              </a:rPr>
              <a:t>Selección de Células B en los Centros Germinales después de la Mutación S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32000" y="1916280"/>
            <a:ext cx="34052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Respuesta a Antígenos Timo Independ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4880" y="476280"/>
            <a:ext cx="74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tapas de la Respuesta Hum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638360"/>
            <a:ext cx="8034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Comparación entre Antígenos T Dependientes y T Independ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8261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Regulación por Retroalimentación Negativa de la Respuesta Hum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2003400"/>
            <a:ext cx="4678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Cinética de la Respuesta Primaria y Secund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5307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imes New Roman"/>
              </a:rPr>
              <a:t>Cracterísticas de la Respuesta Inmune Humoral Primaria y Secund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3035160"/>
            <a:ext cx="8280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2687400" cy="363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407200" cy="4486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imes New Roman"/>
              </a:rPr>
              <a:t>Reconocimiento de Antígenos y Transducción de Señ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Papel de Complemento en la Activación de las Células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658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Times New Roman"/>
              </a:rPr>
              <a:t>Respuestas de las Células B al Entrecruzamiento del BC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1728720"/>
            <a:ext cx="56167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imes New Roman"/>
              </a:rPr>
              <a:t>Colaboración T-B en la Respuesta a Antígenos Timo Depend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543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5f7f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Migraciones Celulares que Siguen la Inmunización con un Antígeno T 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2158920"/>
            <a:ext cx="6634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9:40:58Z</dcterms:created>
  <dc:creator>nombre</dc:creator>
  <dc:description/>
  <dc:language>en-US</dc:language>
  <cp:lastModifiedBy>biosonda</cp:lastModifiedBy>
  <dcterms:modified xsi:type="dcterms:W3CDTF">2004-11-11T15:27:01Z</dcterms:modified>
  <cp:revision>61</cp:revision>
  <dc:subject/>
  <dc:title>Sin título de diapositiva</dc:title>
</cp:coreProperties>
</file>