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8326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960" y="3068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 Dermatitis de Contacto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oducida por Urushioles: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lergia al Litreol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f7fff7"/>
                </a:solidFill>
                <a:latin typeface="Times New Roman"/>
              </a:rPr>
              <a:t>Alfredo De Ioannes</a:t>
            </a:r>
            <a:br>
              <a:rPr sz="3200"/>
            </a:br>
            <a:br>
              <a:rPr sz="32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971720" y="685800"/>
            <a:ext cx="6772320" cy="5105520"/>
            <a:chOff x="1971720" y="685800"/>
            <a:chExt cx="6772320" cy="510552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2143080" y="1981080"/>
              <a:ext cx="62578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971720" y="685800"/>
              <a:ext cx="677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Inflammatory Response of Balb/c M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Challenged with Litre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514440" y="442800"/>
            <a:ext cx="9429840" cy="5716800"/>
            <a:chOff x="514440" y="442800"/>
            <a:chExt cx="9429840" cy="5716800"/>
          </a:xfrm>
        </p:grpSpPr>
        <p:grpSp>
          <p:nvGrpSpPr>
            <p:cNvPr id="287" name=""/>
            <p:cNvGrpSpPr/>
            <p:nvPr/>
          </p:nvGrpSpPr>
          <p:grpSpPr>
            <a:xfrm>
              <a:off x="1719360" y="1677960"/>
              <a:ext cx="6470280" cy="3449160"/>
              <a:chOff x="1719360" y="1677960"/>
              <a:chExt cx="6470280" cy="3449160"/>
            </a:xfrm>
          </p:grpSpPr>
          <p:sp>
            <p:nvSpPr>
              <p:cNvPr id="288" name=""/>
              <p:cNvSpPr/>
              <p:nvPr/>
            </p:nvSpPr>
            <p:spPr>
              <a:xfrm>
                <a:off x="2660040" y="1744560"/>
                <a:ext cx="5272200" cy="2352600"/>
              </a:xfrm>
              <a:custGeom>
                <a:avLst/>
                <a:gdLst/>
                <a:ahLst/>
                <a:rect l="l" t="t" r="r" b="b"/>
                <a:pathLst>
                  <a:path w="2952" h="1482">
                    <a:moveTo>
                      <a:pt x="0" y="0"/>
                    </a:moveTo>
                    <a:lnTo>
                      <a:pt x="2951" y="0"/>
                    </a:lnTo>
                    <a:lnTo>
                      <a:pt x="2951" y="1481"/>
                    </a:lnTo>
                    <a:lnTo>
                      <a:pt x="0" y="14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60040" y="1751040"/>
                <a:ext cx="0" cy="234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08560" y="4102200"/>
                <a:ext cx="10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01360" y="380988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01360" y="351792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01360" y="321480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01360" y="263052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01360" y="292428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01360" y="234000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601360" y="203508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01360" y="1744560"/>
                <a:ext cx="115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667240" y="4102200"/>
                <a:ext cx="5265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004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71916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76748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83020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87672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939440" y="4032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60040" y="1998720"/>
                <a:ext cx="5074200" cy="2104920"/>
              </a:xfrm>
              <a:custGeom>
                <a:avLst/>
                <a:gdLst/>
                <a:ahLst/>
                <a:rect l="l" t="t" r="r" b="b"/>
                <a:pathLst>
                  <a:path w="2841" h="1326">
                    <a:moveTo>
                      <a:pt x="0" y="1325"/>
                    </a:moveTo>
                    <a:lnTo>
                      <a:pt x="710" y="894"/>
                    </a:lnTo>
                    <a:lnTo>
                      <a:pt x="1420" y="215"/>
                    </a:lnTo>
                    <a:lnTo>
                      <a:pt x="2130" y="0"/>
                    </a:lnTo>
                    <a:lnTo>
                      <a:pt x="2840" y="159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60040" y="2924280"/>
                <a:ext cx="5074200" cy="1179360"/>
              </a:xfrm>
              <a:custGeom>
                <a:avLst/>
                <a:gdLst/>
                <a:ahLst/>
                <a:rect l="l" t="t" r="r" b="b"/>
                <a:pathLst>
                  <a:path w="2841" h="743">
                    <a:moveTo>
                      <a:pt x="0" y="742"/>
                    </a:moveTo>
                    <a:lnTo>
                      <a:pt x="710" y="431"/>
                    </a:lnTo>
                    <a:lnTo>
                      <a:pt x="1420" y="239"/>
                    </a:lnTo>
                    <a:lnTo>
                      <a:pt x="2130" y="0"/>
                    </a:lnTo>
                    <a:lnTo>
                      <a:pt x="2840" y="104"/>
                    </a:ln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60040" y="3494160"/>
                <a:ext cx="5074200" cy="609480"/>
              </a:xfrm>
              <a:custGeom>
                <a:avLst/>
                <a:gdLst/>
                <a:ahLst/>
                <a:rect l="l" t="t" r="r" b="b"/>
                <a:pathLst>
                  <a:path w="2841" h="384">
                    <a:moveTo>
                      <a:pt x="0" y="383"/>
                    </a:moveTo>
                    <a:lnTo>
                      <a:pt x="710" y="343"/>
                    </a:lnTo>
                    <a:lnTo>
                      <a:pt x="1420" y="264"/>
                    </a:lnTo>
                    <a:lnTo>
                      <a:pt x="2130" y="24"/>
                    </a:lnTo>
                    <a:lnTo>
                      <a:pt x="2840" y="0"/>
                    </a:lnTo>
                  </a:path>
                </a:pathLst>
              </a:custGeom>
              <a:noFill/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660040" y="3936960"/>
                <a:ext cx="5074200" cy="166680"/>
              </a:xfrm>
              <a:custGeom>
                <a:avLst/>
                <a:gdLst/>
                <a:ahLst/>
                <a:rect l="l" t="t" r="r" b="b"/>
                <a:pathLst>
                  <a:path w="2841" h="105">
                    <a:moveTo>
                      <a:pt x="0" y="104"/>
                    </a:moveTo>
                    <a:lnTo>
                      <a:pt x="710" y="0"/>
                    </a:lnTo>
                    <a:lnTo>
                      <a:pt x="1420" y="56"/>
                    </a:lnTo>
                    <a:lnTo>
                      <a:pt x="2130" y="104"/>
                    </a:lnTo>
                    <a:lnTo>
                      <a:pt x="2840" y="10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17560" y="4065480"/>
                <a:ext cx="71280" cy="68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88720" y="3381480"/>
                <a:ext cx="68040" cy="666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57000" y="2301840"/>
                <a:ext cx="69480" cy="69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24920" y="1962000"/>
                <a:ext cx="69480" cy="65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92840" y="2214720"/>
                <a:ext cx="71280" cy="68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88720" y="3343320"/>
                <a:ext cx="8208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57000" y="2152800"/>
                <a:ext cx="82080" cy="158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24920" y="1835280"/>
                <a:ext cx="8352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92840" y="2138400"/>
                <a:ext cx="8208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8720" y="3470400"/>
                <a:ext cx="8208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57000" y="2492280"/>
                <a:ext cx="82080" cy="17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24920" y="2125800"/>
                <a:ext cx="8352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92840" y="2341440"/>
                <a:ext cx="82080" cy="17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7560" y="4065480"/>
                <a:ext cx="71280" cy="68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88720" y="3570120"/>
                <a:ext cx="68040" cy="68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57000" y="3267000"/>
                <a:ext cx="69480" cy="666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24920" y="2887560"/>
                <a:ext cx="69480" cy="666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92840" y="3051000"/>
                <a:ext cx="71280" cy="68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88720" y="3570120"/>
                <a:ext cx="8208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57000" y="3267000"/>
                <a:ext cx="82080" cy="1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24920" y="2809800"/>
                <a:ext cx="8352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92840" y="2987640"/>
                <a:ext cx="8208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88720" y="3633840"/>
                <a:ext cx="8208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57000" y="3317760"/>
                <a:ext cx="82080" cy="158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24920" y="3013200"/>
                <a:ext cx="8352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92840" y="3151080"/>
                <a:ext cx="82080" cy="19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17560" y="4065480"/>
                <a:ext cx="71280" cy="68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88720" y="4000680"/>
                <a:ext cx="68040" cy="698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57000" y="3875040"/>
                <a:ext cx="69480" cy="666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24920" y="3494160"/>
                <a:ext cx="69480" cy="680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92840" y="3459240"/>
                <a:ext cx="71280" cy="65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88720" y="3987720"/>
                <a:ext cx="8208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57000" y="3849840"/>
                <a:ext cx="8208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24920" y="3459240"/>
                <a:ext cx="83520" cy="140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92840" y="3417840"/>
                <a:ext cx="8208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8720" y="4076640"/>
                <a:ext cx="82080" cy="190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57000" y="3938760"/>
                <a:ext cx="8208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24920" y="3584520"/>
                <a:ext cx="8352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92840" y="3533760"/>
                <a:ext cx="8208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17560" y="4065480"/>
                <a:ext cx="71280" cy="68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8720" y="3900600"/>
                <a:ext cx="68040" cy="698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57000" y="3987720"/>
                <a:ext cx="69480" cy="698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24920" y="4065480"/>
                <a:ext cx="69480" cy="68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92840" y="4065480"/>
                <a:ext cx="71280" cy="68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88720" y="3875040"/>
                <a:ext cx="820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57000" y="3963960"/>
                <a:ext cx="820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24920" y="4065480"/>
                <a:ext cx="8352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92840" y="4052880"/>
                <a:ext cx="820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17560" y="4091040"/>
                <a:ext cx="8532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8720" y="3976560"/>
                <a:ext cx="820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57000" y="4065480"/>
                <a:ext cx="8208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24920" y="4114800"/>
                <a:ext cx="83520" cy="19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92840" y="4129200"/>
                <a:ext cx="8208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14440" y="4037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14440" y="3743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14440" y="3452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314440" y="31496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14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16880" y="25653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16880" y="227340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16880" y="196992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216880" y="16779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521800" y="4314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36280" y="43149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86760" y="43149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47680" y="43149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96000" y="4314960"/>
                <a:ext cx="379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10840" y="4314960"/>
                <a:ext cx="478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38280" y="4551480"/>
                <a:ext cx="21945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ime post-challeng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(hour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200000">
                <a:off x="1162080" y="2711160"/>
                <a:ext cx="162936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ar Inflamm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( x 10</a:t>
                </a:r>
                <a:r>
                  <a:rPr b="1" lang="en-US" sz="1400" spc="-1" strike="noStrike" baseline="30000">
                    <a:solidFill>
                      <a:srgbClr val="ffffff"/>
                    </a:solidFill>
                    <a:latin typeface="Arial"/>
                  </a:rPr>
                  <a:t>-3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+/- SE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57360" y="5346720"/>
              <a:ext cx="7172280" cy="81288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79640" y="5557680"/>
              <a:ext cx="5000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979640" y="5958000"/>
              <a:ext cx="499680" cy="96840"/>
              <a:chOff x="1979640" y="5958000"/>
              <a:chExt cx="499680" cy="96840"/>
            </a:xfrm>
          </p:grpSpPr>
          <p:sp>
            <p:nvSpPr>
              <p:cNvPr id="390" name=""/>
              <p:cNvSpPr/>
              <p:nvPr/>
            </p:nvSpPr>
            <p:spPr>
              <a:xfrm>
                <a:off x="2150640" y="5958000"/>
                <a:ext cx="156960" cy="96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79640" y="6004080"/>
                <a:ext cx="4996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4979880" y="5510160"/>
              <a:ext cx="499680" cy="96840"/>
              <a:chOff x="4979880" y="5510160"/>
              <a:chExt cx="499680" cy="96840"/>
            </a:xfrm>
          </p:grpSpPr>
          <p:sp>
            <p:nvSpPr>
              <p:cNvPr id="393" name=""/>
              <p:cNvSpPr/>
              <p:nvPr/>
            </p:nvSpPr>
            <p:spPr>
              <a:xfrm>
                <a:off x="5151240" y="5510160"/>
                <a:ext cx="156960" cy="968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79880" y="5557680"/>
                <a:ext cx="4996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979880" y="5954760"/>
              <a:ext cx="499680" cy="100080"/>
              <a:chOff x="4979880" y="5954760"/>
              <a:chExt cx="499680" cy="10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5151240" y="5954760"/>
                <a:ext cx="156960" cy="100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79880" y="6004080"/>
                <a:ext cx="4996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151000" y="5510160"/>
              <a:ext cx="157320" cy="96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87040" y="5468760"/>
              <a:ext cx="218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 response Balb/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77320" y="5859360"/>
              <a:ext cx="2025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 Response Balb/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02480" y="5468760"/>
              <a:ext cx="2607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 Response, Chlorofo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83760" y="5859360"/>
              <a:ext cx="2311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nate Response Balb/c SC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65680" y="442800"/>
              <a:ext cx="802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Time Course of Ear Inflammation After Exposure to Litre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4440" y="990720"/>
              <a:ext cx="942984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14440" y="1219320"/>
            <a:ext cx="942984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80000"/>
              </a:lnSpc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rushiols are Pro-electrophilic Contact Sensit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80000"/>
              </a:lnSpc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80000"/>
              </a:lnSpc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ctivaton to the Electrophilic Should Take Place Intracell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80000"/>
              </a:lnSpc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80000"/>
              </a:lnSpc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 Effector Immune Response Should be Mediated Mainly by CD8+ T Cell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515880" y="533520"/>
            <a:ext cx="8923320" cy="5849640"/>
            <a:chOff x="515880" y="533520"/>
            <a:chExt cx="8923320" cy="5849640"/>
          </a:xfrm>
        </p:grpSpPr>
        <p:grpSp>
          <p:nvGrpSpPr>
            <p:cNvPr id="407" name=""/>
            <p:cNvGrpSpPr/>
            <p:nvPr/>
          </p:nvGrpSpPr>
          <p:grpSpPr>
            <a:xfrm>
              <a:off x="6000840" y="1523880"/>
              <a:ext cx="2971080" cy="1054080"/>
              <a:chOff x="6000840" y="1523880"/>
              <a:chExt cx="2971080" cy="105408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1920" y="1981080"/>
                <a:ext cx="1737720" cy="59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20520" y="1600200"/>
                <a:ext cx="671400" cy="44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0680" y="1523880"/>
                <a:ext cx="2271240" cy="74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97200" y="2133720"/>
                <a:ext cx="60480" cy="63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6077160" y="2120400"/>
                <a:ext cx="910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77720" y="2286000"/>
                <a:ext cx="442440" cy="139680"/>
              </a:xfrm>
              <a:prstGeom prst="ellipse">
                <a:avLst/>
              </a:prstGeom>
              <a:solidFill>
                <a:srgbClr val="fd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6000840" y="2120400"/>
                <a:ext cx="1677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8480" y="2209680"/>
                <a:ext cx="2890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421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421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028880" y="4267080"/>
              <a:ext cx="2971080" cy="1054080"/>
              <a:chOff x="1028880" y="4267080"/>
              <a:chExt cx="2971080" cy="1054080"/>
            </a:xfrm>
          </p:grpSpPr>
          <p:sp>
            <p:nvSpPr>
              <p:cNvPr id="417" name=""/>
              <p:cNvSpPr/>
              <p:nvPr/>
            </p:nvSpPr>
            <p:spPr>
              <a:xfrm>
                <a:off x="1119960" y="4724280"/>
                <a:ext cx="1737720" cy="59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48560" y="4343400"/>
                <a:ext cx="671400" cy="444600"/>
              </a:xfrm>
              <a:prstGeom prst="ellipse">
                <a:avLst/>
              </a:prstGeom>
              <a:solidFill>
                <a:srgbClr val="fd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28720" y="4267080"/>
                <a:ext cx="2271240" cy="74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25240" y="4876920"/>
                <a:ext cx="60480" cy="63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1105200" y="4863600"/>
                <a:ext cx="910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1028880" y="4863600"/>
                <a:ext cx="1677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46520" y="4952880"/>
                <a:ext cx="2890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421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421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1114200" y="1371600"/>
              <a:ext cx="2971440" cy="1288800"/>
              <a:chOff x="1114200" y="1371600"/>
              <a:chExt cx="2971440" cy="1288800"/>
            </a:xfrm>
          </p:grpSpPr>
          <p:sp>
            <p:nvSpPr>
              <p:cNvPr id="425" name=""/>
              <p:cNvSpPr/>
              <p:nvPr/>
            </p:nvSpPr>
            <p:spPr>
              <a:xfrm>
                <a:off x="2576880" y="1530360"/>
                <a:ext cx="13752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44920" y="19875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44920" y="1396800"/>
                <a:ext cx="0" cy="177840"/>
              </a:xfrm>
              <a:prstGeom prst="line">
                <a:avLst/>
              </a:prstGeom>
              <a:ln w="507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07400" y="1371600"/>
                <a:ext cx="276840" cy="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5280" y="2063520"/>
                <a:ext cx="1737720" cy="59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33880" y="1682640"/>
                <a:ext cx="671400" cy="44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815120" y="1606320"/>
                <a:ext cx="2270520" cy="74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08760" y="2216160"/>
                <a:ext cx="62280" cy="63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1190880" y="2202840"/>
                <a:ext cx="892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1114200" y="2202840"/>
                <a:ext cx="165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31840" y="2292120"/>
                <a:ext cx="28908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421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4217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343200" y="3581280"/>
              <a:ext cx="2971440" cy="1739880"/>
              <a:chOff x="6343200" y="3581280"/>
              <a:chExt cx="2971440" cy="1739880"/>
            </a:xfrm>
          </p:grpSpPr>
          <p:sp>
            <p:nvSpPr>
              <p:cNvPr id="437" name=""/>
              <p:cNvSpPr/>
              <p:nvPr/>
            </p:nvSpPr>
            <p:spPr>
              <a:xfrm>
                <a:off x="6432840" y="4724280"/>
                <a:ext cx="1739160" cy="59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61440" y="4343400"/>
                <a:ext cx="671400" cy="444240"/>
              </a:xfrm>
              <a:prstGeom prst="ellipse">
                <a:avLst/>
              </a:prstGeom>
              <a:solidFill>
                <a:srgbClr val="fd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43400" y="4267440"/>
                <a:ext cx="2271240" cy="74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38120" y="4876560"/>
                <a:ext cx="62280" cy="63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6418080" y="4863600"/>
                <a:ext cx="910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6343200" y="4863600"/>
                <a:ext cx="165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58320" y="4952880"/>
                <a:ext cx="2883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814800" y="3581280"/>
                <a:ext cx="517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36200" y="358128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966720" y="3962160"/>
                <a:ext cx="137160" cy="596880"/>
                <a:chOff x="6966720" y="3962160"/>
                <a:chExt cx="137160" cy="5968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66720" y="4165560"/>
                  <a:ext cx="137160" cy="393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036200" y="3962160"/>
                  <a:ext cx="0" cy="19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" name=""/>
            <p:cNvSpPr/>
            <p:nvPr/>
          </p:nvSpPr>
          <p:spPr>
            <a:xfrm>
              <a:off x="515880" y="3048120"/>
              <a:ext cx="3340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Book Antiqua"/>
                </a:rPr>
                <a:t>Injection of Monocl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1480" y="6019920"/>
              <a:ext cx="2657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bb"/>
                  </a:solidFill>
                  <a:latin typeface="Book Antiqua"/>
                </a:rPr>
                <a:t>Day 11: Challe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87840" y="2971800"/>
              <a:ext cx="3441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Book Antiqua"/>
                </a:rPr>
                <a:t>Sensibi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57640" y="6019920"/>
              <a:ext cx="438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bb"/>
                  </a:solidFill>
                  <a:latin typeface="Book Antiqua"/>
                </a:rPr>
                <a:t>Day 12: Measured of infla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2600" y="560376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halle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57880" y="5562720"/>
              <a:ext cx="248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57520" y="533520"/>
              <a:ext cx="52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 Cell Depletion Protoc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669960" y="704880"/>
            <a:ext cx="9007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900900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71480" y="457200"/>
            <a:ext cx="87519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028880" y="990720"/>
            <a:ext cx="8057520" cy="4746600"/>
            <a:chOff x="1028880" y="990720"/>
            <a:chExt cx="8057520" cy="474660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1886040" y="2244960"/>
              <a:ext cx="5953680" cy="34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1028880" y="990720"/>
              <a:ext cx="805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SUMMARY OF DEPLETIONS</a:t>
              </a: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00120" y="762120"/>
            <a:ext cx="9258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itreol induces an Innate inflammatory response, probably mediated by an effect on mitochond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00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The time course of the Specific response shares characteristics with type IV hypersen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CD8 T cells  are the effec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CD4 T cells down regulate the respon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514440" y="304920"/>
            <a:ext cx="9257760" cy="6098400"/>
            <a:chOff x="514440" y="304920"/>
            <a:chExt cx="9257760" cy="6098400"/>
          </a:xfrm>
        </p:grpSpPr>
        <p:sp>
          <p:nvSpPr>
            <p:cNvPr id="464" name=""/>
            <p:cNvSpPr/>
            <p:nvPr/>
          </p:nvSpPr>
          <p:spPr>
            <a:xfrm>
              <a:off x="514440" y="304920"/>
              <a:ext cx="92577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YPOTHETICAL REGULATORY CONTROL MODEL</a:t>
              </a:r>
              <a:r>
                <a:rPr b="1" lang="en-US" sz="2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71360" y="2057400"/>
              <a:ext cx="1285560" cy="152352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00840" y="3657600"/>
              <a:ext cx="1285560" cy="144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6040" y="4495680"/>
              <a:ext cx="1285560" cy="1447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00000" y="12952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CD4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Times New Roman"/>
                </a:rPr>
                <a:t>TH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8640" y="3733560"/>
              <a:ext cx="162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D4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H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14320" y="5943600"/>
              <a:ext cx="21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Regul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72080" y="2666880"/>
              <a:ext cx="175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ffec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D8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457520" y="4572000"/>
              <a:ext cx="2742840" cy="532800"/>
            </a:xfrm>
            <a:prstGeom prst="line">
              <a:avLst/>
            </a:prstGeom>
            <a:ln w="22320">
              <a:solidFill>
                <a:srgbClr val="ccff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57280" y="396216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L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11840" y="5025960"/>
              <a:ext cx="244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ffff"/>
                  </a:solidFill>
                  <a:latin typeface="Times New Roman"/>
                </a:rPr>
                <a:t>Down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sz="2400" spc="-1" strike="noStrike">
                  <a:solidFill>
                    <a:srgbClr val="ffffff"/>
                  </a:solidFill>
                  <a:latin typeface="Times New Roman"/>
                </a:rPr>
                <a:t>Reg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71840" y="2971800"/>
              <a:ext cx="2657520" cy="990000"/>
            </a:xfrm>
            <a:prstGeom prst="line">
              <a:avLst/>
            </a:prstGeom>
            <a:ln w="22320">
              <a:solidFill>
                <a:srgbClr val="ccff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71960" y="1904760"/>
              <a:ext cx="1217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F-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42960" y="3124080"/>
              <a:ext cx="0" cy="1752120"/>
            </a:xfrm>
            <a:prstGeom prst="line">
              <a:avLst/>
            </a:prstGeom>
            <a:ln w="22320">
              <a:solidFill>
                <a:srgbClr val="ccff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600360" y="3047400"/>
              <a:ext cx="0" cy="1828440"/>
            </a:xfrm>
            <a:prstGeom prst="line">
              <a:avLst/>
            </a:prstGeom>
            <a:ln w="22320">
              <a:solidFill>
                <a:srgbClr val="ccff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6160" y="3429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72440" y="35812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ciones de hipersensi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960" y="2133720"/>
            <a:ext cx="8744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Tipo I o Inmediata Mediadas por 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Tipo II Mediada por Anticuerpos citotóx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Tipo III Mediadas por Complejos Inm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Tipo IV Retardada Mediada  células CD4+ Th1 y CD8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458640" y="457200"/>
            <a:ext cx="9387720" cy="5717520"/>
            <a:chOff x="458640" y="457200"/>
            <a:chExt cx="9387720" cy="5717520"/>
          </a:xfrm>
        </p:grpSpPr>
        <p:sp>
          <p:nvSpPr>
            <p:cNvPr id="482" name=""/>
            <p:cNvSpPr/>
            <p:nvPr/>
          </p:nvSpPr>
          <p:spPr>
            <a:xfrm>
              <a:off x="7790040" y="1371600"/>
              <a:ext cx="19036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0f602"/>
                  </a:solidFill>
                  <a:latin typeface="Arial"/>
                </a:rPr>
                <a:t>Pro inflammato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0f602"/>
                  </a:solidFill>
                  <a:latin typeface="Arial"/>
                </a:rPr>
                <a:t>Prote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271160" y="2082960"/>
              <a:ext cx="8161920" cy="176040"/>
              <a:chOff x="1271160" y="2082960"/>
              <a:chExt cx="8161920" cy="1760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1271160" y="2208240"/>
                <a:ext cx="894600" cy="50760"/>
                <a:chOff x="1271160" y="2208240"/>
                <a:chExt cx="894600" cy="507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711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346040" y="2208240"/>
                  <a:ext cx="626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42272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4997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57464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5168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72440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000" y="2208240"/>
                  <a:ext cx="6372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7848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5120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02968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103120" y="2208240"/>
                  <a:ext cx="626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2180160" y="2208240"/>
                <a:ext cx="892440" cy="50760"/>
                <a:chOff x="2180160" y="2208240"/>
                <a:chExt cx="892440" cy="50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1801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25504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328120" y="2208240"/>
                  <a:ext cx="658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40840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48148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5852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3340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70828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7867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8616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937240" y="2208240"/>
                  <a:ext cx="6012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1212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3087360" y="2208240"/>
                <a:ext cx="894240" cy="50760"/>
                <a:chOff x="3087360" y="2208240"/>
                <a:chExt cx="894240" cy="507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08736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640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23892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1380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9264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46572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54420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176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9252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6920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42280" y="2208240"/>
                  <a:ext cx="658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92292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996720" y="2208240"/>
                <a:ext cx="895680" cy="50760"/>
                <a:chOff x="3996720" y="2208240"/>
                <a:chExt cx="895680" cy="50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99672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730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14792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21360" y="2208240"/>
                  <a:ext cx="658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30164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374720" y="2208240"/>
                  <a:ext cx="626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4517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266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60152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6767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75164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83012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4907160" y="2208240"/>
                <a:ext cx="892440" cy="50760"/>
                <a:chOff x="4907160" y="2208240"/>
                <a:chExt cx="892440" cy="507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90716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9802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055120" y="2208240"/>
                  <a:ext cx="626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13216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207040" y="2208240"/>
                  <a:ext cx="640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85520" y="2208240"/>
                  <a:ext cx="5904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5896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3564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510520" y="2208240"/>
                  <a:ext cx="604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585400" y="2208240"/>
                  <a:ext cx="622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62440" y="2208240"/>
                  <a:ext cx="5868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735880" y="2208240"/>
                  <a:ext cx="63720" cy="507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1271160" y="2082960"/>
                <a:ext cx="894600" cy="48960"/>
                <a:chOff x="1271160" y="2082960"/>
                <a:chExt cx="894600" cy="489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2711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346040" y="2082960"/>
                  <a:ext cx="626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2272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4997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7464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65168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72440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800000" y="2082960"/>
                  <a:ext cx="6372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87848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5120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2968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103120" y="2082960"/>
                  <a:ext cx="626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2180160" y="2082960"/>
                <a:ext cx="892440" cy="48960"/>
                <a:chOff x="2180160" y="2082960"/>
                <a:chExt cx="892440" cy="489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21801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25504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328120" y="2082960"/>
                  <a:ext cx="658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40840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48148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55852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3340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828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867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8616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937240" y="2082960"/>
                  <a:ext cx="6012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01212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087360" y="2082960"/>
                <a:ext cx="894240" cy="48960"/>
                <a:chOff x="3087360" y="2082960"/>
                <a:chExt cx="894240" cy="48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308736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640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3892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1380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9264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46572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54420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176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69252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76920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842280" y="2082960"/>
                  <a:ext cx="658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92292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3996720" y="2082960"/>
                <a:ext cx="895680" cy="48960"/>
                <a:chOff x="3996720" y="2082960"/>
                <a:chExt cx="895680" cy="489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399672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730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14792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221360" y="2082960"/>
                  <a:ext cx="658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30164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374720" y="2082960"/>
                  <a:ext cx="626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4517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5266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60152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6767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5164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83012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4907160" y="2082960"/>
                <a:ext cx="892440" cy="48960"/>
                <a:chOff x="4907160" y="2082960"/>
                <a:chExt cx="892440" cy="489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90716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9802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55120" y="2082960"/>
                  <a:ext cx="626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13216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07040" y="2082960"/>
                  <a:ext cx="640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85520" y="2082960"/>
                  <a:ext cx="5904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5896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43564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510520" y="2082960"/>
                  <a:ext cx="604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585400" y="2082960"/>
                  <a:ext cx="622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662440" y="2082960"/>
                  <a:ext cx="5868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35880" y="2082960"/>
                  <a:ext cx="63720" cy="48960"/>
                </a:xfrm>
                <a:prstGeom prst="ellipse">
                  <a:avLst/>
                </a:prstGeom>
                <a:solidFill>
                  <a:srgbClr val="7144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581472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8960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6628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03972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14600" y="2208240"/>
                <a:ext cx="626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9164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6832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4500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1844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9512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7000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4704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2372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9716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73840" y="2208240"/>
                <a:ext cx="6012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4872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2540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0064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17552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52200" y="2208240"/>
                <a:ext cx="626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2924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0232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7900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55424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29120" y="2208240"/>
                <a:ext cx="640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07960" y="2208240"/>
                <a:ext cx="586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781040" y="2208240"/>
                <a:ext cx="6372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59880" y="2208240"/>
                <a:ext cx="586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932960" y="2208240"/>
                <a:ext cx="6012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00784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08452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157960" y="2208240"/>
                <a:ext cx="658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238600" y="2208240"/>
                <a:ext cx="586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11320" y="2208240"/>
                <a:ext cx="626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38836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46324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1472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8960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6628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3972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114600" y="2082960"/>
                <a:ext cx="626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19164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6832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4500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844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9512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57000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4704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2372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9716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873840" y="2082960"/>
                <a:ext cx="6012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4872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2540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0064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7552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52200" y="2082960"/>
                <a:ext cx="626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2924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0232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47900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55424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29120" y="2082960"/>
                <a:ext cx="640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07960" y="2082960"/>
                <a:ext cx="586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781040" y="2082960"/>
                <a:ext cx="6372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859880" y="2082960"/>
                <a:ext cx="586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932960" y="2082960"/>
                <a:ext cx="6012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0784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8452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157960" y="2082960"/>
                <a:ext cx="658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38600" y="2082960"/>
                <a:ext cx="586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311320" y="2082960"/>
                <a:ext cx="626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38836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6324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536680" y="2208240"/>
                <a:ext cx="658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61660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90040" y="2208240"/>
                <a:ext cx="626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6708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84196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916840" y="2208240"/>
                <a:ext cx="626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993880" y="2208240"/>
                <a:ext cx="604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06876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145800" y="2208240"/>
                <a:ext cx="622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22212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295560" y="2208240"/>
                <a:ext cx="6408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9374040" y="2208240"/>
                <a:ext cx="59040" cy="507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536680" y="2082960"/>
                <a:ext cx="658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61660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690040" y="2082960"/>
                <a:ext cx="626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76708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84196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916840" y="2082960"/>
                <a:ext cx="626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93880" y="2082960"/>
                <a:ext cx="604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06876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145800" y="2082960"/>
                <a:ext cx="622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922212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295560" y="2082960"/>
                <a:ext cx="6408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374040" y="2082960"/>
                <a:ext cx="59040" cy="48960"/>
              </a:xfrm>
              <a:prstGeom prst="ellipse">
                <a:avLst/>
              </a:prstGeom>
              <a:solidFill>
                <a:srgbClr val="7144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8754480" y="1905120"/>
              <a:ext cx="1800" cy="730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82880" y="2514600"/>
              <a:ext cx="10731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01680" y="498780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5943960" y="4724280"/>
              <a:ext cx="1203840" cy="1048320"/>
              <a:chOff x="5943960" y="4724280"/>
              <a:chExt cx="1203840" cy="1048320"/>
            </a:xfrm>
          </p:grpSpPr>
          <p:sp>
            <p:nvSpPr>
              <p:cNvPr id="714" name=""/>
              <p:cNvSpPr/>
              <p:nvPr/>
            </p:nvSpPr>
            <p:spPr>
              <a:xfrm>
                <a:off x="6553800" y="5567400"/>
                <a:ext cx="139320" cy="19512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350400" y="5648400"/>
                <a:ext cx="189000" cy="114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53800" y="4956120"/>
                <a:ext cx="139320" cy="190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50400" y="5037120"/>
                <a:ext cx="189000" cy="109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00440" y="5159520"/>
                <a:ext cx="292680" cy="107640"/>
              </a:xfrm>
              <a:prstGeom prst="octagon">
                <a:avLst>
                  <a:gd name="adj" fmla="val 29282"/>
                </a:avLst>
              </a:prstGeom>
              <a:solidFill>
                <a:srgbClr val="6e004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46960" y="5330880"/>
                <a:ext cx="0" cy="217440"/>
              </a:xfrm>
              <a:prstGeom prst="line">
                <a:avLst/>
              </a:prstGeom>
              <a:ln w="25560">
                <a:solidFill>
                  <a:srgbClr val="f0f60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07520" y="5241960"/>
                <a:ext cx="3600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29760" y="5181480"/>
                <a:ext cx="300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59880" y="4724280"/>
                <a:ext cx="48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38760" y="5470560"/>
                <a:ext cx="48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6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43960" y="5429160"/>
                <a:ext cx="48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60000" y="4871880"/>
                <a:ext cx="48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6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2825640" y="2286000"/>
              <a:ext cx="1164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0f602"/>
                  </a:solidFill>
                  <a:latin typeface="Times New Roman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3953160" y="457200"/>
              <a:ext cx="3771720" cy="914040"/>
              <a:chOff x="3953160" y="457200"/>
              <a:chExt cx="3771720" cy="914040"/>
            </a:xfrm>
          </p:grpSpPr>
          <p:sp>
            <p:nvSpPr>
              <p:cNvPr id="728" name=""/>
              <p:cNvSpPr/>
              <p:nvPr/>
            </p:nvSpPr>
            <p:spPr>
              <a:xfrm flipH="1">
                <a:off x="3953160" y="950760"/>
                <a:ext cx="233640" cy="90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4168800" y="938160"/>
                <a:ext cx="246600" cy="122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395960" y="1041480"/>
                <a:ext cx="0" cy="231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187160" y="1250640"/>
                <a:ext cx="20196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969000" y="1265400"/>
                <a:ext cx="208800" cy="91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962160" y="1055520"/>
                <a:ext cx="0" cy="203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4178160" y="795240"/>
                <a:ext cx="0" cy="163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4404960" y="969840"/>
                <a:ext cx="132120" cy="85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04960" y="1265400"/>
                <a:ext cx="214200" cy="95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4626360" y="1250640"/>
                <a:ext cx="207360" cy="120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849560" y="1265400"/>
                <a:ext cx="214560" cy="95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071320" y="1250640"/>
                <a:ext cx="207360" cy="120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91280" y="1265400"/>
                <a:ext cx="215640" cy="95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515920" y="1250640"/>
                <a:ext cx="205200" cy="120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37320" y="1265400"/>
                <a:ext cx="216000" cy="95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960520" y="1250640"/>
                <a:ext cx="205200" cy="120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80480" y="1265400"/>
                <a:ext cx="214200" cy="95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6405480" y="1242720"/>
                <a:ext cx="187200" cy="128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6891480" y="1250640"/>
                <a:ext cx="612000" cy="120600"/>
                <a:chOff x="6891480" y="1250640"/>
                <a:chExt cx="612000" cy="1206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6891480" y="1257120"/>
                  <a:ext cx="168840" cy="104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7067520" y="1250640"/>
                  <a:ext cx="206280" cy="120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288920" y="1265040"/>
                  <a:ext cx="214560" cy="95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" name=""/>
              <p:cNvSpPr/>
              <p:nvPr/>
            </p:nvSpPr>
            <p:spPr>
              <a:xfrm>
                <a:off x="4029840" y="1030320"/>
                <a:ext cx="290880" cy="2412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10680" y="125100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610680" y="1297080"/>
                <a:ext cx="27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487640" y="1255680"/>
                <a:ext cx="237240" cy="92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467600" y="706320"/>
                <a:ext cx="52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85560" y="457200"/>
                <a:ext cx="52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5724000" y="4681440"/>
              <a:ext cx="304920" cy="222480"/>
            </a:xfrm>
            <a:prstGeom prst="line">
              <a:avLst/>
            </a:prstGeom>
            <a:ln w="38160">
              <a:solidFill>
                <a:srgbClr val="f0f6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6354720" y="4799880"/>
              <a:ext cx="1713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57240" y="3768480"/>
              <a:ext cx="9720" cy="325440"/>
            </a:xfrm>
            <a:prstGeom prst="line">
              <a:avLst/>
            </a:prstGeom>
            <a:ln w="38160">
              <a:solidFill>
                <a:srgbClr val="f0f6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4530600" y="3962520"/>
              <a:ext cx="1393920" cy="1003320"/>
              <a:chOff x="4530600" y="3962520"/>
              <a:chExt cx="1393920" cy="1003320"/>
            </a:xfrm>
          </p:grpSpPr>
          <p:sp>
            <p:nvSpPr>
              <p:cNvPr id="760" name=""/>
              <p:cNvSpPr/>
              <p:nvPr/>
            </p:nvSpPr>
            <p:spPr>
              <a:xfrm>
                <a:off x="5537520" y="4289400"/>
                <a:ext cx="6408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85600" y="4915080"/>
                <a:ext cx="6408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16000" y="4853160"/>
                <a:ext cx="58680" cy="489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16000" y="4602240"/>
                <a:ext cx="5868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10800" y="4118040"/>
                <a:ext cx="63720" cy="493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40640" y="4540320"/>
                <a:ext cx="59040" cy="493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30480" y="4151160"/>
                <a:ext cx="63720" cy="493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9080" y="4194000"/>
                <a:ext cx="60480" cy="493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67720" y="4575240"/>
                <a:ext cx="6408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30600" y="4403880"/>
                <a:ext cx="58680" cy="475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4749840" y="4464000"/>
                <a:ext cx="60120" cy="237960"/>
                <a:chOff x="4749840" y="4464000"/>
                <a:chExt cx="60120" cy="23796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749840" y="4464000"/>
                  <a:ext cx="60120" cy="4932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49840" y="4651200"/>
                  <a:ext cx="60120" cy="5076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982040" y="3962520"/>
                <a:ext cx="6264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08840" y="3962520"/>
                <a:ext cx="62640" cy="5076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680360" y="4276800"/>
                <a:ext cx="60480" cy="5220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726520" y="4359240"/>
                <a:ext cx="60480" cy="49320"/>
              </a:xfrm>
              <a:prstGeom prst="star5">
                <a:avLst/>
              </a:prstGeom>
              <a:solidFill>
                <a:srgbClr val="618ffd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4835880" y="4191120"/>
                <a:ext cx="1088640" cy="739800"/>
                <a:chOff x="4835880" y="4191120"/>
                <a:chExt cx="1088640" cy="7398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455080" y="4380120"/>
                  <a:ext cx="64080" cy="4932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864040" y="4422960"/>
                  <a:ext cx="60480" cy="4932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692320" y="4803840"/>
                  <a:ext cx="64080" cy="5112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155200" y="4632480"/>
                  <a:ext cx="59040" cy="4788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5374440" y="4692960"/>
                  <a:ext cx="60120" cy="237960"/>
                  <a:chOff x="5374440" y="4692960"/>
                  <a:chExt cx="60120" cy="23796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5374440" y="4692960"/>
                    <a:ext cx="60120" cy="49320"/>
                  </a:xfrm>
                  <a:prstGeom prst="star5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5374440" y="4880160"/>
                    <a:ext cx="60120" cy="50760"/>
                  </a:xfrm>
                  <a:prstGeom prst="star5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" name=""/>
                <p:cNvSpPr/>
                <p:nvPr/>
              </p:nvSpPr>
              <p:spPr>
                <a:xfrm>
                  <a:off x="4835880" y="4254840"/>
                  <a:ext cx="60480" cy="5076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07000" y="4191120"/>
                  <a:ext cx="62280" cy="5076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833440" y="4191120"/>
                  <a:ext cx="62280" cy="5076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04960" y="4505400"/>
                  <a:ext cx="60480" cy="52560"/>
                </a:xfrm>
                <a:prstGeom prst="star5">
                  <a:avLst/>
                </a:prstGeom>
                <a:solidFill>
                  <a:srgbClr val="618ffd"/>
                </a:solidFill>
                <a:ln w="1260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4816440" y="4241880"/>
                <a:ext cx="78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</a:rPr>
                  <a:t>¿ROS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7358040" y="3443400"/>
              <a:ext cx="2119680" cy="17380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408080" y="3505320"/>
              <a:ext cx="1959120" cy="16160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77600" y="4718160"/>
              <a:ext cx="58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849440" y="3824280"/>
              <a:ext cx="283680" cy="42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44320" y="396252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82158"/>
                  </a:solidFill>
                  <a:latin typeface="Arial"/>
                </a:rPr>
                <a:t>p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28160" y="4079880"/>
              <a:ext cx="81720" cy="22392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99280" y="4175280"/>
              <a:ext cx="119880" cy="128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121240" y="3824280"/>
              <a:ext cx="48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82158"/>
                  </a:solidFill>
                  <a:latin typeface="Arial"/>
                </a:rPr>
                <a:t>p6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99280" y="4373640"/>
              <a:ext cx="6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99280" y="4309920"/>
              <a:ext cx="68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143920" y="430344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342280" y="430344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440200" y="430344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538840" y="4316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638560" y="4316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42200" y="4316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736840" y="431640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91960" y="4191120"/>
              <a:ext cx="18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95560" y="4184640"/>
              <a:ext cx="33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79360" y="4419720"/>
              <a:ext cx="179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Inflammatory G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29480" y="4572000"/>
              <a:ext cx="1542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082158"/>
                  </a:solidFill>
                  <a:latin typeface="Arial"/>
                </a:rPr>
                <a:t>Nucle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754480" y="3308400"/>
              <a:ext cx="1800" cy="7300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54200" y="2792520"/>
              <a:ext cx="189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Protein Synthe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82040" y="413064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Prote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153160" y="5486400"/>
              <a:ext cx="1542960" cy="688320"/>
              <a:chOff x="2153160" y="5486400"/>
              <a:chExt cx="1542960" cy="688320"/>
            </a:xfrm>
          </p:grpSpPr>
          <p:sp>
            <p:nvSpPr>
              <p:cNvPr id="815" name=""/>
              <p:cNvSpPr/>
              <p:nvPr/>
            </p:nvSpPr>
            <p:spPr>
              <a:xfrm>
                <a:off x="2160000" y="5867640"/>
                <a:ext cx="1456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Times New Roman"/>
                  </a:rPr>
                  <a:t>PROTEOSO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153160" y="5486400"/>
                <a:ext cx="1542960" cy="381240"/>
              </a:xfrm>
              <a:prstGeom prst="flowChartMagneticDrum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458640" y="4789440"/>
              <a:ext cx="149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mmunoge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Pept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524160" y="3429000"/>
              <a:ext cx="1799640" cy="914400"/>
              <a:chOff x="524160" y="3429000"/>
              <a:chExt cx="1799640" cy="914400"/>
            </a:xfrm>
          </p:grpSpPr>
          <p:sp>
            <p:nvSpPr>
              <p:cNvPr id="819" name=""/>
              <p:cNvSpPr/>
              <p:nvPr/>
            </p:nvSpPr>
            <p:spPr>
              <a:xfrm>
                <a:off x="524160" y="3657600"/>
                <a:ext cx="1199880" cy="1522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124280" y="3429000"/>
                <a:ext cx="1028520" cy="763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6880" y="3886200"/>
                <a:ext cx="1456920" cy="4572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OLG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653640" y="3162240"/>
              <a:ext cx="728640" cy="876240"/>
            </a:xfrm>
            <a:custGeom>
              <a:avLst/>
              <a:gdLst/>
              <a:ahLst/>
              <a:rect l="l" t="t" r="r" b="b"/>
              <a:pathLst>
                <a:path w="408" h="552">
                  <a:moveTo>
                    <a:pt x="408" y="24"/>
                  </a:moveTo>
                  <a:cubicBezTo>
                    <a:pt x="320" y="12"/>
                    <a:pt x="232" y="0"/>
                    <a:pt x="168" y="24"/>
                  </a:cubicBezTo>
                  <a:cubicBezTo>
                    <a:pt x="104" y="48"/>
                    <a:pt x="48" y="80"/>
                    <a:pt x="24" y="168"/>
                  </a:cubicBezTo>
                  <a:cubicBezTo>
                    <a:pt x="0" y="256"/>
                    <a:pt x="12" y="404"/>
                    <a:pt x="24" y="552"/>
                  </a:cubicBezTo>
                </a:path>
              </a:pathLst>
            </a:custGeom>
            <a:noFill/>
            <a:ln w="57240">
              <a:solidFill>
                <a:srgbClr val="ff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53520" y="4648320"/>
              <a:ext cx="99720" cy="1066680"/>
            </a:xfrm>
            <a:custGeom>
              <a:avLst/>
              <a:gdLst/>
              <a:ahLst/>
              <a:rect l="l" t="t" r="r" b="b"/>
              <a:pathLst>
                <a:path w="56" h="672">
                  <a:moveTo>
                    <a:pt x="48" y="0"/>
                  </a:moveTo>
                  <a:cubicBezTo>
                    <a:pt x="48" y="168"/>
                    <a:pt x="48" y="336"/>
                    <a:pt x="48" y="432"/>
                  </a:cubicBezTo>
                  <a:cubicBezTo>
                    <a:pt x="48" y="528"/>
                    <a:pt x="56" y="536"/>
                    <a:pt x="48" y="576"/>
                  </a:cubicBezTo>
                  <a:cubicBezTo>
                    <a:pt x="40" y="616"/>
                    <a:pt x="16" y="656"/>
                    <a:pt x="0" y="672"/>
                  </a:cubicBezTo>
                </a:path>
              </a:pathLst>
            </a:custGeom>
            <a:noFill/>
            <a:ln w="38160">
              <a:solidFill>
                <a:srgbClr val="ff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63440" y="2745720"/>
              <a:ext cx="25560" cy="5202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53040" y="5334120"/>
              <a:ext cx="51408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192"/>
                  </a:moveTo>
                  <a:cubicBezTo>
                    <a:pt x="192" y="184"/>
                    <a:pt x="96" y="176"/>
                    <a:pt x="48" y="144"/>
                  </a:cubicBezTo>
                  <a:cubicBezTo>
                    <a:pt x="0" y="112"/>
                    <a:pt x="8" y="24"/>
                    <a:pt x="0" y="0"/>
                  </a:cubicBezTo>
                </a:path>
              </a:pathLst>
            </a:custGeom>
            <a:noFill/>
            <a:ln w="38160">
              <a:solidFill>
                <a:srgbClr val="ff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4554000" y="2743200"/>
              <a:ext cx="1676880" cy="946080"/>
              <a:chOff x="4554000" y="2743200"/>
              <a:chExt cx="1676880" cy="946080"/>
            </a:xfrm>
          </p:grpSpPr>
          <p:sp>
            <p:nvSpPr>
              <p:cNvPr id="827" name=""/>
              <p:cNvSpPr/>
              <p:nvPr/>
            </p:nvSpPr>
            <p:spPr>
              <a:xfrm>
                <a:off x="4554000" y="2743200"/>
                <a:ext cx="1676880" cy="946080"/>
              </a:xfrm>
              <a:prstGeom prst="ellipse">
                <a:avLst/>
              </a:prstGeom>
              <a:solidFill>
                <a:srgbClr val="ff0000"/>
              </a:solidFill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10880" y="2870280"/>
                <a:ext cx="1428840" cy="761760"/>
              </a:xfrm>
              <a:custGeom>
                <a:avLst/>
                <a:gdLst/>
                <a:ahLst/>
                <a:rect l="l" t="t" r="r" b="b"/>
                <a:pathLst>
                  <a:path w="800" h="480">
                    <a:moveTo>
                      <a:pt x="64" y="112"/>
                    </a:moveTo>
                    <a:cubicBezTo>
                      <a:pt x="80" y="112"/>
                      <a:pt x="96" y="152"/>
                      <a:pt x="112" y="160"/>
                    </a:cubicBezTo>
                    <a:cubicBezTo>
                      <a:pt x="128" y="168"/>
                      <a:pt x="152" y="168"/>
                      <a:pt x="160" y="160"/>
                    </a:cubicBezTo>
                    <a:cubicBezTo>
                      <a:pt x="168" y="152"/>
                      <a:pt x="160" y="128"/>
                      <a:pt x="160" y="112"/>
                    </a:cubicBezTo>
                    <a:cubicBezTo>
                      <a:pt x="160" y="96"/>
                      <a:pt x="152" y="72"/>
                      <a:pt x="160" y="64"/>
                    </a:cubicBezTo>
                    <a:cubicBezTo>
                      <a:pt x="168" y="56"/>
                      <a:pt x="200" y="56"/>
                      <a:pt x="208" y="64"/>
                    </a:cubicBezTo>
                    <a:cubicBezTo>
                      <a:pt x="216" y="72"/>
                      <a:pt x="200" y="96"/>
                      <a:pt x="208" y="112"/>
                    </a:cubicBezTo>
                    <a:cubicBezTo>
                      <a:pt x="216" y="128"/>
                      <a:pt x="240" y="160"/>
                      <a:pt x="256" y="160"/>
                    </a:cubicBezTo>
                    <a:cubicBezTo>
                      <a:pt x="272" y="160"/>
                      <a:pt x="296" y="136"/>
                      <a:pt x="304" y="112"/>
                    </a:cubicBezTo>
                    <a:cubicBezTo>
                      <a:pt x="312" y="88"/>
                      <a:pt x="296" y="32"/>
                      <a:pt x="304" y="16"/>
                    </a:cubicBezTo>
                    <a:cubicBezTo>
                      <a:pt x="312" y="0"/>
                      <a:pt x="336" y="0"/>
                      <a:pt x="352" y="16"/>
                    </a:cubicBezTo>
                    <a:cubicBezTo>
                      <a:pt x="368" y="32"/>
                      <a:pt x="384" y="96"/>
                      <a:pt x="400" y="112"/>
                    </a:cubicBezTo>
                    <a:cubicBezTo>
                      <a:pt x="416" y="128"/>
                      <a:pt x="440" y="128"/>
                      <a:pt x="448" y="112"/>
                    </a:cubicBezTo>
                    <a:cubicBezTo>
                      <a:pt x="456" y="96"/>
                      <a:pt x="440" y="32"/>
                      <a:pt x="448" y="16"/>
                    </a:cubicBezTo>
                    <a:cubicBezTo>
                      <a:pt x="456" y="0"/>
                      <a:pt x="488" y="8"/>
                      <a:pt x="496" y="16"/>
                    </a:cubicBezTo>
                    <a:cubicBezTo>
                      <a:pt x="504" y="24"/>
                      <a:pt x="480" y="56"/>
                      <a:pt x="496" y="64"/>
                    </a:cubicBezTo>
                    <a:cubicBezTo>
                      <a:pt x="512" y="72"/>
                      <a:pt x="576" y="72"/>
                      <a:pt x="592" y="64"/>
                    </a:cubicBezTo>
                    <a:cubicBezTo>
                      <a:pt x="608" y="56"/>
                      <a:pt x="584" y="24"/>
                      <a:pt x="592" y="16"/>
                    </a:cubicBezTo>
                    <a:cubicBezTo>
                      <a:pt x="600" y="8"/>
                      <a:pt x="632" y="8"/>
                      <a:pt x="640" y="16"/>
                    </a:cubicBezTo>
                    <a:cubicBezTo>
                      <a:pt x="648" y="24"/>
                      <a:pt x="648" y="40"/>
                      <a:pt x="640" y="64"/>
                    </a:cubicBezTo>
                    <a:cubicBezTo>
                      <a:pt x="632" y="88"/>
                      <a:pt x="592" y="144"/>
                      <a:pt x="592" y="160"/>
                    </a:cubicBezTo>
                    <a:cubicBezTo>
                      <a:pt x="592" y="176"/>
                      <a:pt x="616" y="168"/>
                      <a:pt x="640" y="160"/>
                    </a:cubicBezTo>
                    <a:cubicBezTo>
                      <a:pt x="664" y="152"/>
                      <a:pt x="712" y="120"/>
                      <a:pt x="736" y="112"/>
                    </a:cubicBezTo>
                    <a:cubicBezTo>
                      <a:pt x="760" y="104"/>
                      <a:pt x="776" y="104"/>
                      <a:pt x="784" y="112"/>
                    </a:cubicBezTo>
                    <a:cubicBezTo>
                      <a:pt x="792" y="120"/>
                      <a:pt x="792" y="152"/>
                      <a:pt x="784" y="160"/>
                    </a:cubicBezTo>
                    <a:cubicBezTo>
                      <a:pt x="776" y="168"/>
                      <a:pt x="760" y="152"/>
                      <a:pt x="736" y="160"/>
                    </a:cubicBezTo>
                    <a:cubicBezTo>
                      <a:pt x="712" y="168"/>
                      <a:pt x="656" y="192"/>
                      <a:pt x="640" y="208"/>
                    </a:cubicBezTo>
                    <a:cubicBezTo>
                      <a:pt x="624" y="224"/>
                      <a:pt x="624" y="256"/>
                      <a:pt x="640" y="256"/>
                    </a:cubicBezTo>
                    <a:cubicBezTo>
                      <a:pt x="656" y="256"/>
                      <a:pt x="712" y="208"/>
                      <a:pt x="736" y="208"/>
                    </a:cubicBezTo>
                    <a:cubicBezTo>
                      <a:pt x="760" y="208"/>
                      <a:pt x="776" y="232"/>
                      <a:pt x="784" y="256"/>
                    </a:cubicBezTo>
                    <a:cubicBezTo>
                      <a:pt x="792" y="280"/>
                      <a:pt x="800" y="344"/>
                      <a:pt x="784" y="352"/>
                    </a:cubicBezTo>
                    <a:cubicBezTo>
                      <a:pt x="768" y="360"/>
                      <a:pt x="712" y="312"/>
                      <a:pt x="688" y="304"/>
                    </a:cubicBezTo>
                    <a:cubicBezTo>
                      <a:pt x="664" y="296"/>
                      <a:pt x="648" y="296"/>
                      <a:pt x="640" y="304"/>
                    </a:cubicBezTo>
                    <a:cubicBezTo>
                      <a:pt x="632" y="312"/>
                      <a:pt x="632" y="344"/>
                      <a:pt x="640" y="352"/>
                    </a:cubicBezTo>
                    <a:cubicBezTo>
                      <a:pt x="648" y="360"/>
                      <a:pt x="672" y="344"/>
                      <a:pt x="688" y="352"/>
                    </a:cubicBezTo>
                    <a:cubicBezTo>
                      <a:pt x="704" y="360"/>
                      <a:pt x="744" y="384"/>
                      <a:pt x="736" y="400"/>
                    </a:cubicBezTo>
                    <a:cubicBezTo>
                      <a:pt x="728" y="416"/>
                      <a:pt x="656" y="448"/>
                      <a:pt x="640" y="448"/>
                    </a:cubicBezTo>
                    <a:cubicBezTo>
                      <a:pt x="624" y="448"/>
                      <a:pt x="648" y="424"/>
                      <a:pt x="640" y="400"/>
                    </a:cubicBezTo>
                    <a:cubicBezTo>
                      <a:pt x="632" y="376"/>
                      <a:pt x="608" y="320"/>
                      <a:pt x="592" y="304"/>
                    </a:cubicBezTo>
                    <a:cubicBezTo>
                      <a:pt x="576" y="288"/>
                      <a:pt x="552" y="280"/>
                      <a:pt x="544" y="304"/>
                    </a:cubicBezTo>
                    <a:cubicBezTo>
                      <a:pt x="536" y="328"/>
                      <a:pt x="552" y="424"/>
                      <a:pt x="544" y="448"/>
                    </a:cubicBezTo>
                    <a:cubicBezTo>
                      <a:pt x="536" y="472"/>
                      <a:pt x="504" y="480"/>
                      <a:pt x="496" y="448"/>
                    </a:cubicBezTo>
                    <a:cubicBezTo>
                      <a:pt x="488" y="416"/>
                      <a:pt x="504" y="288"/>
                      <a:pt x="496" y="256"/>
                    </a:cubicBezTo>
                    <a:cubicBezTo>
                      <a:pt x="488" y="224"/>
                      <a:pt x="456" y="232"/>
                      <a:pt x="448" y="256"/>
                    </a:cubicBezTo>
                    <a:cubicBezTo>
                      <a:pt x="440" y="280"/>
                      <a:pt x="456" y="376"/>
                      <a:pt x="448" y="400"/>
                    </a:cubicBezTo>
                    <a:cubicBezTo>
                      <a:pt x="440" y="424"/>
                      <a:pt x="408" y="424"/>
                      <a:pt x="400" y="400"/>
                    </a:cubicBezTo>
                    <a:cubicBezTo>
                      <a:pt x="392" y="376"/>
                      <a:pt x="408" y="280"/>
                      <a:pt x="400" y="256"/>
                    </a:cubicBezTo>
                    <a:cubicBezTo>
                      <a:pt x="392" y="232"/>
                      <a:pt x="368" y="232"/>
                      <a:pt x="352" y="256"/>
                    </a:cubicBezTo>
                    <a:cubicBezTo>
                      <a:pt x="336" y="280"/>
                      <a:pt x="320" y="376"/>
                      <a:pt x="304" y="400"/>
                    </a:cubicBezTo>
                    <a:cubicBezTo>
                      <a:pt x="288" y="424"/>
                      <a:pt x="264" y="408"/>
                      <a:pt x="256" y="400"/>
                    </a:cubicBezTo>
                    <a:cubicBezTo>
                      <a:pt x="248" y="392"/>
                      <a:pt x="256" y="368"/>
                      <a:pt x="256" y="352"/>
                    </a:cubicBezTo>
                    <a:cubicBezTo>
                      <a:pt x="256" y="336"/>
                      <a:pt x="264" y="320"/>
                      <a:pt x="256" y="304"/>
                    </a:cubicBezTo>
                    <a:cubicBezTo>
                      <a:pt x="248" y="288"/>
                      <a:pt x="224" y="248"/>
                      <a:pt x="208" y="256"/>
                    </a:cubicBezTo>
                    <a:cubicBezTo>
                      <a:pt x="192" y="264"/>
                      <a:pt x="184" y="336"/>
                      <a:pt x="160" y="352"/>
                    </a:cubicBezTo>
                    <a:cubicBezTo>
                      <a:pt x="136" y="368"/>
                      <a:pt x="72" y="360"/>
                      <a:pt x="64" y="352"/>
                    </a:cubicBezTo>
                    <a:cubicBezTo>
                      <a:pt x="56" y="344"/>
                      <a:pt x="96" y="320"/>
                      <a:pt x="112" y="304"/>
                    </a:cubicBezTo>
                    <a:cubicBezTo>
                      <a:pt x="128" y="288"/>
                      <a:pt x="160" y="272"/>
                      <a:pt x="160" y="256"/>
                    </a:cubicBezTo>
                    <a:cubicBezTo>
                      <a:pt x="160" y="240"/>
                      <a:pt x="136" y="216"/>
                      <a:pt x="112" y="208"/>
                    </a:cubicBezTo>
                    <a:cubicBezTo>
                      <a:pt x="88" y="200"/>
                      <a:pt x="32" y="216"/>
                      <a:pt x="16" y="208"/>
                    </a:cubicBezTo>
                    <a:cubicBezTo>
                      <a:pt x="0" y="200"/>
                      <a:pt x="8" y="176"/>
                      <a:pt x="16" y="160"/>
                    </a:cubicBezTo>
                    <a:cubicBezTo>
                      <a:pt x="24" y="144"/>
                      <a:pt x="48" y="112"/>
                      <a:pt x="64" y="1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1542240" y="4344840"/>
              <a:ext cx="25200" cy="5198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592920" y="990720"/>
              <a:ext cx="1902600" cy="1447560"/>
              <a:chOff x="592920" y="990720"/>
              <a:chExt cx="1902600" cy="144756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1895760" y="1599840"/>
                <a:ext cx="599760" cy="838440"/>
                <a:chOff x="1895760" y="1599840"/>
                <a:chExt cx="599760" cy="8384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067120" y="1981080"/>
                  <a:ext cx="0" cy="45720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324520" y="1981080"/>
                  <a:ext cx="0" cy="45720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flipV="1">
                  <a:off x="1895760" y="1904760"/>
                  <a:ext cx="171000" cy="7596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1896120" y="1599840"/>
                  <a:ext cx="0" cy="30492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896120" y="1600200"/>
                  <a:ext cx="171000" cy="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2067120" y="1599840"/>
                  <a:ext cx="256680" cy="228960"/>
                  <a:chOff x="2067120" y="1599840"/>
                  <a:chExt cx="256680" cy="22896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2067120" y="1600200"/>
                    <a:ext cx="171000" cy="228600"/>
                  </a:xfrm>
                  <a:prstGeom prst="line">
                    <a:avLst/>
                  </a:prstGeom>
                  <a:ln w="57240">
                    <a:solidFill>
                      <a:srgbClr val="618ff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V="1">
                    <a:off x="2238120" y="1599840"/>
                    <a:ext cx="85680" cy="228600"/>
                  </a:xfrm>
                  <a:prstGeom prst="line">
                    <a:avLst/>
                  </a:prstGeom>
                  <a:ln w="57240">
                    <a:solidFill>
                      <a:srgbClr val="618ff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0" name=""/>
                <p:cNvSpPr/>
                <p:nvPr/>
              </p:nvSpPr>
              <p:spPr>
                <a:xfrm>
                  <a:off x="2324520" y="1600200"/>
                  <a:ext cx="171000" cy="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2495520" y="1599840"/>
                  <a:ext cx="0" cy="304920"/>
                </a:xfrm>
                <a:prstGeom prst="line">
                  <a:avLst/>
                </a:prstGeom>
                <a:ln w="5724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592920" y="1193760"/>
                <a:ext cx="1407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Times New Roman"/>
                  </a:rPr>
                  <a:t>Class I MHC</a:t>
                </a:r>
                <a:r>
                  <a:rPr b="1" lang="en-US" sz="1600" spc="-1" strike="noStrike">
                    <a:solidFill>
                      <a:srgbClr val="fafd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1981440" y="990720"/>
                <a:ext cx="428400" cy="685800"/>
                <a:chOff x="1981440" y="990720"/>
                <a:chExt cx="428400" cy="6858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1981440" y="990720"/>
                  <a:ext cx="428400" cy="457200"/>
                </a:xfrm>
                <a:prstGeom prst="rect">
                  <a:avLst/>
                </a:prstGeom>
                <a:solidFill>
                  <a:srgbClr val="f0f6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2067120" y="1447560"/>
                  <a:ext cx="256680" cy="228960"/>
                  <a:chOff x="2067120" y="1447560"/>
                  <a:chExt cx="256680" cy="22896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2067120" y="1447920"/>
                    <a:ext cx="171000" cy="228600"/>
                  </a:xfrm>
                  <a:prstGeom prst="line">
                    <a:avLst/>
                  </a:prstGeom>
                  <a:ln w="57240">
                    <a:solidFill>
                      <a:srgbClr val="f0f60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V="1">
                    <a:off x="2238120" y="1447560"/>
                    <a:ext cx="85680" cy="228600"/>
                  </a:xfrm>
                  <a:prstGeom prst="line">
                    <a:avLst/>
                  </a:prstGeom>
                  <a:ln w="57240">
                    <a:solidFill>
                      <a:srgbClr val="f0f60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8" name=""/>
                <p:cNvSpPr/>
                <p:nvPr/>
              </p:nvSpPr>
              <p:spPr>
                <a:xfrm>
                  <a:off x="2067120" y="1447920"/>
                  <a:ext cx="257040" cy="0"/>
                </a:xfrm>
                <a:prstGeom prst="line">
                  <a:avLst/>
                </a:prstGeom>
                <a:ln w="38160">
                  <a:solidFill>
                    <a:srgbClr val="f0f6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9" name=""/>
            <p:cNvSpPr/>
            <p:nvPr/>
          </p:nvSpPr>
          <p:spPr>
            <a:xfrm flipV="1">
              <a:off x="5392080" y="1750680"/>
              <a:ext cx="18000" cy="7318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Times New Roman"/>
              </a:rPr>
              <a:t>Las reacciones de Hipersensibilidad Tipo IV son mediadas por TH1 y CD8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55680" y="1773360"/>
          <a:ext cx="777240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73360"/>
                    <a:ext cx="777240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0120" y="762120"/>
            <a:ext cx="8915400" cy="74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Urushiols cause severe contact dermatitis in wide areas of the wor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Urushiols are a family of catecholic compounds that differ in the length of the aliphatic cha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Urushiols are pro-electrophilic hapt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The activity of urushiols increases with the degree of saturation of the aliphatic chai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85920" y="304920"/>
            <a:ext cx="7588080" cy="5581440"/>
            <a:chOff x="1285920" y="304920"/>
            <a:chExt cx="7588080" cy="558144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438280" y="1447920"/>
              <a:ext cx="5437440" cy="44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285920" y="304920"/>
              <a:ext cx="75880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600" spc="-1" strike="noStrike">
                  <a:solidFill>
                    <a:srgbClr val="fafd00"/>
                  </a:solidFill>
                  <a:latin typeface="Times New Roman"/>
                </a:rPr>
                <a:t>Contact  Dernatitis Induced in a Child Exposed to Litreo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82560" y="609480"/>
            <a:ext cx="6277320" cy="5792760"/>
            <a:chOff x="1582560" y="609480"/>
            <a:chExt cx="6277320" cy="5792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343320" y="1371600"/>
              <a:ext cx="32749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395440" y="609480"/>
              <a:ext cx="5443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Leaves from Litre (</a:t>
              </a:r>
              <a:r>
                <a:rPr b="1" i="1" lang="en-US" sz="2400" spc="-1" strike="noStrike">
                  <a:solidFill>
                    <a:srgbClr val="fafd00"/>
                  </a:solidFill>
                  <a:latin typeface="Times New Roman"/>
                </a:rPr>
                <a:t>Lithraea caustica</a:t>
              </a: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82560" y="5945040"/>
              <a:ext cx="89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5960" y="570564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3-(10-Z’-</a:t>
              </a:r>
              <a:r>
                <a:rPr b="1" sz="2400" spc="-1" strike="noStrike">
                  <a:solidFill>
                    <a:srgbClr val="ffff00"/>
                  </a:solidFill>
                  <a:latin typeface="Times New Roman"/>
                </a:rPr>
                <a:t>pentadecenyl)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catech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580840" y="4840200"/>
              <a:ext cx="327240" cy="123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2883960" y="4822560"/>
              <a:ext cx="343080" cy="168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200400" y="4963680"/>
              <a:ext cx="0" cy="31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908440" y="5253120"/>
              <a:ext cx="282600" cy="162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03520" y="5272200"/>
              <a:ext cx="293760" cy="12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3800" y="4984920"/>
              <a:ext cx="0" cy="2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97280" y="4626000"/>
              <a:ext cx="0" cy="22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213000" y="4866840"/>
              <a:ext cx="184320" cy="11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13000" y="5272200"/>
              <a:ext cx="300240" cy="13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524400" y="5253120"/>
              <a:ext cx="288720" cy="16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3640" y="5272200"/>
              <a:ext cx="300240" cy="129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145040" y="5253120"/>
              <a:ext cx="288720" cy="16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54640" y="5272200"/>
              <a:ext cx="301680" cy="13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767120" y="5253120"/>
              <a:ext cx="289080" cy="16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6720" y="5272200"/>
              <a:ext cx="303480" cy="13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389560" y="5253120"/>
              <a:ext cx="287280" cy="16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99160" y="5272200"/>
              <a:ext cx="298440" cy="13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012000" y="5241600"/>
              <a:ext cx="263520" cy="176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91320" y="5261040"/>
              <a:ext cx="236520" cy="144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939000" y="5253120"/>
              <a:ext cx="288720" cy="16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48600" y="5272200"/>
              <a:ext cx="299880" cy="13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87760" y="4950000"/>
              <a:ext cx="407880" cy="330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99280" y="5251320"/>
              <a:ext cx="382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99280" y="5315040"/>
              <a:ext cx="382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27960" y="5259240"/>
              <a:ext cx="331920" cy="125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2120" y="450360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59400" y="426708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29360" y="396252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42960" y="685800"/>
            <a:ext cx="7429680" cy="5564160"/>
            <a:chOff x="1542960" y="685800"/>
            <a:chExt cx="7429680" cy="5564160"/>
          </a:xfrm>
        </p:grpSpPr>
        <p:sp>
          <p:nvSpPr>
            <p:cNvPr id="82" name=""/>
            <p:cNvSpPr/>
            <p:nvPr/>
          </p:nvSpPr>
          <p:spPr>
            <a:xfrm>
              <a:off x="4142880" y="685800"/>
              <a:ext cx="2272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URUSHI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3360" y="2781360"/>
              <a:ext cx="88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imes New Roman"/>
                </a:rPr>
                <a:t>Litre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02320" y="4381560"/>
              <a:ext cx="1717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imes New Roman"/>
                </a:rPr>
                <a:t>Poison ivy/oa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43720" y="5676840"/>
              <a:ext cx="23288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900" spc="-1" strike="noStrike">
                  <a:solidFill>
                    <a:srgbClr val="fafd00"/>
                  </a:solidFill>
                  <a:latin typeface="Times New Roman"/>
                </a:rPr>
                <a:t>3-pentadecyl catech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2668680" y="2115720"/>
              <a:ext cx="34128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002040" y="2268360"/>
              <a:ext cx="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682720" y="2573280"/>
              <a:ext cx="312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55840" y="2585880"/>
              <a:ext cx="31284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47920" y="228132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341440" y="2128680"/>
              <a:ext cx="34128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258588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90760" y="2572920"/>
              <a:ext cx="2685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73360" y="2585880"/>
              <a:ext cx="2685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55960" y="257292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258588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419720" y="257292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02320" y="2585880"/>
              <a:ext cx="2682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984920" y="257292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7160" y="258588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548320" y="257292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30920" y="2598840"/>
              <a:ext cx="312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30920" y="2560680"/>
              <a:ext cx="312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57800" y="258588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438960" y="2572920"/>
              <a:ext cx="266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9760" y="2585880"/>
              <a:ext cx="2700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004160" y="2572920"/>
              <a:ext cx="266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674800" y="1852200"/>
              <a:ext cx="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009960" y="2136600"/>
              <a:ext cx="26676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48000" y="2243160"/>
              <a:ext cx="44604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0920" y="165276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8840" y="165276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23800" y="20080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000" y="20080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7960" y="351792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95160" y="351792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6520" y="316224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72280" y="316224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857920" y="4108320"/>
              <a:ext cx="27000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75320" y="4121280"/>
              <a:ext cx="26820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51320" y="4133880"/>
              <a:ext cx="3096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1320" y="4095720"/>
              <a:ext cx="3096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968720" y="4108320"/>
              <a:ext cx="26856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4121280"/>
              <a:ext cx="26820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03880" y="4108320"/>
              <a:ext cx="26820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2720" y="4121280"/>
              <a:ext cx="26676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40120" y="4108320"/>
              <a:ext cx="26820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57520" y="4121280"/>
              <a:ext cx="26820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274920" y="4108320"/>
              <a:ext cx="26856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94120" y="4121280"/>
              <a:ext cx="26676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94120" y="3671640"/>
              <a:ext cx="266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658960" y="3389040"/>
              <a:ext cx="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327040" y="3664080"/>
              <a:ext cx="33948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381636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1440" y="4121280"/>
              <a:ext cx="31140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666880" y="4107960"/>
              <a:ext cx="31284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986200" y="3803760"/>
              <a:ext cx="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652840" y="3650760"/>
              <a:ext cx="34128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41960" y="4133880"/>
              <a:ext cx="3114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1960" y="4095720"/>
              <a:ext cx="31140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7400" y="4121280"/>
              <a:ext cx="26676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48560" y="4108320"/>
              <a:ext cx="26820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1160" y="4121280"/>
              <a:ext cx="268200" cy="11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313760" y="4214880"/>
              <a:ext cx="41040" cy="38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423200" y="4164120"/>
              <a:ext cx="38160" cy="38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29400" y="4107960"/>
              <a:ext cx="52560" cy="42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96360" y="4121280"/>
              <a:ext cx="3780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4000" y="4172040"/>
              <a:ext cx="3996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13800" y="4222800"/>
              <a:ext cx="48960" cy="17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2160" y="3778200"/>
              <a:ext cx="44424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652840" y="4970520"/>
              <a:ext cx="34128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986200" y="5122800"/>
              <a:ext cx="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666880" y="5427720"/>
              <a:ext cx="31284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1440" y="5440320"/>
              <a:ext cx="31140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3520" y="5135400"/>
              <a:ext cx="0" cy="29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327040" y="4983120"/>
              <a:ext cx="33948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658960" y="4708080"/>
              <a:ext cx="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994120" y="4990680"/>
              <a:ext cx="266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94120" y="544032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274920" y="5427360"/>
              <a:ext cx="2685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57520" y="5440320"/>
              <a:ext cx="2682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40120" y="542736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2720" y="544032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403880" y="542736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86480" y="5440320"/>
              <a:ext cx="2682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68720" y="5427360"/>
              <a:ext cx="2685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1320" y="544032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532480" y="542736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5080" y="5440320"/>
              <a:ext cx="2682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097680" y="542736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0280" y="5440320"/>
              <a:ext cx="26676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661080" y="5427360"/>
              <a:ext cx="26820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43680" y="5440320"/>
              <a:ext cx="26820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2160" y="5097600"/>
              <a:ext cx="444240" cy="358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8280" y="450684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5120" y="450684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23800" y="481176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11000" y="481176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2960" y="1246320"/>
              <a:ext cx="7429680" cy="5003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28920" y="39052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0040" y="39052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90280" y="42102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7320" y="39052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90400" y="42102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46960" y="23814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0280" y="2533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90280" y="55054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693800" y="399960"/>
            <a:ext cx="7786800" cy="6136920"/>
            <a:chOff x="1693800" y="399960"/>
            <a:chExt cx="7786800" cy="6136920"/>
          </a:xfrm>
        </p:grpSpPr>
        <p:sp>
          <p:nvSpPr>
            <p:cNvPr id="189" name=""/>
            <p:cNvSpPr/>
            <p:nvPr/>
          </p:nvSpPr>
          <p:spPr>
            <a:xfrm flipH="1">
              <a:off x="4250880" y="2139840"/>
              <a:ext cx="297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4533840" y="2126880"/>
              <a:ext cx="3002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827600" y="227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548240" y="2565000"/>
              <a:ext cx="27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5640" y="2577960"/>
              <a:ext cx="2682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7720" y="228600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34080" y="2577960"/>
              <a:ext cx="27432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3320" y="2577960"/>
              <a:ext cx="273240" cy="13824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541760" y="1755360"/>
              <a:ext cx="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834080" y="2085840"/>
              <a:ext cx="35064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1960" y="2247840"/>
              <a:ext cx="388800" cy="34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3480" y="1339920"/>
              <a:ext cx="72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24960" y="1720800"/>
              <a:ext cx="72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543560" y="3041640"/>
              <a:ext cx="0" cy="698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71960" y="3200400"/>
              <a:ext cx="367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ffffff"/>
                  </a:solidFill>
                  <a:latin typeface="Times New Roman"/>
                </a:rPr>
                <a:t>Oxidation  via Semiqui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464920" y="3733920"/>
              <a:ext cx="32220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2773440" y="3720600"/>
              <a:ext cx="32544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090960" y="387972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98640" y="4214880"/>
              <a:ext cx="29556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776680" y="4181400"/>
              <a:ext cx="29520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79680" y="4211640"/>
              <a:ext cx="293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1240" y="3892680"/>
              <a:ext cx="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5520" y="3892680"/>
              <a:ext cx="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805120" y="339552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759040" y="3395520"/>
              <a:ext cx="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108240" y="3733560"/>
              <a:ext cx="30168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86280" y="3700080"/>
              <a:ext cx="2998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98880" y="4211640"/>
              <a:ext cx="2998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4178160"/>
              <a:ext cx="243000" cy="187560"/>
            </a:xfrm>
            <a:custGeom>
              <a:avLst/>
              <a:gdLst/>
              <a:ahLst/>
              <a:rect l="l" t="t" r="r" b="b"/>
              <a:pathLst>
                <a:path w="136" h="118">
                  <a:moveTo>
                    <a:pt x="68" y="0"/>
                  </a:moveTo>
                  <a:lnTo>
                    <a:pt x="68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4" y="4"/>
                  </a:lnTo>
                  <a:lnTo>
                    <a:pt x="97" y="5"/>
                  </a:lnTo>
                  <a:lnTo>
                    <a:pt x="98" y="5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4" y="8"/>
                  </a:lnTo>
                  <a:lnTo>
                    <a:pt x="106" y="9"/>
                  </a:lnTo>
                  <a:lnTo>
                    <a:pt x="109" y="11"/>
                  </a:lnTo>
                  <a:lnTo>
                    <a:pt x="111" y="12"/>
                  </a:lnTo>
                  <a:lnTo>
                    <a:pt x="114" y="14"/>
                  </a:lnTo>
                  <a:lnTo>
                    <a:pt x="114" y="15"/>
                  </a:lnTo>
                  <a:lnTo>
                    <a:pt x="116" y="16"/>
                  </a:lnTo>
                  <a:lnTo>
                    <a:pt x="116" y="17"/>
                  </a:lnTo>
                  <a:lnTo>
                    <a:pt x="118" y="18"/>
                  </a:lnTo>
                  <a:lnTo>
                    <a:pt x="120" y="20"/>
                  </a:lnTo>
                  <a:lnTo>
                    <a:pt x="120" y="21"/>
                  </a:lnTo>
                  <a:lnTo>
                    <a:pt x="122" y="22"/>
                  </a:lnTo>
                  <a:lnTo>
                    <a:pt x="123" y="25"/>
                  </a:lnTo>
                  <a:lnTo>
                    <a:pt x="125" y="27"/>
                  </a:lnTo>
                  <a:lnTo>
                    <a:pt x="127" y="29"/>
                  </a:lnTo>
                  <a:lnTo>
                    <a:pt x="127" y="30"/>
                  </a:lnTo>
                  <a:lnTo>
                    <a:pt x="128" y="32"/>
                  </a:lnTo>
                  <a:lnTo>
                    <a:pt x="129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1" y="37"/>
                  </a:lnTo>
                  <a:lnTo>
                    <a:pt x="132" y="39"/>
                  </a:lnTo>
                  <a:lnTo>
                    <a:pt x="132" y="40"/>
                  </a:lnTo>
                  <a:lnTo>
                    <a:pt x="133" y="42"/>
                  </a:lnTo>
                  <a:lnTo>
                    <a:pt x="133" y="43"/>
                  </a:lnTo>
                  <a:lnTo>
                    <a:pt x="133" y="44"/>
                  </a:lnTo>
                  <a:lnTo>
                    <a:pt x="133" y="45"/>
                  </a:lnTo>
                  <a:lnTo>
                    <a:pt x="133" y="48"/>
                  </a:lnTo>
                  <a:lnTo>
                    <a:pt x="134" y="50"/>
                  </a:lnTo>
                  <a:lnTo>
                    <a:pt x="134" y="51"/>
                  </a:lnTo>
                  <a:lnTo>
                    <a:pt x="134" y="53"/>
                  </a:lnTo>
                  <a:lnTo>
                    <a:pt x="134" y="55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1"/>
                  </a:lnTo>
                  <a:lnTo>
                    <a:pt x="134" y="62"/>
                  </a:lnTo>
                  <a:lnTo>
                    <a:pt x="134" y="63"/>
                  </a:lnTo>
                  <a:lnTo>
                    <a:pt x="134" y="64"/>
                  </a:lnTo>
                  <a:lnTo>
                    <a:pt x="134" y="66"/>
                  </a:lnTo>
                  <a:lnTo>
                    <a:pt x="134" y="67"/>
                  </a:lnTo>
                  <a:lnTo>
                    <a:pt x="133" y="69"/>
                  </a:lnTo>
                  <a:lnTo>
                    <a:pt x="133" y="72"/>
                  </a:lnTo>
                  <a:lnTo>
                    <a:pt x="133" y="73"/>
                  </a:lnTo>
                  <a:lnTo>
                    <a:pt x="133" y="74"/>
                  </a:lnTo>
                  <a:lnTo>
                    <a:pt x="133" y="75"/>
                  </a:lnTo>
                  <a:lnTo>
                    <a:pt x="132" y="77"/>
                  </a:lnTo>
                  <a:lnTo>
                    <a:pt x="132" y="78"/>
                  </a:lnTo>
                  <a:lnTo>
                    <a:pt x="131" y="79"/>
                  </a:lnTo>
                  <a:lnTo>
                    <a:pt x="130" y="80"/>
                  </a:lnTo>
                  <a:lnTo>
                    <a:pt x="129" y="82"/>
                  </a:lnTo>
                  <a:lnTo>
                    <a:pt x="129" y="83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7" y="87"/>
                  </a:lnTo>
                  <a:lnTo>
                    <a:pt x="127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3" y="92"/>
                  </a:lnTo>
                  <a:lnTo>
                    <a:pt x="122" y="94"/>
                  </a:lnTo>
                  <a:lnTo>
                    <a:pt x="120" y="96"/>
                  </a:lnTo>
                  <a:lnTo>
                    <a:pt x="120" y="97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6" y="101"/>
                  </a:lnTo>
                  <a:lnTo>
                    <a:pt x="114" y="102"/>
                  </a:lnTo>
                  <a:lnTo>
                    <a:pt x="114" y="103"/>
                  </a:lnTo>
                  <a:lnTo>
                    <a:pt x="111" y="104"/>
                  </a:lnTo>
                  <a:lnTo>
                    <a:pt x="109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3" y="109"/>
                  </a:lnTo>
                  <a:lnTo>
                    <a:pt x="100" y="110"/>
                  </a:lnTo>
                  <a:lnTo>
                    <a:pt x="98" y="112"/>
                  </a:lnTo>
                  <a:lnTo>
                    <a:pt x="97" y="112"/>
                  </a:lnTo>
                  <a:lnTo>
                    <a:pt x="94" y="113"/>
                  </a:lnTo>
                  <a:lnTo>
                    <a:pt x="91" y="113"/>
                  </a:lnTo>
                  <a:lnTo>
                    <a:pt x="90" y="113"/>
                  </a:lnTo>
                  <a:lnTo>
                    <a:pt x="88" y="114"/>
                  </a:lnTo>
                  <a:lnTo>
                    <a:pt x="87" y="114"/>
                  </a:lnTo>
                  <a:lnTo>
                    <a:pt x="84" y="115"/>
                  </a:lnTo>
                  <a:lnTo>
                    <a:pt x="83" y="115"/>
                  </a:lnTo>
                  <a:lnTo>
                    <a:pt x="80" y="116"/>
                  </a:lnTo>
                  <a:lnTo>
                    <a:pt x="79" y="116"/>
                  </a:lnTo>
                  <a:lnTo>
                    <a:pt x="76" y="116"/>
                  </a:lnTo>
                  <a:lnTo>
                    <a:pt x="75" y="116"/>
                  </a:lnTo>
                  <a:lnTo>
                    <a:pt x="72" y="117"/>
                  </a:lnTo>
                  <a:lnTo>
                    <a:pt x="71" y="117"/>
                  </a:lnTo>
                  <a:lnTo>
                    <a:pt x="68" y="117"/>
                  </a:lnTo>
                  <a:lnTo>
                    <a:pt x="64" y="117"/>
                  </a:lnTo>
                  <a:lnTo>
                    <a:pt x="60" y="116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5" y="116"/>
                  </a:lnTo>
                  <a:lnTo>
                    <a:pt x="53" y="115"/>
                  </a:lnTo>
                  <a:lnTo>
                    <a:pt x="52" y="115"/>
                  </a:lnTo>
                  <a:lnTo>
                    <a:pt x="49" y="114"/>
                  </a:lnTo>
                  <a:lnTo>
                    <a:pt x="48" y="114"/>
                  </a:lnTo>
                  <a:lnTo>
                    <a:pt x="45" y="113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39" y="112"/>
                  </a:lnTo>
                  <a:lnTo>
                    <a:pt x="38" y="112"/>
                  </a:lnTo>
                  <a:lnTo>
                    <a:pt x="35" y="110"/>
                  </a:lnTo>
                  <a:lnTo>
                    <a:pt x="33" y="109"/>
                  </a:lnTo>
                  <a:lnTo>
                    <a:pt x="32" y="108"/>
                  </a:lnTo>
                  <a:lnTo>
                    <a:pt x="29" y="108"/>
                  </a:lnTo>
                  <a:lnTo>
                    <a:pt x="27" y="106"/>
                  </a:lnTo>
                  <a:lnTo>
                    <a:pt x="24" y="104"/>
                  </a:lnTo>
                  <a:lnTo>
                    <a:pt x="22" y="103"/>
                  </a:lnTo>
                  <a:lnTo>
                    <a:pt x="22" y="102"/>
                  </a:lnTo>
                  <a:lnTo>
                    <a:pt x="19" y="101"/>
                  </a:lnTo>
                  <a:lnTo>
                    <a:pt x="19" y="100"/>
                  </a:lnTo>
                  <a:lnTo>
                    <a:pt x="18" y="98"/>
                  </a:lnTo>
                  <a:lnTo>
                    <a:pt x="17" y="98"/>
                  </a:lnTo>
                  <a:lnTo>
                    <a:pt x="15" y="97"/>
                  </a:lnTo>
                  <a:lnTo>
                    <a:pt x="15" y="96"/>
                  </a:lnTo>
                  <a:lnTo>
                    <a:pt x="14" y="94"/>
                  </a:lnTo>
                  <a:lnTo>
                    <a:pt x="12" y="92"/>
                  </a:lnTo>
                  <a:lnTo>
                    <a:pt x="11" y="92"/>
                  </a:lnTo>
                  <a:lnTo>
                    <a:pt x="10" y="90"/>
                  </a:lnTo>
                  <a:lnTo>
                    <a:pt x="10" y="89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7" y="85"/>
                  </a:lnTo>
                  <a:lnTo>
                    <a:pt x="7" y="84"/>
                  </a:lnTo>
                  <a:lnTo>
                    <a:pt x="6" y="83"/>
                  </a:lnTo>
                  <a:lnTo>
                    <a:pt x="6" y="82"/>
                  </a:lnTo>
                  <a:lnTo>
                    <a:pt x="5" y="80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10" y="27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1600" y="42242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427032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16240" y="3049560"/>
              <a:ext cx="939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7720" y="3430440"/>
              <a:ext cx="939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27720" y="4102200"/>
              <a:ext cx="203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02800" y="4892760"/>
              <a:ext cx="105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R-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80200" y="5105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Book Antiqu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51480" y="5410080"/>
              <a:ext cx="1014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737400" y="5340240"/>
              <a:ext cx="296640" cy="133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7019640" y="5327280"/>
              <a:ext cx="299880" cy="1587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13760" y="5473800"/>
              <a:ext cx="0" cy="304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034040" y="5765400"/>
              <a:ext cx="271800" cy="160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51800" y="5778360"/>
              <a:ext cx="268200" cy="135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43880" y="5486400"/>
              <a:ext cx="0" cy="279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9880" y="5778360"/>
              <a:ext cx="2746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608960" y="5765760"/>
              <a:ext cx="276120" cy="163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99480" y="5778360"/>
              <a:ext cx="272880" cy="13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027920" y="4955760"/>
              <a:ext cx="0" cy="384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319880" y="5286240"/>
              <a:ext cx="351000" cy="2001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27760" y="5448240"/>
              <a:ext cx="389160" cy="34596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9640" y="4540320"/>
              <a:ext cx="72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11120" y="4921200"/>
              <a:ext cx="72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66"/>
                  </a:solidFill>
                  <a:latin typeface="Book Antiqua"/>
                </a:rPr>
                <a:t>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15160" y="5715000"/>
              <a:ext cx="13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Book Antiqua"/>
                </a:rPr>
                <a:t>C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08800" y="5797440"/>
              <a:ext cx="271440" cy="139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7840" y="6021360"/>
              <a:ext cx="1832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0f602"/>
                  </a:solidFill>
                  <a:latin typeface="Book Antiqua"/>
                </a:rPr>
                <a:t>R-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0400" y="4626000"/>
              <a:ext cx="39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Book Antiqua"/>
                </a:rPr>
                <a:t>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93800" y="4359240"/>
              <a:ext cx="38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Book Antiqu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48080" y="4191120"/>
              <a:ext cx="29052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9120" y="4210200"/>
              <a:ext cx="300240" cy="1299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070520" y="4191120"/>
              <a:ext cx="28872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79760" y="4210200"/>
              <a:ext cx="30168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691160" y="4191120"/>
              <a:ext cx="29052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2200" y="4210200"/>
              <a:ext cx="30168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315040" y="4191120"/>
              <a:ext cx="28728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24640" y="4210200"/>
              <a:ext cx="29844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937120" y="4179600"/>
              <a:ext cx="263520" cy="1760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16800" y="4199040"/>
              <a:ext cx="236520" cy="1443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862680" y="4191120"/>
              <a:ext cx="29052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4080" y="4210200"/>
              <a:ext cx="29988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4760" y="4189320"/>
              <a:ext cx="3808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24760" y="4253040"/>
              <a:ext cx="38088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453080" y="4197240"/>
              <a:ext cx="331560" cy="1256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143680" y="2590560"/>
              <a:ext cx="342720" cy="1522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54720" y="2610000"/>
              <a:ext cx="299880" cy="1299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765760" y="2590920"/>
              <a:ext cx="28908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73920" y="2610000"/>
              <a:ext cx="30132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386400" y="2590920"/>
              <a:ext cx="28908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97800" y="2610000"/>
              <a:ext cx="30132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029360" y="2590560"/>
              <a:ext cx="268200" cy="1522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18440" y="2610000"/>
              <a:ext cx="29844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631280" y="2579400"/>
              <a:ext cx="264960" cy="1760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2040" y="2598840"/>
              <a:ext cx="235080" cy="1443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8558280" y="2590920"/>
              <a:ext cx="288720" cy="164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69320" y="2610000"/>
              <a:ext cx="300240" cy="131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8560" y="2589120"/>
              <a:ext cx="3823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8560" y="2652840"/>
              <a:ext cx="38232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147240" y="2597040"/>
              <a:ext cx="333360" cy="1256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1840" y="399960"/>
              <a:ext cx="55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sz="3200" spc="-1" strike="noStrike">
                  <a:solidFill>
                    <a:srgbClr val="fafd00"/>
                  </a:solidFill>
                  <a:latin typeface="Times New Roman"/>
                </a:rPr>
                <a:t>Mechanism of Activ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2200" y="4613400"/>
              <a:ext cx="20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1219320" y="609480"/>
            <a:ext cx="8658000" cy="5286600"/>
            <a:chOff x="1219320" y="609480"/>
            <a:chExt cx="8658000" cy="528660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523880" y="1447920"/>
              <a:ext cx="694368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219320" y="609480"/>
              <a:ext cx="8658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700" spc="-1" strike="noStrike">
                  <a:solidFill>
                    <a:srgbClr val="fafd00"/>
                  </a:solidFill>
                  <a:latin typeface="Times New Roman"/>
                </a:rPr>
                <a:t>Effect of Light Exposure on the Contact Dermatitis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144880" y="3913200"/>
              <a:ext cx="45720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0840" y="3505320"/>
              <a:ext cx="428760" cy="76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44080" y="5070600"/>
              <a:ext cx="693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Protected from Light</a:t>
              </a: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         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Sunlight Exposed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19:07:44Z</dcterms:created>
  <dc:creator>sergio</dc:creator>
  <dc:description/>
  <dc:language>en-US</dc:language>
  <cp:lastModifiedBy>biosonda</cp:lastModifiedBy>
  <cp:lastPrinted>1998-11-09T23:02:52Z</cp:lastPrinted>
  <dcterms:modified xsi:type="dcterms:W3CDTF">2004-11-01T20:00:48Z</dcterms:modified>
  <cp:revision>55</cp:revision>
  <dc:subject/>
  <dc:title>EL ALERGENO DEL LITRE INHIBE LA RESPIRACIÓN MITOCONDRIAL Y ACTIVA EL FACTOR DE TRANSCRIPCIÓN NFkB</dc:title>
</cp:coreProperties>
</file>