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gif" ContentType="image/gif"/>
  <Override PartName="/ppt/media/image22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07200" cy="9166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FDA-AE10-4947-942A-0EDE97AC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8FD-C6D9-4EBA-ABAC-2EFA19F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68A-2E92-45CB-BA6D-C8FFEF1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6C9-FAF8-4446-AF6E-86C2A6BC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52C-3D0B-4608-8C86-A7316B4E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629-200D-4914-A06C-4FA69A9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6E5-604C-4120-8AAF-0FA0D0F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919-F00E-4561-AECC-A3E02AD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0AB-51EC-4393-96C4-B39B247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D62-E45C-49F5-9F84-F38D261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242-5826-48CA-9153-F978D9B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B4B-0E66-4EC1-BE71-40F2AC6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244E-67DC-45FB-BCA3-9BCC82411A5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.  Receptor de la célula T (T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María Inés Becker C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Verdana"/>
              </a:rPr>
              <a:t>Inmunolog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Facultad de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cc"/>
                </a:solidFill>
                <a:latin typeface="Verdana"/>
              </a:rPr>
              <a:t>Universidad de C 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ffff"/>
                </a:solidFill>
                <a:latin typeface="Verdana"/>
              </a:rPr>
              <a:t>Septiembr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598920" cy="2574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9960" y="4762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squema general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41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5589720"/>
            <a:ext cx="759636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Cadenas también pueden ser </a:t>
            </a:r>
            <a:r>
              <a:rPr b="1" lang="es-ES" sz="2000" spc="-1" strike="noStrike">
                <a:solidFill>
                  <a:srgbClr val="00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Verdana"/>
              </a:rPr>
              <a:t>* Representan el 95% de los linfocitos circu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047840" cy="30240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graphicFrame>
        <p:nvGraphicFramePr>
          <p:cNvPr id="90" name=""/>
          <p:cNvGraphicFramePr/>
          <p:nvPr/>
        </p:nvGraphicFramePr>
        <p:xfrm>
          <a:off x="7451640" y="2060640"/>
          <a:ext cx="86688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2060640"/>
                    <a:ext cx="866880" cy="151272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imes New Roman"/>
              </a:rPr>
              <a:t>Propiedades TC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acídica de 40 a 50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Cadena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: Glicoproteína básica de 40 a 45 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bas cadenas presentan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mino-terminal (102 a 119 aa) y dominio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carboxilo-terminal (138 a 170 aa) que contiene región bisag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Verdana"/>
              </a:rPr>
              <a:t>Diversidad y especificidad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tá dada por las regiones hipervariables o determinantes de complementariedad: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DR1, CDR2, CDR3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ominios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y V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aratopo tiene una afinidad entre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5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y 10</a:t>
            </a:r>
            <a:r>
              <a:rPr b="0" lang="es-ES" sz="1600" spc="-1" strike="noStrike" baseline="30000">
                <a:solidFill>
                  <a:srgbClr val="ffffff"/>
                </a:solidFill>
                <a:latin typeface="Verdana"/>
              </a:rPr>
              <a:t>-7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 por  el antíg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transmembrana hidrofóbica de 20 a 25 aa que permiten la unión a CD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Región citoplasmática de 5 a 12 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19700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66"/>
                </a:solidFill>
                <a:latin typeface="Verdana"/>
              </a:rPr>
              <a:t>Descubrimiento de la estructura del T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95640" y="2133720"/>
          <a:ext cx="304812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3048120" cy="27334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87280" y="5013360"/>
            <a:ext cx="7407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usó un anticuerpo anti-clonotípico monocl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marca con aminoácidos radioactivos la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celular de células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Se inmunoprecipita y se analiza el inmunoprecipi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ffff66"/>
                </a:solidFill>
                <a:latin typeface="Verdana"/>
              </a:rPr>
              <a:t>por electroforesis 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7680" y="1906560"/>
            <a:ext cx="18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ectrofor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bidim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066920" y="1844640"/>
            <a:ext cx="1584360" cy="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989000"/>
            <a:ext cx="0" cy="86364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ólo S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2575080" y="355212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DS + 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-Met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2276640"/>
            <a:ext cx="144360" cy="7189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3357720"/>
            <a:ext cx="144360" cy="122364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17080" y="2395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T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C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0920" y="1916280"/>
            <a:ext cx="5256000" cy="4537080"/>
            <a:chOff x="2050920" y="1916280"/>
            <a:chExt cx="5256000" cy="4537080"/>
          </a:xfrm>
        </p:grpSpPr>
        <p:sp>
          <p:nvSpPr>
            <p:cNvPr id="110" name=""/>
            <p:cNvSpPr/>
            <p:nvPr/>
          </p:nvSpPr>
          <p:spPr>
            <a:xfrm>
              <a:off x="2050920" y="1916280"/>
              <a:ext cx="5256000" cy="453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2842920" y="2348280"/>
              <a:ext cx="3673440" cy="353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7556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TCR y Presentación de antígeno ó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el Reconocimiento de lo propio-MHC- mod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53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4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45040" y="24210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00"/>
                </a:solidFill>
                <a:latin typeface="Verdana"/>
              </a:rPr>
              <a:t>CD8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545080" cy="4462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99200" y="476280"/>
            <a:ext cx="76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Los genes del TCR generan variabilidad de manera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Verdana"/>
              </a:rPr>
              <a:t>a los genes de inmunoglobul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908000" y="1197000"/>
          <a:ext cx="5830920" cy="5057640"/>
        </p:xfrm>
        <a:graphic>
          <a:graphicData uri="http://schemas.openxmlformats.org/drawingml/2006/table">
            <a:tbl>
              <a:tblPr/>
              <a:tblGrid>
                <a:gridCol w="3063960"/>
                <a:gridCol w="1260720"/>
                <a:gridCol w="1506240"/>
              </a:tblGrid>
              <a:tr h="74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PI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uchos VDJ’s y pocos C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rreglo VD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es de regiones V for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sitio de combinación 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l antíg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ipermutación somá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TE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ma transmembr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 secre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sotipos con difer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Val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122480" y="2602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Comparación entre las principales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del TCR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y las inmunoglob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81720"/>
            <a:ext cx="37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00"/>
                </a:solidFill>
                <a:latin typeface="Times New Roman"/>
              </a:rPr>
              <a:t>Adaptado de Janeway y Travers, Immunobiolog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Citometría de flujo</a:t>
            </a:r>
            <a:br>
              <a:rPr sz="3600"/>
            </a:b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“La herramienta en el estudio de los linfocitos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T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 y </a:t>
            </a:r>
            <a:r>
              <a:rPr b="1" i="1" lang="es-ES" sz="1800" spc="-1" strike="noStrike">
                <a:solidFill>
                  <a:srgbClr val="ffff00"/>
                </a:solidFill>
                <a:latin typeface="Verdana"/>
              </a:rPr>
              <a:t>B</a:t>
            </a:r>
            <a:r>
              <a:rPr b="1" i="1" lang="es-ES" sz="1600" spc="-1" strike="noStrike">
                <a:solidFill>
                  <a:srgbClr val="ffff00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48000" cy="1622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11280" y="1341360"/>
            <a:ext cx="77770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3529080" cy="18637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4248360" cy="3127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41920" y="5229360"/>
            <a:ext cx="3326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Verdana"/>
              </a:rPr>
              <a:t>Información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Tam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Rugosidad de la superfi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luorocromos (hasta 5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Separador de células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es-ES" sz="2800" spc="-1" strike="noStrike">
                <a:solidFill>
                  <a:srgbClr val="ffff00"/>
                </a:solidFill>
                <a:latin typeface="Verdana"/>
              </a:rPr>
              <a:t>Cell sorter</a:t>
            </a:r>
            <a:r>
              <a:rPr b="1" lang="es-ES" sz="36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62864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4716360" cy="324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11280" y="1844640"/>
          <a:ext cx="2949480" cy="21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844640"/>
                    <a:ext cx="2949480" cy="2117880"/>
                  </a:xfrm>
                  <a:prstGeom prst="rect">
                    <a:avLst/>
                  </a:prstGeom>
                  <a:ln w="1260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br>
              <a:rPr sz="2400"/>
            </a:br>
            <a:br>
              <a:rPr sz="24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III.  Antígenos de Histocompatibilidad 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Verdana"/>
              </a:rPr>
              <a:t>(MHC I, II, 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43280" y="4581360"/>
            <a:ext cx="3486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76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Moléculas que unen Ant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628640"/>
            <a:ext cx="670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icuerpos o Inmunoglobuli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de Célul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Antígenos de Histocompa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4720" y="378936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Paralelo 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ffff"/>
                </a:solidFill>
                <a:latin typeface="Verdana"/>
              </a:rPr>
              <a:t>el TCR y una 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3284640"/>
            <a:ext cx="1861920" cy="30240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3744720" cy="2995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humor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56000" y="3645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637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7893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3240" y="5753160"/>
            <a:ext cx="642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a medimos fácilmente por la producción de anticuer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esente en el suero de los animales o personas inmunizad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glutinación, ELISA, Inmunoprecipitación, Western blo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6000" y="4221000"/>
            <a:ext cx="25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Lentitud en la respu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M que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bajos y de corta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81280" y="2781360"/>
            <a:ext cx="22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Más ráp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Predominio de la IgG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" sz="1000" spc="-1" strike="noStrike">
                <a:solidFill>
                  <a:srgbClr val="00ffff"/>
                </a:solidFill>
                <a:latin typeface="Verdana"/>
              </a:rPr>
              <a:t>Títulos altos y mayor d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Respuesta inmune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341360"/>
            <a:ext cx="726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abitualmente se mide por ensayos funcionales, 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Proliferación celular </a:t>
            </a:r>
            <a:r>
              <a:rPr b="0" i="1" lang="es-ES" sz="2400" spc="-1" strike="noStrike">
                <a:solidFill>
                  <a:srgbClr val="00ffff"/>
                </a:solidFill>
                <a:latin typeface="Verdana"/>
              </a:rPr>
              <a:t>in vitro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frente a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(específica) o frente a lectinas (inespecíf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Liberación de cito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ffff"/>
                </a:solidFill>
                <a:latin typeface="Verdana"/>
              </a:rPr>
              <a:t>Actividad citotóxica de Linfocitos T CD8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219640" y="4365720"/>
            <a:ext cx="2664000" cy="230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34440" y="501336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etermin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infocitos T CD4+ en clínica: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tomet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66"/>
                </a:solidFill>
                <a:latin typeface="Verdana"/>
              </a:rPr>
              <a:t>El receptor de las Células (TC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484360" y="1916280"/>
            <a:ext cx="6840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No Reconoce antígeno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osee Restricció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Verdana"/>
              </a:rPr>
              <a:t>Reconoce péptido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en asoci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pertorio estimado 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16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infocitos T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Receptor clonot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881360" cy="27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700560" y="5229360"/>
            <a:ext cx="164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Célula tumo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ata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ffff"/>
                </a:solidFill>
                <a:latin typeface="Verdana"/>
              </a:rPr>
              <a:t>por linfocitos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341360"/>
            <a:ext cx="77752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489564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2960640" cy="38163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170028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90440" y="476280"/>
            <a:ext cx="53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Supoblaciones de linfocitos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(TCR+CD3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1882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11280" y="1916280"/>
            <a:ext cx="6372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e acuerdo al tipo de cadenas del recepto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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716280"/>
            <a:ext cx="6985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Entre los linfocitos T  </a:t>
            </a:r>
            <a:r>
              <a:rPr b="1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, hay 3 subpobl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Linfocitos T CD4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 CD8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-  Linfocitos TNK ( CD4-, CD8-)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mp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gunos marcadores con las células NK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1933560" cy="2720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55640" y="1413000"/>
            <a:ext cx="77756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T cell repertoire selection in the thymus"/>
          <p:cNvPicPr/>
          <p:nvPr/>
        </p:nvPicPr>
        <p:blipFill>
          <a:blip r:embed="rId2"/>
          <a:stretch/>
        </p:blipFill>
        <p:spPr>
          <a:xfrm>
            <a:off x="2987640" y="2060640"/>
            <a:ext cx="5327640" cy="31701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146600" y="404640"/>
            <a:ext cx="69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Expresión del TCR ocurre en el timo en a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Fetal en ausencia del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56610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Verdana"/>
              </a:rPr>
              <a:t>Selección Negativa y Pos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Generación de la diversidad y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Teoría de la selección clona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s-ES_tradnl" sz="1600" spc="-1" strike="noStrike">
                <a:solidFill>
                  <a:srgbClr val="ffffff"/>
                </a:solidFill>
                <a:latin typeface="Tahoma"/>
              </a:rPr>
              <a:t>Frank Macfarlane Burne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87280" y="1989000"/>
          <a:ext cx="673740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673740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9:40:58Z</dcterms:created>
  <dc:creator>nombre</dc:creator>
  <dc:description/>
  <dc:language>en-US</dc:language>
  <cp:lastModifiedBy>Alfredo E De Ioannes</cp:lastModifiedBy>
  <cp:lastPrinted>2000-04-10T20:38:12Z</cp:lastPrinted>
  <dcterms:modified xsi:type="dcterms:W3CDTF">2004-09-08T18:30:30Z</dcterms:modified>
  <cp:revision>116</cp:revision>
  <dc:subject/>
  <dc:title>Sin título de diapositiva</dc:title>
</cp:coreProperties>
</file>