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gif" ContentType="image/gif"/>
  <Override PartName="/ppt/media/image22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07200" cy="9166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F80-C69C-48D4-BDC4-0EE44007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B8A-BEF8-41C9-8BD8-E56790D6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EA7-0C0C-4305-BB45-2E81E703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F33-F863-4DAF-B2D9-FB4FD4AA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CCD-55EE-40CF-B9E7-93209980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F8F-1ECB-4447-8EE6-ED0E363A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8B3-663D-4FF6-95BE-A52B8C77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3D8-7180-4886-80AB-07CFEE6E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05F-9B13-4E89-BD9D-4C2FCF1A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193-98A3-44C1-AE8D-ED8ACF1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C24-DC26-41DC-9301-8FE9DF9A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D45-8F48-48E6-B26E-8CBD6B5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3D99-068F-465A-97EC-A7715629317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br>
              <a:rPr sz="2400"/>
            </a:br>
            <a:br>
              <a:rPr sz="24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II.  Receptor de la célula T (TC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María Inés Becker C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Verdana"/>
              </a:rPr>
              <a:t>Inmunolog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cc"/>
                </a:solidFill>
                <a:latin typeface="Verdana"/>
              </a:rPr>
              <a:t>Facultad de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cc"/>
                </a:solidFill>
                <a:latin typeface="Verdana"/>
              </a:rPr>
              <a:t>Universidad de C 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ffff"/>
                </a:solidFill>
                <a:latin typeface="Verdana"/>
              </a:rPr>
              <a:t>Septiembr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598920" cy="2574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84360" y="119700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9960" y="4762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Esquema general del T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413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5589720"/>
            <a:ext cx="75963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* Cadenas también pueden ser </a:t>
            </a:r>
            <a:r>
              <a:rPr b="1" lang="es-ES" sz="2000" spc="-1" strike="noStrike">
                <a:solidFill>
                  <a:srgbClr val="00ffff"/>
                </a:solidFill>
                <a:latin typeface="Symbol"/>
                <a:ea typeface="Symbol"/>
              </a:rPr>
              <a:t>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* Representan el 95% de los linfocitos circul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4047840" cy="30240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graphicFrame>
        <p:nvGraphicFramePr>
          <p:cNvPr id="90" name=""/>
          <p:cNvGraphicFramePr/>
          <p:nvPr/>
        </p:nvGraphicFramePr>
        <p:xfrm>
          <a:off x="7451640" y="2060640"/>
          <a:ext cx="86688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2060640"/>
                    <a:ext cx="866880" cy="151272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Propiedades TC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Cadena </a:t>
            </a:r>
            <a:r>
              <a:rPr b="1" lang="es-ES" sz="16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: Glicoproteína acídica de 40 a 50 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Cadena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: Glicoproteína básica de 40 a 45 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mbas cadenas presentan dominio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V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mino-terminal (102 a 119 aa) y dominio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arboxilo-terminal (138 a 170 aa) que contiene región bisag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Diversidad y especificidad</a:t>
            </a: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está dada por las regiones hipervariables o determinantes de complementariedad: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DR1, CDR2, CDR3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ominios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y V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aratopo tiene una afinidad entre 10</a:t>
            </a:r>
            <a:r>
              <a:rPr b="0" lang="es-ES" sz="16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y 10</a:t>
            </a:r>
            <a:r>
              <a:rPr b="0" lang="es-ES" sz="1600" spc="-1" strike="noStrike" baseline="30000">
                <a:solidFill>
                  <a:srgbClr val="ffffff"/>
                </a:solidFill>
                <a:latin typeface="Verdana"/>
              </a:rPr>
              <a:t>-7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M por  el antí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gión transmembrana hidrofóbica de 20 a 25 aa que permiten la unión a C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gión citoplasmática de 5 a 12 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19700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66"/>
                </a:solidFill>
                <a:latin typeface="Verdana"/>
              </a:rPr>
              <a:t>Descubrimiento de la estructura del T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95640" y="2133720"/>
          <a:ext cx="304812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133720"/>
                    <a:ext cx="3048120" cy="27334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87280" y="5013360"/>
            <a:ext cx="7407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usó un anticuerpo anti-clonotípico monocl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marca con aminoácidos radioactivos la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celular de células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inmunoprecipita y se analiza el inmunoprecipi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por electroforesis bidim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57680" y="1906560"/>
            <a:ext cx="187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ectrofor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bidim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066920" y="1844640"/>
            <a:ext cx="158436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1989000"/>
            <a:ext cx="0" cy="86364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62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ólo S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2575080" y="355212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DS + 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-Met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2276640"/>
            <a:ext cx="144360" cy="7189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3357720"/>
            <a:ext cx="144360" cy="122364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17080" y="23954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T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050920" y="1916280"/>
            <a:ext cx="5256000" cy="4537080"/>
            <a:chOff x="2050920" y="1916280"/>
            <a:chExt cx="5256000" cy="4537080"/>
          </a:xfrm>
        </p:grpSpPr>
        <p:sp>
          <p:nvSpPr>
            <p:cNvPr id="110" name=""/>
            <p:cNvSpPr/>
            <p:nvPr/>
          </p:nvSpPr>
          <p:spPr>
            <a:xfrm>
              <a:off x="2050920" y="1916280"/>
              <a:ext cx="5256000" cy="453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2842920" y="2348280"/>
              <a:ext cx="3673440" cy="353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7556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TCR y Presentación de antígeno ó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el Reconocimiento de lo propio-MHC- mod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53040" y="24210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00"/>
                </a:solidFill>
                <a:latin typeface="Verdana"/>
              </a:rPr>
              <a:t>CD4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45040" y="24210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00"/>
                </a:solidFill>
                <a:latin typeface="Verdana"/>
              </a:rPr>
              <a:t>CD8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545080" cy="4462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99200" y="476280"/>
            <a:ext cx="76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Los genes del TCR generan variabilidad de manera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a los genes de inmunoglobul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908000" y="1197000"/>
          <a:ext cx="5830920" cy="5057640"/>
        </p:xfrm>
        <a:graphic>
          <a:graphicData uri="http://schemas.openxmlformats.org/drawingml/2006/table">
            <a:tbl>
              <a:tblPr/>
              <a:tblGrid>
                <a:gridCol w="3063960"/>
                <a:gridCol w="1260720"/>
                <a:gridCol w="1506240"/>
              </a:tblGrid>
              <a:tr h="74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PI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uchos VDJ’s y pocos C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rreglo VD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res de regiones V for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 sitio de combinación 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 antíge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ipermutación somát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TE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ma transmembr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 secret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sotipos con difer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l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22480" y="2602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Comparación entre las principales prop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del TCR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y las inmunoglob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81720"/>
            <a:ext cx="37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00"/>
                </a:solidFill>
                <a:latin typeface="Times New Roman"/>
              </a:rPr>
              <a:t>Adaptado de Janeway y Travers, Immunobiolog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Citometría de flujo</a:t>
            </a:r>
            <a:br>
              <a:rPr sz="3600"/>
            </a:b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“La herramienta en el estudio de los linfocitos </a:t>
            </a:r>
            <a:r>
              <a:rPr b="1" i="1" lang="es-ES" sz="1800" spc="-1" strike="noStrike">
                <a:solidFill>
                  <a:srgbClr val="ffff00"/>
                </a:solidFill>
                <a:latin typeface="Verdana"/>
              </a:rPr>
              <a:t>T</a:t>
            </a: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 y </a:t>
            </a:r>
            <a:r>
              <a:rPr b="1" i="1" lang="es-ES" sz="1800" spc="-1" strike="noStrike">
                <a:solidFill>
                  <a:srgbClr val="ffff00"/>
                </a:solidFill>
                <a:latin typeface="Verdana"/>
              </a:rPr>
              <a:t>B</a:t>
            </a: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448000" cy="16221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11280" y="1341360"/>
            <a:ext cx="77770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3529080" cy="1863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4248360" cy="3127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41920" y="5229360"/>
            <a:ext cx="3326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Verdana"/>
              </a:rPr>
              <a:t>Información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Tam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Rugosidad de la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luorocromos (hasta 5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Separador de células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es-ES" sz="2800" spc="-1" strike="noStrike">
                <a:solidFill>
                  <a:srgbClr val="ffff00"/>
                </a:solidFill>
                <a:latin typeface="Verdana"/>
              </a:rPr>
              <a:t>Cell sorter</a:t>
            </a: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62864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4716360" cy="324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611280" y="1844640"/>
          <a:ext cx="2949480" cy="21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844640"/>
                    <a:ext cx="2949480" cy="211788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br>
              <a:rPr sz="2400"/>
            </a:br>
            <a:br>
              <a:rPr sz="24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III.  Antígenos de Histocompatibilidad 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(MHC I, II, 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76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628640"/>
            <a:ext cx="6705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Anticuerpos o Inmunoglobul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ceptor de Célul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Antígenos de Histocompa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4720" y="378936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ff"/>
                </a:solidFill>
                <a:latin typeface="Verdana"/>
              </a:rPr>
              <a:t>Paralelo e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ff"/>
                </a:solidFill>
                <a:latin typeface="Verdana"/>
              </a:rPr>
              <a:t>el TCR y una 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48360" y="3284640"/>
            <a:ext cx="1861920" cy="302400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3744720" cy="2995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Respuesta inmune humor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56000" y="3645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234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2637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7893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3240" y="5753160"/>
            <a:ext cx="642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a medimos fácilmente por la producción de anticuer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esente en el suero de los animales o personas inmunizad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glutinación, ELISA, Inmunoprecipitación, Western blot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6000" y="4221000"/>
            <a:ext cx="256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Lentitud en la respue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Predominio de la IgM que de la IgG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Títulos bajos y de corta d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81280" y="2781360"/>
            <a:ext cx="22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Más rá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Predominio de la IgG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Títulos altos y mayor d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Respuesta inmune cel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341360"/>
            <a:ext cx="726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bitualmente se mide por ensayos funcionales, ej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Proliferación celular </a:t>
            </a:r>
            <a:r>
              <a:rPr b="0" i="1" lang="es-ES" sz="2400" spc="-1" strike="noStrike">
                <a:solidFill>
                  <a:srgbClr val="00ffff"/>
                </a:solidFill>
                <a:latin typeface="Verdana"/>
              </a:rPr>
              <a:t>in vitro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frente al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(específica) o frente a lectinas (inespecíf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Liberación de cito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Actividad citotóxica de Linfocitos T CD8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19640" y="4365720"/>
            <a:ext cx="266400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34440" y="501336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etermin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infocitos T CD4+ en clínica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tomet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66"/>
                </a:solidFill>
                <a:latin typeface="Verdana"/>
              </a:rPr>
              <a:t>El receptor de las Células (TC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484360" y="1916280"/>
            <a:ext cx="684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No Reconoce antígeno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osee Restricció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Verdana"/>
              </a:rPr>
              <a:t>Reconoce péptidos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en asoc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pertorio estimado 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16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infocitos T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ceptor clonotí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881360" cy="273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700560" y="5229360"/>
            <a:ext cx="164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Célula tumo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ata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por linfocitos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895640" cy="367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2960640" cy="38163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170028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90440" y="476280"/>
            <a:ext cx="538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Supoblaciones de linfocitos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(TCR+CD3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1882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11280" y="1916280"/>
            <a:ext cx="637236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De acuerdo al tipo de cadenas del recept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infocitos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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3716280"/>
            <a:ext cx="6985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Entre los linfocitos T  </a:t>
            </a:r>
            <a:r>
              <a:rPr b="1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, hay 3 subpobl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infocitos T CD4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-  Linfocitos T CD8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-  Linfocitos TNK ( CD4-, CD8-)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omp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lgunos marcadores con las células NK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1933560" cy="27208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55640" y="141300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T cell repertoire selection in the thymus"/>
          <p:cNvPicPr/>
          <p:nvPr/>
        </p:nvPicPr>
        <p:blipFill>
          <a:blip r:embed="rId2"/>
          <a:stretch/>
        </p:blipFill>
        <p:spPr>
          <a:xfrm>
            <a:off x="2987640" y="2060640"/>
            <a:ext cx="5327640" cy="31701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146600" y="404640"/>
            <a:ext cx="69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xpresión del TCR ocurre en el timo en a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Fetal en ausencia del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56610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Selección Negativa y Po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Generación de la diversidad y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Teoría de la selección clona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s-ES_tradnl" sz="1600" spc="-1" strike="noStrike">
                <a:solidFill>
                  <a:srgbClr val="ffffff"/>
                </a:solidFill>
                <a:latin typeface="Tahoma"/>
              </a:rPr>
              <a:t>Frank Macfarlane Burne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87280" y="1989000"/>
          <a:ext cx="673740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67374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9:40:58Z</dcterms:created>
  <dc:creator>nombre</dc:creator>
  <dc:description/>
  <dc:language>en-US</dc:language>
  <cp:lastModifiedBy>Alfredo E De Ioannes</cp:lastModifiedBy>
  <cp:lastPrinted>2000-04-10T20:38:12Z</cp:lastPrinted>
  <dcterms:modified xsi:type="dcterms:W3CDTF">2004-09-08T18:30:30Z</dcterms:modified>
  <cp:revision>116</cp:revision>
  <dc:subject/>
  <dc:title>Sin título de diapositiva</dc:title>
</cp:coreProperties>
</file>