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1E4-0A19-4080-ABA3-D5BD0CDA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E55-7F92-4E90-BE47-9F2030F7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E98-DC9B-42F3-B62A-B7077F83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C89-5633-4DB9-9FF5-374443EE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693-B296-4A23-B4B6-123D61AE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363-DA80-4414-AEBE-10BA7691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E74-3380-4982-970D-7036216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704-E5E1-4548-8A26-501E358B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2C6-E3D4-4F9B-A1DB-08FCC573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654-7990-458C-944D-D2C2D08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668-6B48-4601-B11E-EC8CE0A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8E7-56C5-4F91-95A0-13685721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0DB1-B5E3-4DF3-92EF-8804A0B21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3194" b="45666"/>
          <a:stretch/>
        </p:blipFill>
        <p:spPr>
          <a:xfrm>
            <a:off x="1676520" y="609480"/>
            <a:ext cx="5715000" cy="572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5080" y="260280"/>
            <a:ext cx="633384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67360" y="3233880"/>
            <a:ext cx="8242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ecanismo general de la fosforilación oxidativ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Cuando un electrón de alta energía es transferido a lo larg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adena de transporte electrónico, parte de la energía liberada se utiliza para impulsar la acción de tres complej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zimáticos que bombean protones hacia el exterior del espacio de la matriz. Estos protones generan un grad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troquímico de protones a través de la membrana mitocondrial interna que impulsa a los protones a volver h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matriz a través de la ATP sintetasa, un complejo proteico transmembrana que utiliza la energía del flujo de prot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sintetizar ATP a partir de ADP y Pi en la matriz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28560"/>
            <a:ext cx="2286000" cy="560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3924360" cy="23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819960" y="3213000"/>
            <a:ext cx="5586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os dos componentes del gradiente electroquímico de proton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: La fuer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tón-motriz total a través de la membrana mitocondrial interna está compues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) una gran fuerza debida al gradiente de voltaje (potencial de membrana) a travé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la membrana mitocondrial interna, negativo en el interior y positivo en el exterior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es el resultado neto de la salida de iones positivos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) una pequeña fuerza debida al gradiente de concentración de proton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mbas fuerzas actúan en el sentido de impulsar protones hacia el espaci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riz mitocondri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692280"/>
            <a:ext cx="4572000" cy="547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627440" cy="51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2973600" cy="45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858000" cy="26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5715000" cy="25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201600"/>
            <a:ext cx="5715000" cy="23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8580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743440" cy="37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882720" y="4131720"/>
            <a:ext cx="1333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tein import from the cytosol into the inner mitochondrial membrane or intermembrane space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A) A pathwa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quires two signal sequences and two translocation events is thought to be used to move some proteins from the cytosol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inner membrane. The precursor protein is first imported into the matrix space.Cleavage of the signal sequence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red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 the initial translocation, however, unmasks an adjacent hydrophobic signal sequence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orange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t the new N termin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is signal then directs the protein into the inner membrane, presumably by the same OXA-dependent pathway that is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 insert proteins encoded by the mitochondrial genome. (B) In some cases, the hydrophobic sequence that follow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trix-targeting signal binds to the TIM23 translocator in the inner membrane and stops translocation. The remainde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tein is then pulled into the intermembrane space through the TOM translocator in the outer membrane, and the hydroph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quence is released into the inner membrane. (C) Some soluble proteins of the intermembrane space may also use the pathwa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hown in (A) and (B) before they are released into the intermembrane space by a second signal peptidase, which has its a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te in the intermembrane space and removes the hydrophobic signal sequence. (D) The import pathway used to insert metabo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rrier proteins into the inner mitochondrial membrane utilizes the TIM22 complex, which is specialized for the transloca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ass membrane prote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617400"/>
            <a:ext cx="5715000" cy="562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90360"/>
            <a:ext cx="3168720" cy="672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04720" y="47628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*La Mitocondria presenta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rana extern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y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rana intern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que definen dos compartimentos: el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spacio intermembranoso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y l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triz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*Si las Mit purificadas se rompen suavemente y luego se fraccionan sus distintos componentes se puede determinar la composición bioquímica de cada membrana y de los espacios delimitados por el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53615" r="0" b="0"/>
          <a:stretch/>
        </p:blipFill>
        <p:spPr>
          <a:xfrm>
            <a:off x="762120" y="762120"/>
            <a:ext cx="7440480" cy="488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9280" y="549360"/>
            <a:ext cx="238896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346760" y="5373000"/>
            <a:ext cx="625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ergy from sunlight or the oxidation of foodstuffs is first used to create an electrochemical pro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radient across a membrane. This gradient serves as a versatile energy store and is used to driv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ariety of energy-requiring reactions in mitochondria, chloroplasts, and bacte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09760" y="1484280"/>
            <a:ext cx="452448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49" name=""/>
          <p:cNvGraphicFramePr/>
          <p:nvPr/>
        </p:nvGraphicFramePr>
        <p:xfrm>
          <a:off x="324000" y="4957920"/>
          <a:ext cx="9144000" cy="919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a9194c"/>
                          </a:solidFill>
                          <a:latin typeface="Arial"/>
                        </a:rPr>
                        <a:t>The ATP molecule serves as an energy carrier in cells.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energy-requiring formation of ATP from ADP and inorgan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ate is coupled to the energy-yielding oxidation of foodstuffs (in animal cells, fungi, and some bacteria) or to the cap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light energy (in plant cells and some bacteria). The hydrolysis of this ATP back to ADP and inorganic phosphate in tu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he energy to drive many cellular react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800" y="4340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002120" cy="537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202120" cy="164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4800600" cy="369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526760" y="5635800"/>
            <a:ext cx="606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lgunos procesos de transporte activo impulsados por el gradiente electroquímico a través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embrana mitocondrial inter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6:06:54Z</dcterms:created>
  <dc:creator>mfernadez</dc:creator>
  <dc:description/>
  <dc:language>en-US</dc:language>
  <cp:lastModifiedBy>mfernadez</cp:lastModifiedBy>
  <dcterms:modified xsi:type="dcterms:W3CDTF">2004-09-09T19:36:56Z</dcterms:modified>
  <cp:revision>9</cp:revision>
  <dc:subject/>
  <dc:title>Diapositiva 1</dc:title>
</cp:coreProperties>
</file>