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D79-D066-43A6-94EE-D7F87A4A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25E-39FE-4FCB-9D46-3C31009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FF9-9904-4AF2-B823-979FC62E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948-A15F-40E5-A75A-669F38AB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0A1-9E68-4108-A7EA-9CE4062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06F-A0C5-454B-82FF-F454C5F8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42C-0AE3-4E5B-960F-9630294F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09E-01CE-48DB-87B1-70D22AB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C92-73E2-4AB1-BA83-A83F069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73C-29FB-494C-91F0-FEC97D41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8C0-E8B2-4E5C-ACC7-0A60A4E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2A3-58EE-49B8-9AF2-F575D19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E0B-57FD-43AD-9FBA-3DCD2A94CF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19432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32280" y="3429000"/>
            <a:ext cx="2619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11960" y="404640"/>
            <a:ext cx="190512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828800"/>
            <a:ext cx="47628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14680" y="2004840"/>
            <a:ext cx="5715000" cy="28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62320" y="1100160"/>
            <a:ext cx="261936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3716280"/>
            <a:ext cx="571500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7560" y="608040"/>
            <a:ext cx="476244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715000" cy="38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33360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26193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62320" y="1743120"/>
            <a:ext cx="261936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700280"/>
            <a:ext cx="476280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20:08:44Z</dcterms:created>
  <dc:creator>mfernadez</dc:creator>
  <dc:description/>
  <dc:language>en-US</dc:language>
  <cp:lastModifiedBy>mfernadez</cp:lastModifiedBy>
  <dcterms:modified xsi:type="dcterms:W3CDTF">2004-08-23T21:23:50Z</dcterms:modified>
  <cp:revision>3</cp:revision>
  <dc:subject/>
  <dc:title>Diapositiva 1</dc:title>
</cp:coreProperties>
</file>