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EAD6-B6A5-4156-BD65-7DF9BFF5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7E07-474C-4ABD-A3E2-144ECFFD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74BD-8AD6-4E12-9A50-DC40305AB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4F00-D8E7-47B7-B939-05E602F85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B299-E21A-41FF-ACD1-28666FF3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EF65-C8C2-44DF-9CDA-495A03C5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A868-FB2E-4796-B2AE-63E5561D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1224-9770-4C89-ACD9-CD130E58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C376-8A78-4CB8-8433-3DB1A337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C590-0121-414F-A0DF-C43F7250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AFBF-35E1-4522-BCCA-49BD21D9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1687-8727-4EB3-8104-9ADF0FF2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66F8-D16B-433E-AC42-AAE181B1F72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6920" y="692280"/>
            <a:ext cx="1943280" cy="243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32280" y="3429000"/>
            <a:ext cx="261936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411960" y="404640"/>
            <a:ext cx="1905120" cy="390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190600" y="1828800"/>
            <a:ext cx="476280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14680" y="2004840"/>
            <a:ext cx="5715000" cy="284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62320" y="1100160"/>
            <a:ext cx="2619360" cy="465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35280" y="3716280"/>
            <a:ext cx="5715000" cy="191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257560" y="608040"/>
            <a:ext cx="4762440" cy="20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35280" y="1197000"/>
            <a:ext cx="5715000" cy="38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35640" y="1773360"/>
            <a:ext cx="3333600" cy="329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403280" y="1844640"/>
            <a:ext cx="2619360" cy="32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62320" y="1743120"/>
            <a:ext cx="2619360" cy="337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90600" y="1700280"/>
            <a:ext cx="4762800" cy="34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7T20:08:44Z</dcterms:created>
  <dc:creator>mfernadez</dc:creator>
  <dc:description/>
  <dc:language>en-US</dc:language>
  <cp:lastModifiedBy>mfernadez</cp:lastModifiedBy>
  <dcterms:modified xsi:type="dcterms:W3CDTF">2004-08-23T21:23:50Z</dcterms:modified>
  <cp:revision>3</cp:revision>
  <dc:subject/>
  <dc:title>Diapositiva 1</dc:title>
</cp:coreProperties>
</file>