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E5B-E635-4E7B-81D0-A74AB163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03C-0401-4B97-A217-B50CA93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A0D-929A-407B-928D-AE5D2231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EE3-C144-40A6-AB3D-45C06A05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7B5-9D5D-4CC7-A87D-7F27B396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465-49E7-47C5-9D65-D6E010CA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AC9-6F85-4288-B268-528FB847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5B5-C8D3-4845-816B-5453DB54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D29-C00F-4C79-A01F-C46F7DB3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39C-81F5-4810-AFBB-DF59DAF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9A2-A45F-4A26-9C6A-89D7300D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013-1790-4AA2-9969-C107D5D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BFDA-4D55-46CF-9D86-42EE6FEA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60720" y="1125360"/>
            <a:ext cx="3095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1471680"/>
            <a:ext cx="5715000" cy="39146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486160"/>
            <a:ext cx="3809880" cy="1885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79960" y="2060640"/>
            <a:ext cx="1905120" cy="2400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78040" y="4699080"/>
            <a:ext cx="425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exocitosis regulada es una respuesta localizada de la membr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lasmática y del citoplasma subya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20560" y="4699080"/>
            <a:ext cx="26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ando estimulador fijado artificial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una superficie sól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36640" y="1700280"/>
            <a:ext cx="5715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76280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381024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98640" y="917640"/>
            <a:ext cx="5410080" cy="40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35840" cy="35132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62440" cy="3619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0124"/>
          <a:stretch/>
        </p:blipFill>
        <p:spPr>
          <a:xfrm>
            <a:off x="1714680" y="1220760"/>
            <a:ext cx="5715000" cy="43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0600" y="1114560"/>
            <a:ext cx="4762800" cy="462888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1514520"/>
            <a:ext cx="3810240" cy="382896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1:19:21Z</dcterms:created>
  <dc:creator>mfernadez</dc:creator>
  <dc:description/>
  <dc:language>en-US</dc:language>
  <cp:lastModifiedBy>mfernadez</cp:lastModifiedBy>
  <dcterms:modified xsi:type="dcterms:W3CDTF">2004-08-23T21:20:36Z</dcterms:modified>
  <cp:revision>1</cp:revision>
  <dc:subject/>
  <dc:title>Diapositiva 1</dc:title>
</cp:coreProperties>
</file>