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327FE-493E-41B2-8E76-952897811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50C59-685F-459D-B376-52006C3C5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167AB-16A6-4603-A6EF-0924048B6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B10F7-F436-403B-891A-F0479DE38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54EE7-3829-43F5-9478-484FBB0EE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31509-3692-4C4B-8FE4-E1A52AD60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03B25-4D37-4F74-A205-17C74F43A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649F9-3A19-44D6-A25A-25A70258F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7BAB1-3FBB-448E-88D3-E848DF800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F06F3-00D8-4296-94E8-A7B117BAB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08FCB-87FB-4A9B-9691-8A9F140BD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8ED74-AFC7-4598-A4A4-EF3327800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1149A-409C-4CD9-B06D-6AF4C921D9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060720" y="1125360"/>
            <a:ext cx="3095640" cy="4105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714680" y="1471680"/>
            <a:ext cx="5715000" cy="3914640"/>
          </a:xfrm>
          <a:prstGeom prst="rect">
            <a:avLst/>
          </a:prstGeom>
          <a:ln w="9360">
            <a:solidFill>
              <a:srgbClr val="d6009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116000" y="2486160"/>
            <a:ext cx="3809880" cy="188568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79960" y="2060640"/>
            <a:ext cx="1905120" cy="240012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  <p:sp>
        <p:nvSpPr>
          <p:cNvPr id="54" name=""/>
          <p:cNvSpPr/>
          <p:nvPr/>
        </p:nvSpPr>
        <p:spPr>
          <a:xfrm>
            <a:off x="878040" y="4699080"/>
            <a:ext cx="4251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La exocitosis regulada es una respuesta localizada de la membran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plasmática y del citoplasma subyacent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920560" y="4699080"/>
            <a:ext cx="2693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gando estimulador fijado artificialmen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 una superficie sólid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736640" y="1700280"/>
            <a:ext cx="5715000" cy="3124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908000" y="260280"/>
            <a:ext cx="4762800" cy="3029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484360" y="3573360"/>
            <a:ext cx="3810240" cy="3067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898640" y="917640"/>
            <a:ext cx="5410080" cy="40240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042920" y="1484280"/>
            <a:ext cx="7035840" cy="3513240"/>
          </a:xfrm>
          <a:prstGeom prst="rect">
            <a:avLst/>
          </a:prstGeom>
          <a:ln w="9360">
            <a:solidFill>
              <a:srgbClr val="d6009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195640" y="1628640"/>
            <a:ext cx="4762440" cy="361980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rcRect l="0" t="0" r="0" b="40124"/>
          <a:stretch/>
        </p:blipFill>
        <p:spPr>
          <a:xfrm>
            <a:off x="1714680" y="1220760"/>
            <a:ext cx="5715000" cy="4368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190600" y="1114560"/>
            <a:ext cx="4762800" cy="4628880"/>
          </a:xfrm>
          <a:prstGeom prst="rect">
            <a:avLst/>
          </a:prstGeom>
          <a:ln w="9360">
            <a:solidFill>
              <a:srgbClr val="d6009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666880" y="1514520"/>
            <a:ext cx="3810240" cy="3828960"/>
          </a:xfrm>
          <a:prstGeom prst="rect">
            <a:avLst/>
          </a:prstGeom>
          <a:ln w="9360">
            <a:solidFill>
              <a:srgbClr val="d6009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3T21:19:21Z</dcterms:created>
  <dc:creator>mfernadez</dc:creator>
  <dc:description/>
  <dc:language>en-US</dc:language>
  <cp:lastModifiedBy>mfernadez</cp:lastModifiedBy>
  <dcterms:modified xsi:type="dcterms:W3CDTF">2004-08-23T21:20:36Z</dcterms:modified>
  <cp:revision>1</cp:revision>
  <dc:subject/>
  <dc:title>Diapositiva 1</dc:title>
</cp:coreProperties>
</file>