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115-A485-45C5-A32B-6D05895D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D8A-DC22-4666-A5F3-07D58248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33B-F8A3-46DC-BF8A-4B584694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677-54CC-4812-9240-AC2C12F1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AFA-07A0-4D39-B068-1C26AFBA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4B4-6999-4B97-A3BB-662CCB1A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818-19EA-4E68-BB54-52DB545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4D8-74D4-4FEE-A510-A5C7633A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934-443D-4949-823D-69D477F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DF4-A8F2-452F-A770-9489BDC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8C6-044E-4911-A2B4-CFBB146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6A4-FD80-4F02-8F42-5193BE9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6A5-24DB-4717-B3CA-4F54ED424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0720" y="1125360"/>
            <a:ext cx="3095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1471680"/>
            <a:ext cx="5715000" cy="39146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486160"/>
            <a:ext cx="3809880" cy="1885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79960" y="2060640"/>
            <a:ext cx="1905120" cy="2400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78040" y="4699080"/>
            <a:ext cx="425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exocitosis regulada es una respuesta localizada de la membr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lasmática y del citoplasma subya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20560" y="4699080"/>
            <a:ext cx="26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ando estimulador fijado artifici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una superficie sól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36640" y="1700280"/>
            <a:ext cx="5715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76280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381024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98640" y="917640"/>
            <a:ext cx="5410080" cy="40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35840" cy="35132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62440" cy="3619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0124"/>
          <a:stretch/>
        </p:blipFill>
        <p:spPr>
          <a:xfrm>
            <a:off x="1714680" y="1220760"/>
            <a:ext cx="5715000" cy="43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0600" y="1114560"/>
            <a:ext cx="4762800" cy="462888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1514520"/>
            <a:ext cx="3810240" cy="382896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1:19:21Z</dcterms:created>
  <dc:creator>mfernadez</dc:creator>
  <dc:description/>
  <dc:language>en-US</dc:language>
  <cp:lastModifiedBy>mfernadez</cp:lastModifiedBy>
  <dcterms:modified xsi:type="dcterms:W3CDTF">2004-08-23T21:20:36Z</dcterms:modified>
  <cp:revision>1</cp:revision>
  <dc:subject/>
  <dc:title>Diapositiva 1</dc:title>
</cp:coreProperties>
</file>