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3ED-A64E-4590-8560-EFBFA9D1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E98-B642-41A0-87AD-4D2795BD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636-ACBD-483F-8291-14E4A9D1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C32-F37F-480C-B060-3ADE6F32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2A8-9427-4CE2-AD99-83283A26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0D5-BD73-406E-8666-2028A4AF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AA6-D376-4E6B-92F1-254095B9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F00-6C34-4DF8-BE6B-9ABAC2D0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A35-D0FB-463B-89A0-0B1862D2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C5A-C680-4539-BBF9-52E08C58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F5E-8335-4596-8460-4E21E91B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595-EEA2-4FC0-BA01-A3AA694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1477-58DC-4D5D-8A8F-8B0A9158E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pacidad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5-09T17:17:56Z</dcterms:modified>
  <cp:revision>5</cp:revision>
  <dc:subject/>
  <dc:title>Presentación de PowerPoint</dc:title>
</cp:coreProperties>
</file>