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594-5FA9-4EDE-B596-4F5C9AB1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8DD-8C38-46F5-88A7-7B4DE107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20E-3934-4C29-AAA2-A147E762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422-4B2B-4517-849F-44ED5A9F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151-24B6-476E-B130-C6DB29D8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000-ABC4-445E-AA4F-D9895C31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AA1-490D-41EE-8C80-300B35F7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E37-6007-4C44-89D8-7C4E07D0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6CD-4192-4C14-B40F-EE4C7DE9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691-B13F-4218-B092-C1533A48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766-9989-48C1-B397-CEE8FDC6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6DC-FBBA-4267-BD5A-80A78A6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8C82-D12E-4C9E-93FD-87CCF2DC4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pacidad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5-09T17:17:56Z</dcterms:modified>
  <cp:revision>5</cp:revision>
  <dc:subject/>
  <dc:title>Presentación de PowerPoint</dc:title>
</cp:coreProperties>
</file>