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CF9-7B6E-4901-9EA1-208FDEC8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AD66-9873-4266-9750-12A8BC03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FD3B-A88B-4794-9E59-D5781F79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CB02-3F96-4471-9F8C-51CC0F9F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75C-F5B2-4ED7-8D75-BBDEB74E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3EDF-632F-4E0D-AF1D-9F2FFEBE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54E-84A2-4880-A51C-FE240E29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E4C-CE76-4935-AC51-5CCC3573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8EB-CC77-4427-B58F-A990026C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10EE-A838-468F-9598-DD3ED7D1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FFB-A68B-43D8-BEF1-0C9E31E8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568-DE1D-437B-A5AD-9FDF02E2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696E-3BDE-4853-8AB2-9FDCEA83D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pacidad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23880" y="1905120"/>
          <a:ext cx="6096240" cy="2971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pax/bus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US$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429360" y="86364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os de b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5-09T17:17:56Z</dcterms:modified>
  <cp:revision>5</cp:revision>
  <dc:subject/>
  <dc:title>Presentación de PowerPoint</dc:title>
</cp:coreProperties>
</file>