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76116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B3BE-CB2A-4A22-A46E-7E2E21ACA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F809-D926-47A2-AA5B-9A4156D23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2F05-62AA-4CB7-BCD0-1263BC791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4232-CBB3-4474-A01D-18A7E15C3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92B5-8957-4D6E-A7CF-F8EA1B53A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1457-2720-4E1C-8007-76B7C718B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DDB9-2DC4-45EA-A20B-83BD3BFA2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F816-07F5-42D2-9D2F-A5A20938E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A719-E0CA-4F33-9EFC-800322FC4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401F-9110-46CC-A933-13D496F1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36FE-87C9-444E-8BA8-EC84B9FC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C2F8-1700-487B-9028-72E376C3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2FC7C-E110-42DA-AF1E-3FAAC1A7EC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101080" cy="6165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19280" y="26028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apacidad V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5280" y="1219320"/>
            <a:ext cx="17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stas por sent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r ar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523880" y="1905120"/>
          <a:ext cx="6096240" cy="29718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ac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pax/bus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US$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articul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ticul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di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que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0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3429360" y="863640"/>
            <a:ext cx="229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pos de bu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4T14:39:27Z</dcterms:created>
  <dc:creator>cc</dc:creator>
  <dc:description/>
  <dc:language>en-US</dc:language>
  <cp:lastModifiedBy>Cristián Cortés</cp:lastModifiedBy>
  <dcterms:modified xsi:type="dcterms:W3CDTF">2004-05-09T17:17:56Z</dcterms:modified>
  <cp:revision>5</cp:revision>
  <dc:subject/>
  <dc:title>Presentación de PowerPoint</dc:title>
</cp:coreProperties>
</file>