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8F6-616B-4C0D-AA5D-E9551528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BCF-0BB9-411B-B49C-999580C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702-B338-4325-A68B-4622560E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C08-2763-44ED-94D2-EB234695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162-EB78-4EB4-9AEB-61CAB2F5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7D33-22EF-4A7E-B627-212E19D9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04F-AD48-4DCE-A049-B9BA5E5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C704-78C9-4A57-9F98-1AA3B207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110C-651D-4C4D-AF12-2A7C0D0C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49CC-EE22-4985-AB3C-29CFF07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20DB-751E-49BD-BDBB-3B70FB0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158-82DC-4AA7-9FF8-FDA9391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65E9-FA9F-4075-AF33-F9AA3C5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BEED-F84B-4462-8FB5-5E0E7BB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06A1-89CF-41C2-BF8C-3331A9EF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7D40-1588-4AB1-970F-CBFF71B8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EDA1-F85D-4E09-AD45-A97A9DEB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CBA-A925-457E-8F92-886AF6CD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017-6795-4A42-875F-46601AB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DB0-E738-4D5B-9EA8-9E0BE53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778-596F-4958-ACED-C1AC23A6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966-6595-44DD-BC94-6B9C9F3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1C3-3048-461A-B8D9-07CDB2D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DB7-2973-41EB-BF8B-AE9926B5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384-465A-4E22-91F2-503F0F770DE7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A03-7EC0-40AE-8136-79958FE5E3EB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99"/>
                </a:solidFill>
                <a:latin typeface="Arial Narrow"/>
              </a:rPr>
              <a:t>Diseño elementos mecánicos en CAD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133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g. Reinaldo Küh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. de Chi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epto. Ingeniería Mecánic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0477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Obje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l objetivo del seminario es introducir a los alumnos al diseño de elementos y conjuntos mecánicos mediante la herramienta C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5680" y="5105520"/>
          <a:ext cx="311472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5105520"/>
                    <a:ext cx="3114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Un proceso de Diseñ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dentificación de la necesid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nvestigación de anteceden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unciado del objetiv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specificaciones de la tare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Selecció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iseño Detallad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Prototipos y Prueb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Producció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Diseño Asistido por Computador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l seminario se realizará en el Laboratorio de mecánica comp. del Dpto. de Ingeniería Mecánica 4to Pis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ías 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Martes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 18:00 a 19:30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Grupos de trabajo supervisad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espieze, ensamble y dibujo en 3D de elementos mecánic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ntrega de 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 inform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Carta Gantt Actividad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590920"/>
          <a:ext cx="8325000" cy="217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32500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576252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57800" y="3124080"/>
          <a:ext cx="32385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124080"/>
                    <a:ext cx="32385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19520" y="1219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3:32:24Z</dcterms:created>
  <dc:creator>rkuhn</dc:creator>
  <dc:description/>
  <dc:language>en-US</dc:language>
  <cp:lastModifiedBy>Manuel Tejeda</cp:lastModifiedBy>
  <dcterms:modified xsi:type="dcterms:W3CDTF">2004-03-09T18:41:05Z</dcterms:modified>
  <cp:revision>9</cp:revision>
  <dc:subject/>
  <dc:title>Introducción al Diseño Mecánico</dc:title>
</cp:coreProperties>
</file>