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647-8BD1-464F-9FCA-C46D1575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3A1-A2E9-43BE-8948-484E9170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4B6C-278A-4244-9EFE-7EC89D74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81C3-1D7F-44A6-A52A-E2A4B15D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C4D9-E75B-4A48-BF05-C17BCE21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2E32-C5BE-407B-9E2E-7FE1BC72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C326-6919-4A76-B11D-6B2F784D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8BAE-40C0-464C-A34E-9B0B7638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9E4E-A89C-4584-B082-69BE6B44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B7AF-A4D6-4C7D-B3CA-E2C93335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C529-B79E-4A58-A056-82318CCB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96A8-010B-409B-A55F-A1DC6A29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765C-0E95-4C80-8F1A-D5F71A20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13E4-19C4-4D74-9634-C354DF8A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46BF-90A3-4164-B065-C700CB94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E914-56BF-4BCE-9BE2-5134FE7C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19BE-BE27-48D0-B8BE-D86B6FC5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2BD-0DE7-4A36-987F-44A5104F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0EE-6220-4628-AD6F-EB5EC1F3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87A8-0F4C-45FC-AF73-F03B291B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84B-EEEC-459D-AD7A-457180FA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F9F8-902C-4BC2-A031-246BEB3D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BBB-A520-4F34-BADB-89A1D3A4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7156-64B6-4D37-BBB6-DD5C7211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1291-D07C-43E5-906F-08E303B53DD7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4578-28AA-4907-8087-FC2B471F2C55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4640" y="22824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6699"/>
                </a:solidFill>
                <a:latin typeface="Arial Narrow"/>
              </a:rPr>
              <a:t>Diseño elementos mecánicos en CAD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14800" y="21337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Ing. Reinaldo Küh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U. de Chil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Depto. Ingeniería Mecánic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4120" y="3809880"/>
            <a:ext cx="30477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Objetivo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El objetivo del seminario es introducir a los alumnos al diseño de elementos y conjuntos mecánicos mediante la herramienta CA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495680" y="5105520"/>
          <a:ext cx="311472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5105520"/>
                    <a:ext cx="311472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Un proceso de Diseñ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Identificación de la necesida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Investigación de antecedent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Enunciado del objetivo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Especificaciones de la tare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Idea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Selecció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Diseño Detallado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Prototipos y Prueba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Producció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Diseño Asistido por Computador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160" y="22096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El seminario se realizará en el Laboratorio de mecánica comp. del Dpto. de Ingeniería Mecánica 4to Pis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Días </a:t>
            </a:r>
            <a:r>
              <a:rPr b="0" lang="es-CL" sz="2400" spc="-1" strike="noStrike">
                <a:solidFill>
                  <a:srgbClr val="009999"/>
                </a:solidFill>
                <a:latin typeface="Arial"/>
              </a:rPr>
              <a:t>Martes</a:t>
            </a: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 18:00 a 19:30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Grupos de trabajo supervisad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Despieze, ensamble y dibujo en 3D de elementos mecánico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Entrega de </a:t>
            </a:r>
            <a:r>
              <a:rPr b="0" lang="es-CL" sz="24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 informes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Carta Gantt Actividad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2590920"/>
          <a:ext cx="8325000" cy="217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0920"/>
                    <a:ext cx="832500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971800" y="609480"/>
            <a:ext cx="5762520" cy="54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5257800" y="3124080"/>
          <a:ext cx="323856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124080"/>
                    <a:ext cx="323856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819520" y="12193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23:32:24Z</dcterms:created>
  <dc:creator>rkuhn</dc:creator>
  <dc:description/>
  <dc:language>en-US</dc:language>
  <cp:lastModifiedBy>Manuel Tejeda</cp:lastModifiedBy>
  <dcterms:modified xsi:type="dcterms:W3CDTF">2004-03-09T18:41:05Z</dcterms:modified>
  <cp:revision>9</cp:revision>
  <dc:subject/>
  <dc:title>Introducción al Diseño Mecánico</dc:title>
</cp:coreProperties>
</file>