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AFB-4A1D-4B51-85F5-833033FA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923-F4AD-44BE-81A0-E916F03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612-C0F2-43E7-93D2-7E5CC10D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ABC-66C4-4AD7-9F08-F2B90FCC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5AD4-30FA-4939-8ABB-2ABB47DA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19E8-B0B2-4BE0-B7E2-7DF571C3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073-B60F-40F2-8F81-50190D9F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0987-4FE9-44D8-AB97-DBB9C17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011C-F0EF-4707-829D-D88637E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EBB-A518-42C7-B123-111F9DE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874-A5E8-4F2C-8CFE-21C9118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F10-CBAE-4CE3-B13C-2728805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184-6812-4E31-95C6-2B12C8E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D60-0EF0-4CA4-8DCC-478CA85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42F-D7D2-457F-AA5B-B51EDCE9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525-0866-4F80-9AC4-E4DEF05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1CC3-76B7-4D88-96B7-1B3CB6CA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C58-5FC5-4D5F-9B6F-5ED6D717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27D-E9A7-4DFD-AE0B-4A89A6E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A27-0877-4239-B013-5AE5B6C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A34-552E-4704-9DB7-F8A6F950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3B1-EB4B-4F2C-8EC5-028A072F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C71-6837-4D4F-9F72-C2FD567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996-8E69-4AC4-A4F9-4A1BB84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D92-16C4-4CA5-A8DC-BDE095842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764-AE0B-4BB8-A33C-39B08D4B97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4647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Ciencias Físicas y Matemá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Ingeniería Eléctr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590920"/>
            <a:ext cx="5715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forme final de Seminario de Diseño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ÜFKE: La joyita renov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962520"/>
            <a:ext cx="335268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ntes: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J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rge Lemu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Javier Moy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ebastián Oliv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blo Sa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fesor: Rodrigo P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echa : 3 de octubre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o-ing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28400" y="22096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09588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449568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267080"/>
            <a:ext cx="6098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65760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984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Tempera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44197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Vol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9532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SobreAmpe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1720" y="2133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990720" cy="87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06480" y="29718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diante archivos de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41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5200" y="2133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76720" y="2376360"/>
          <a:ext cx="5310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76360"/>
                    <a:ext cx="5310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19520" y="3657600"/>
            <a:ext cx="27432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080" y="4495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ipador de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99" name="excel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562440" cy="4124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21337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álculo de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Dificulta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8880" y="2743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2520" y="3581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acio en el laboratorio de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8680" y="445284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ocimientos sobr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7440" y="5257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ibilidad del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19520" cy="159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000" y="601992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e último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Conclusi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0" y="2471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urante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4572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ación auto eléctrico-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9080" y="533412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ficiencia del 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lograron objetiv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733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clusión sobre algun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9144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otiv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90512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losión demográfica e incremento de la adquisición de automó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gases tóxicos en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6320" y="28954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ruido en la ciu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3880" y="9144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Reseña histór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948680" y="26668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cocia 1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240" y="34290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reras de autos 1889 y 18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9880" y="41911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arrollo en los últimos 2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962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un sistema de monitoreo eficiente para el au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971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 GENER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00320" y="22096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S ESPECÍFIC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743200"/>
            <a:ext cx="7848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jorar las falencias que tiene el conversor digital y el amplificador operacional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corporar al auto eléctrico los elementos de monitoreo que aún no se han instal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contrar la posición adecuada del Laptop dentro del auto eléctrico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ñadir o quitar elementos de la interfaz de 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r un sistema de registro de las mediciones tomadas en cada viaje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uscar la mejor manera de advertir al usuario los proble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lucionar el problema de la ventilación del controlador del auto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ar detalladamente todo el desarrollo, es decir, disponer de un manual de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9907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ateri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112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733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rsor análog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160" y="43434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mplificad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4080" y="49528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b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4800" y="54864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ns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propuest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2480" y="56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240" y="21337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3:27Z</dcterms:created>
  <dc:creator>auto</dc:creator>
  <dc:description/>
  <dc:language>en-US</dc:language>
  <cp:lastModifiedBy>auto</cp:lastModifiedBy>
  <dcterms:modified xsi:type="dcterms:W3CDTF">2003-12-01T13:26:52Z</dcterms:modified>
  <cp:revision>12</cp:revision>
  <dc:subject/>
  <dc:title>Presentación de PowerPoint</dc:title>
</cp:coreProperties>
</file>