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96F-F80F-4C48-9E51-505ADD0C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4C90-41E6-4CF9-9AD4-47376E36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F16-4F6B-4D97-86C3-B2A2B440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75EC-970A-4AFE-A008-504E973C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E5A-43AE-49AF-B3B8-06A36370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5B1-7012-4F78-828B-626D1936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012-027A-4FFB-A011-07F941D5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F1CC-423F-42B8-9856-B971250B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980-D3BE-4C4B-BCC8-4C342D41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0E2-4DC8-4B89-B548-497C2EFA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8CA-5287-445E-ADC8-0A048F0E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9A7-E310-4191-9AEA-0F4AB458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9F49-56FD-48A6-AE49-B435AA444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734-BFFA-40E2-9AB9-7C53700393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7B6-248E-4A4A-95DF-45456AB283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DDF-7FFE-4C77-B7A5-9093BB47CA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E6C-E3EF-4DF4-8C9D-159A56AD05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C2B-B70C-45DF-9348-CFB7AA63B1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0DD-8CE7-4766-ADFC-06823EB799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217-D8F0-4C4C-B3B1-952F3D5D63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6280-7FD7-4B65-AA7D-1E212626BD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A8A-9C86-43D4-9A27-D0ECFF4BB1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DE1-D9EA-41D0-985D-B15FD0456C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8B1-A15A-477A-9423-8016CE5596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12D-1706-45D1-AC2E-707838CFF9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04:14:51Z</dcterms:created>
  <dc:creator>Hercules</dc:creator>
  <dc:description/>
  <dc:language>en-US</dc:language>
  <cp:lastModifiedBy>Hercules</cp:lastModifiedBy>
  <dcterms:modified xsi:type="dcterms:W3CDTF">2003-07-04T10:40:36Z</dcterms:modified>
  <cp:revision>3</cp:revision>
  <dc:subject/>
  <dc:title>Diapositiva 1</dc:title>
</cp:coreProperties>
</file>