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E578-5B11-40FD-B528-B884CB01D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8BF0-B912-43A5-A45A-2EB65395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5AE2-4BEC-4B6B-A9FD-CF9328B8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9652-788E-4B38-9F3F-C5830FE6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2BA5-54CD-4528-960E-73E72961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A0A2-96BD-436A-BAFA-5E73E46E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8621-8FD7-44AB-9AEB-E34E89D5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C39D-A1AA-4AFD-86D5-77BD7F29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1209-90C2-490D-BEEA-4BEE4AE5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9B8C-CD22-4849-BD63-CC343382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8D2D-6F4F-4B1B-B205-87692985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905E-CA22-4C50-BDD8-BA2D038F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29E9-01D6-4DD6-9104-AD540680E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800A-E969-480C-9047-23C9DEA4C5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385F-BF48-4932-B32D-8086ECF018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2609-0EC0-4FF4-A26A-37EEAB6122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3BB1-200F-419A-8B01-EC2E8FCC44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4C7D-5323-48E4-A6E0-723ABF006D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6CCB-050F-4D28-A54E-21AC18C2A8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FD44-F3BB-4D1C-B42C-2CF9A8C07B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45BE-82FA-481C-B098-A7DA7C010F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209C-4F5F-480F-B213-692ECF0BB6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47FD-FA38-4B5D-A625-50E32997A6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F7A3-405D-4905-9DD5-5706F97317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9CEA-36AB-40EE-B3B2-1FB134EE74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4T04:14:51Z</dcterms:created>
  <dc:creator>Hercules</dc:creator>
  <dc:description/>
  <dc:language>en-US</dc:language>
  <cp:lastModifiedBy>Hercules</cp:lastModifiedBy>
  <dcterms:modified xsi:type="dcterms:W3CDTF">2003-07-04T10:40:36Z</dcterms:modified>
  <cp:revision>3</cp:revision>
  <dc:subject/>
  <dc:title>Diapositiva 1</dc:title>
</cp:coreProperties>
</file>