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3.wmf" ContentType="image/x-wmf"/>
  <Override PartName="/ppt/media/image10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A9D7-B606-43E3-AB66-5C2DBDD4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3CD6-973A-4A93-AA49-34493C10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B133-AC0C-4ABF-93BA-757C2979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7CEF-D08F-469D-B238-D202C6A1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306C-6253-4108-AC9E-7A3F8F49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EE7C-E6D0-48AB-BE6F-BFA38C3C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CF77-A90F-4C11-8898-635F0E1A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904E-A6BE-455E-A9FA-9056980D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E887-2C5C-4E7B-BC4E-588097C8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31DF-8AA0-4A7C-8811-E0C5573C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8D02-FF08-4580-BA8E-39C6B9EF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E2F-1A2C-45BF-951B-889FAC3A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A054-FBE5-4A5F-B9BB-AD19AA51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B864-AD8A-485E-B424-8AE2D901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D61C-E905-4434-A685-7595A5DA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6772-4759-4964-A60B-07D8C575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A469-17AF-487D-8931-25AD1AAD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CCB8-2D7D-409A-83E6-05CBAEFA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094E-4438-4965-8CB8-77DA9969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E18F-CEF3-46FB-AC00-D0DF1848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A7CC-F314-4953-93AD-3C059111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C5A0-5E4E-4053-B5C3-FB92F757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BE3F-5D7B-46AB-AD5D-954CBCF0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E899-5FBF-407E-89D5-D915CD3D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3B16-60E5-40DE-AEBC-E6DB40779B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9D9A-8D36-4236-BD39-95AE62A343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18140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457200"/>
            <a:ext cx="46479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acultad de Ciencias Físicas y Matemátic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partamento de Ingeniería Eléctrica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2590920"/>
            <a:ext cx="5715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Informe final de Seminario de Diseño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LÜFKE: La joyita renovad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3962520"/>
            <a:ext cx="3352680" cy="25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ntegrantes: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 J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orge Lemus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Javier Moya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Sebastián Oliva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blo Sa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rofesor: Rodrigo Pal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Fecha : 3 de octubre de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8140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logo-ing" descr=""/>
          <p:cNvPicPr/>
          <p:nvPr/>
        </p:nvPicPr>
        <p:blipFill>
          <a:blip r:embed="rId1"/>
          <a:stretch/>
        </p:blipFill>
        <p:spPr>
          <a:xfrm>
            <a:off x="1752480" y="-228600"/>
            <a:ext cx="1239840" cy="190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28400" y="220968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armas de 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6095880" cy="3772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962520" y="4495680"/>
            <a:ext cx="6094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4267080"/>
            <a:ext cx="60984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3657600"/>
            <a:ext cx="6094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498492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0000"/>
                </a:solidFill>
                <a:latin typeface="Tahoma"/>
              </a:rPr>
              <a:t>Alarma de Tempera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441972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0000"/>
                </a:solidFill>
                <a:latin typeface="Tahoma"/>
              </a:rPr>
              <a:t>Alarma de Volt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4495320" y="3276720"/>
            <a:ext cx="2286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0000"/>
                </a:solidFill>
                <a:latin typeface="Tahoma"/>
              </a:rPr>
              <a:t>Alarma SobreAmper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0948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1720" y="213372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Registro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990720" cy="8762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06480" y="297180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ediante archivos de 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066680" y="3962520"/>
            <a:ext cx="7418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8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65200" y="21337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Venti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76720" y="2376360"/>
          <a:ext cx="531000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376360"/>
                    <a:ext cx="531000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819520" y="3657600"/>
            <a:ext cx="2743200" cy="2057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4080" y="449568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isipador de c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pic>
        <p:nvPicPr>
          <p:cNvPr id="199" name="excel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6562440" cy="41241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3352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43240" y="213372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álculo de Efi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523880" y="99072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Dificulta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30481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18880" y="274320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3886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92520" y="3581280"/>
            <a:ext cx="55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pacio en el laboratorio de mecá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4724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58680" y="4452840"/>
            <a:ext cx="49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ocimientos sobre electr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5562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27440" y="525780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isponibilidad del 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2819520" cy="1598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62120" y="6324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81000" y="6019920"/>
            <a:ext cx="46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oblemas de último mo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523880" y="99072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Conclusio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76800" y="247176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oblemas durante el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4800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41520" y="4572000"/>
            <a:ext cx="61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mparación auto eléctrico-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720" y="5562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39080" y="5334120"/>
            <a:ext cx="406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ficiencia del auto eléc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62320" y="28954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3048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e lograron objetivos 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37339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clusión sobre algunos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523880" y="914400"/>
            <a:ext cx="4419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Motivació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00600" y="4191120"/>
            <a:ext cx="3581280" cy="2506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343400" y="1905120"/>
            <a:ext cx="42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xplosión demográfica e incremento de la adquisición de automóvi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8006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ás gases tóxicos en el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46320" y="2895480"/>
            <a:ext cx="35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ás ruido en la ciu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20040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523880" y="914400"/>
            <a:ext cx="4876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Reseña históric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1948680" y="266688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cocia 18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895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93240" y="342900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rreras de autos 1889 y 18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4419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9880" y="4191120"/>
            <a:ext cx="49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sarrollo en los últimos 20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523880" y="990720"/>
            <a:ext cx="4038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Objetivo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39625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ispon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de un sistema de monitoreo eficiente para el auto eléctr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2971800"/>
            <a:ext cx="31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ahoma"/>
              </a:rPr>
              <a:t>OBJETIVO GENERA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23880" y="990720"/>
            <a:ext cx="4038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Objetivo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400320" y="2209680"/>
            <a:ext cx="38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ahoma"/>
              </a:rPr>
              <a:t>OBJETIVOS ESPECÍFIC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743200"/>
            <a:ext cx="784872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Mejorar las falencias que tiene el conversor digital y el amplificador operacional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ncorporar al auto eléctrico los elementos de monitoreo que aún no se han instalado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ncontrar la posición adecuada del Laptop dentro del auto eléctrico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ñadir o quitar elementos de la interfaz de monitore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Implementar un sistema de registro de las mediciones tomadas en cada viaje.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Buscar la mejor manera de advertir al usuario los problem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Solucionar el problema de la ventilación del controlador del auto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ocumentar detalladamente todo el desarrollo, es decir, disponer de un manual de usuar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3276720"/>
            <a:ext cx="24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523880" y="990720"/>
            <a:ext cx="4496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Materi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3040" y="25909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uto eléc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41120" y="3200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ap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39960" y="3733920"/>
            <a:ext cx="38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versor análogo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9160" y="4343400"/>
            <a:ext cx="37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mplificado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pe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54080" y="495288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Labvie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64800" y="548640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ensor de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propuest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7200" y="259092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uidos en las señ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61200" y="320040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stalación de la 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61560" y="388620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armas de 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2600" y="457200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Registro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22400" y="53341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Venti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6248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32480" y="567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91440" y="6019920"/>
            <a:ext cx="34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Cálculo de la efi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97200" y="259092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uidos en las señ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61200" y="320040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stalación de la 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61560" y="388620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armas de 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2600" y="457200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Registro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22400" y="53341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Venti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6248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91440" y="6019920"/>
            <a:ext cx="34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Cálculo de la efi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1440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85240" y="213372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stalación de la 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600200" y="26668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5:43:27Z</dcterms:created>
  <dc:creator>auto</dc:creator>
  <dc:description/>
  <dc:language>en-US</dc:language>
  <cp:lastModifiedBy>auto</cp:lastModifiedBy>
  <dcterms:modified xsi:type="dcterms:W3CDTF">2003-12-01T13:26:52Z</dcterms:modified>
  <cp:revision>12</cp:revision>
  <dc:subject/>
  <dc:title>Presentación de PowerPoint</dc:title>
</cp:coreProperties>
</file>