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91A-7EF9-4ACE-A8A6-48F054F9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AC5-6C9F-414F-8C16-ED610F7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DCF-075E-4DEA-A9A6-EB5EC49A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7B3-9603-49ED-8A4B-35DF95AA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E169-197B-4381-86F4-BAE8A95C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A89E-910E-40FC-BF35-A5EE412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866D-D1BA-4E0C-B203-B56BA2E7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A72-1979-4AC0-BBAB-81CD5E7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2042-4F8D-4E21-A873-46919C16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39FD-0EF3-4469-84A5-30C9283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E825-799E-4E6A-8D99-621A003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9E8-C7FE-4929-BADB-E42CE32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8F3-1F8D-49EE-AE31-3778973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268-3F92-4E23-9AE1-95566ADC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6DFF-F918-4484-A341-FC07FE8C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AE00-52E2-4B56-BC6A-61ADA79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A691-D9A9-4B62-8E0D-12101140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2A5-ED62-4A9F-9480-5F80F12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FA0-47FD-4BD6-B668-CC795DC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6F4-C772-4DCC-9D29-69EC9038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350-998E-40B7-9878-7CF73D7D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5E0-211F-491D-A2D2-4D50CD6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2DD-6FCA-4A7A-98CC-93BF596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B77-9E29-4B8E-A34B-E4A03D6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FC0-690D-4B79-A439-087A32E203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B6A-089A-4800-9DFD-12B51C8A3C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0574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SD20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666720"/>
            <a:ext cx="7772400" cy="59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su nombr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*  Título y Descrip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2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qué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jetivo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*  Un objetivo, simple o compuesto en una línea clara y alineado con la     Defin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sultados Esper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los partícipes en el pro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*  Los resultados deben s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Pos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Exentos o de bajo riesgo obje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Directos de la materializ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No contamin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2895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457200"/>
            <a:ext cx="777240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Valid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cológica (impacto ambien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bjetivos del 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ementos a diseñar (par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tot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228600"/>
            <a:ext cx="419112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Tarea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dentifi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echa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Fecha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l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untos de Co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rategia y Plan de Trabaj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Gant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ción del Av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352680"/>
            <a:ext cx="2819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esgos 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3276720"/>
            <a:ext cx="304560" cy="1676160"/>
          </a:xfrm>
          <a:custGeom>
            <a:avLst/>
            <a:gdLst>
              <a:gd name="textAreaLeft" fmla="*/ 0 w 304560"/>
              <a:gd name="textAreaRight" fmla="*/ 109800 w 3045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DISEÑO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447920"/>
            <a:ext cx="190512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447920"/>
            <a:ext cx="1904760" cy="1218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4724280"/>
            <a:ext cx="190476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3200400"/>
            <a:ext cx="213336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1676520"/>
            <a:ext cx="1143000" cy="838080"/>
          </a:xfrm>
          <a:prstGeom prst="flowChartPunchedTap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ctu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371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438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2940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63996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ci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lu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0574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1520" y="2895480"/>
            <a:ext cx="4572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25527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4876920"/>
            <a:ext cx="4572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3657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486400" y="2362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2666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4419720"/>
            <a:ext cx="0" cy="38088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47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4568"/>
                </a:solidFill>
                <a:latin typeface="Tahoma"/>
              </a:rPr>
              <a:t>CONTROL DEL PROGRESO DEL DESAF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01680" y="328572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762120"/>
            <a:ext cx="8093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1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truya una definición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14400"/>
            <a:ext cx="73152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fuerzo que intenta armonizar cualquier aspecto relacionado con el entorno humano, desde la concepción a la reformulación  de objetos de uso hasta el urbanismo y el habitat.  (Es la base del desarrollo del homb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914400"/>
            <a:ext cx="7315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.-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oria Re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estética industrial destinada a paliar la fealdad de los objetos (rivaliza con los métodos artesanales (Arts &amp; Grafts) 188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técnica para consumidores condicionados. (Aproxima a los artistas con el industrial (Deutscher Werkbund  1907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 método global de aprehensión del espacio. (El objeto en el entorno; diseño de la forma hacia la estructura – Bauhaus – Noción de Bellez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Entendimiento del Rol del Diseño en el Mundo Real.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514600"/>
            <a:ext cx="5029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cer frente a la competencia - Sty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Producto - Tecnología  - Ingenier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Producto - Cliente - Mark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048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ducto - Usuario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94160" y="2271600"/>
            <a:ext cx="1044720" cy="2466360"/>
            <a:chOff x="6194160" y="2271600"/>
            <a:chExt cx="1044720" cy="2466360"/>
          </a:xfrm>
        </p:grpSpPr>
        <p:sp>
          <p:nvSpPr>
            <p:cNvPr id="104" name=""/>
            <p:cNvSpPr/>
            <p:nvPr/>
          </p:nvSpPr>
          <p:spPr>
            <a:xfrm>
              <a:off x="6553080" y="228600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953600">
              <a:off x="6248160" y="228528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5800" y="274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3434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eterminant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1730520"/>
            <a:ext cx="5486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ctores cultu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iterios esté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ables psic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tos técnico-econó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36920" y="1803240"/>
            <a:ext cx="1834920" cy="3783960"/>
            <a:chOff x="4336920" y="1803240"/>
            <a:chExt cx="1834920" cy="3783960"/>
          </a:xfrm>
        </p:grpSpPr>
        <p:sp>
          <p:nvSpPr>
            <p:cNvPr id="113" name=""/>
            <p:cNvSpPr/>
            <p:nvPr/>
          </p:nvSpPr>
          <p:spPr>
            <a:xfrm>
              <a:off x="4958640" y="182880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53600">
              <a:off x="4419720" y="182808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5880" y="2133720"/>
            <a:ext cx="3048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iseño, una respuesta (síntesis) entre imperativos industriales (tecnológicos) y necesidades soc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3716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72556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(E: Romana, Arabe, Españo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14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 e Informát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8129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njunto de mensajes, según su forma, su manejo y sus funciones, basados en códigos o convenciones, donde el sistema de comunicación en que se inserta, es el punto de partida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ormul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obje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01004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oy esta REFORMULACION es tan relevante que la llamada era cibernética caracteriza el nivel de producción de bienes, servicios y la velocidad de crecimiento y expansión del conoc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30" name=""/>
            <p:cNvSpPr/>
            <p:nvPr/>
          </p:nvSpPr>
          <p:spPr>
            <a:xfrm>
              <a:off x="549360" y="3475080"/>
              <a:ext cx="1355760" cy="79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9920" y="4419720"/>
            <a:ext cx="1555560" cy="13716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447920"/>
            <a:ext cx="2193840" cy="2015640"/>
            <a:chOff x="304920" y="1447920"/>
            <a:chExt cx="2193840" cy="2015640"/>
          </a:xfrm>
        </p:grpSpPr>
        <p:sp>
          <p:nvSpPr>
            <p:cNvPr id="136" name=""/>
            <p:cNvSpPr/>
            <p:nvPr/>
          </p:nvSpPr>
          <p:spPr>
            <a:xfrm>
              <a:off x="304920" y="1447920"/>
              <a:ext cx="2193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ológ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cológicamen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zable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020600" y="3017880"/>
              <a:ext cx="314280" cy="445680"/>
              <a:chOff x="1020600" y="3017880"/>
              <a:chExt cx="314280" cy="44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1155960" y="301788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36600" y="301788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20600" y="3277800"/>
                <a:ext cx="182880" cy="18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96640" y="3245400"/>
                <a:ext cx="13824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73040" y="4491720"/>
            <a:ext cx="1736640" cy="2061360"/>
            <a:chOff x="473040" y="4491720"/>
            <a:chExt cx="1736640" cy="2061360"/>
          </a:xfrm>
        </p:grpSpPr>
        <p:sp>
          <p:nvSpPr>
            <p:cNvPr id="143" name="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027080" y="4491720"/>
              <a:ext cx="252000" cy="446760"/>
              <a:chOff x="1027080" y="4491720"/>
              <a:chExt cx="252000" cy="44676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1206360" y="466416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127160" y="466380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142640" y="449388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1027080" y="449172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51" name="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56" name="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57" name=""/>
              <p:cNvSpPr/>
              <p:nvPr/>
            </p:nvSpPr>
            <p:spPr>
              <a:xfrm>
                <a:off x="6095880" y="3444840"/>
                <a:ext cx="160020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800600"/>
            <a:ext cx="10666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63" name="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66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8" name="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33720" y="4191120"/>
            <a:ext cx="16002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21:26:23Z</dcterms:created>
  <dc:creator>Nivia Contreras</dc:creator>
  <dc:description/>
  <dc:language>en-US</dc:language>
  <cp:lastModifiedBy>escuela</cp:lastModifiedBy>
  <dcterms:modified xsi:type="dcterms:W3CDTF">2002-03-26T16:03:06Z</dcterms:modified>
  <cp:revision>32</cp:revision>
  <dc:subject/>
  <dc:title>Sin título de diapositiva</dc:title>
</cp:coreProperties>
</file>