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7ABF-3807-49D1-9D67-B161A22A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CC6-543B-4B49-8BDE-53B7F426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DBB-8AD8-41BF-9C10-3836B4FCD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100-3E7F-4864-9FD7-5F287506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3EF7-8C89-4D09-9CC5-61B20403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FA91-168F-4263-AA5F-B523B03D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C820-8509-4AC9-97F6-FB0DFECF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545C-0264-4471-895E-E81CE383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ECCF-C87A-4ADA-A910-8056D44C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DB30-285C-4ECB-9EBE-3251DF7B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5AF5-D466-4BCC-ADF7-C769C1C5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9CB3-1E1C-4FC4-A924-364F392E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C4A2-F7A4-4BA4-8488-21FDC9C5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6B52-DF5B-4D47-9E09-16E3C948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9DEF-AE5B-4886-BD61-5C603DE2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BD33-5A5D-48D6-8D9B-6AC9AD32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E5A4-9537-46CF-943A-C0B23846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F623-91AA-4EE8-8FF1-107181EE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4761-4AE9-4031-8E68-72A10438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57AA-9793-4D9B-8CD0-A4649DE0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37F-78E2-4EA1-A842-77A9E908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267-C485-4522-8153-CF027B2A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A7C-D276-4A3B-8A12-C1D7ED93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5D9-F402-4DD8-B0AB-4681841A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6F74-E9F1-421A-A2AC-06DA70CF007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055C-B649-4E60-BA03-6842ACEB968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8120" y="4191120"/>
            <a:ext cx="2828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ncy Lacourl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3863880" y="52578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junio 200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838080" y="121932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álisis e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ponentes Principale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961-9D15-4A1F-BB9E-6C2223ED5F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"/>
          <p:cNvGrpSpPr/>
          <p:nvPr/>
        </p:nvGrpSpPr>
        <p:grpSpPr>
          <a:xfrm>
            <a:off x="1014480" y="299880"/>
            <a:ext cx="7815240" cy="6251760"/>
            <a:chOff x="1014480" y="299880"/>
            <a:chExt cx="7815240" cy="6251760"/>
          </a:xfrm>
        </p:grpSpPr>
        <p:sp>
          <p:nvSpPr>
            <p:cNvPr id="671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40720" y="6149880"/>
              <a:ext cx="18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1    (6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45460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8164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0976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9828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31560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4408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694080" y="1586520"/>
              <a:ext cx="166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3   (7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31760" y="495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31760" y="147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31760" y="2460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31760" y="3443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66240" y="442584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66240" y="531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502480" y="5532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502480" y="5532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23"/>
                  </a:lnTo>
                  <a:lnTo>
                    <a:pt x="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22952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2952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4684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94684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73520" y="553248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73520" y="553248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9264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9264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1932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1932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81160" y="6001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81160" y="6001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81160" y="15825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81160" y="15825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081160" y="2565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81160" y="2565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81160" y="35481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81160" y="35481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81160" y="45306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81160" y="45306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81160" y="5513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81160" y="5513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28680" y="609480"/>
              <a:ext cx="639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4027" y="3095"/>
                  </a:moveTo>
                  <a:lnTo>
                    <a:pt x="0" y="0"/>
                  </a:lnTo>
                  <a:lnTo>
                    <a:pt x="0" y="3095"/>
                  </a:lnTo>
                  <a:lnTo>
                    <a:pt x="4027" y="30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28680" y="609480"/>
              <a:ext cx="639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0" y="0"/>
                  </a:moveTo>
                  <a:lnTo>
                    <a:pt x="4027" y="0"/>
                  </a:lnTo>
                  <a:lnTo>
                    <a:pt x="4027" y="30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128680" y="609480"/>
              <a:ext cx="6392880" cy="491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99320" y="15447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435800" y="46702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18040" y="31258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94240" y="209700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76960" y="401472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19920" y="46893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95920" y="258300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621480" y="27892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46520" y="38196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82920" y="5138640"/>
              <a:ext cx="554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30880" y="412740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226120" y="436248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7840" y="3332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26440" y="313524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921800" y="4614840"/>
              <a:ext cx="5688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26200" y="452124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48480" y="31543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105600" y="245268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25800" y="284652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26200" y="3548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28680" y="5522760"/>
              <a:ext cx="639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128680" y="609480"/>
              <a:ext cx="1800" cy="49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94600" y="127332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11720" y="4724280"/>
              <a:ext cx="69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URUG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56000" y="2819520"/>
              <a:ext cx="68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R. DOM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71400" y="182556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96120" y="3809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RAGUAY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6960" y="4648320"/>
              <a:ext cx="80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NAM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283280" y="231156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NICARAGU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275520" y="2517840"/>
              <a:ext cx="75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61600" y="3546360"/>
              <a:ext cx="108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ONDUR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66560" y="4875120"/>
              <a:ext cx="48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45760" y="4038480"/>
              <a:ext cx="117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1680" y="4419720"/>
              <a:ext cx="132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L SALV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97840" y="3200400"/>
              <a:ext cx="95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91320" y="3048120"/>
              <a:ext cx="56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49800" y="472428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584040" y="424800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STA RIC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67640" y="2971800"/>
              <a:ext cx="39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07160" y="2181240"/>
              <a:ext cx="67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87040" y="257328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72000" y="3505320"/>
              <a:ext cx="110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759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A1B-2B7F-454D-8D7B-F8E008E9E8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52280" y="2057400"/>
            <a:ext cx="3505320" cy="3505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905120" y="2057400"/>
            <a:ext cx="0" cy="3505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280" y="3809880"/>
            <a:ext cx="35053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00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08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5720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42900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228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42480" y="3048120"/>
            <a:ext cx="13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% Pob. urba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95840" y="419112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Esperanz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Vid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6360" y="30481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. Inf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70000" y="23623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4920" y="3962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Fecund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84200" y="43434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Na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659040" y="37339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62120" y="173664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114800" y="304920"/>
            <a:ext cx="5028840" cy="3805200"/>
            <a:chOff x="4114800" y="304920"/>
            <a:chExt cx="5028840" cy="3805200"/>
          </a:xfrm>
        </p:grpSpPr>
        <p:sp>
          <p:nvSpPr>
            <p:cNvPr id="779" name=""/>
            <p:cNvSpPr/>
            <p:nvPr/>
          </p:nvSpPr>
          <p:spPr>
            <a:xfrm>
              <a:off x="7781760" y="305604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463600" y="342432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187520" y="495360"/>
              <a:ext cx="488304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97080" y="426960"/>
              <a:ext cx="2286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43320" y="146700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45960" y="1467000"/>
              <a:ext cx="66132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9072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076880" y="1467000"/>
              <a:ext cx="6458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0760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393760" y="1467000"/>
              <a:ext cx="676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107680" y="186840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94800" y="187812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745960" y="186840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9072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076880" y="186840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0760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93760" y="186840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7680" y="227016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07040" y="228600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745960" y="227016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87800" y="23083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0,10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9072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76880" y="227016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70760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393760" y="227016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07680" y="267336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51680" y="2727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745960" y="267336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84352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9072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52644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76880" y="2681280"/>
              <a:ext cx="6458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0760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393760" y="267336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07680" y="307512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3008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45960" y="307512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88160" y="31082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9072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69640" y="297180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26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070400" y="3070080"/>
              <a:ext cx="64584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0720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70760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393760" y="307512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07680" y="347508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20704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745960" y="347508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4316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390720" y="34416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93680" y="339876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53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76880" y="347508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0720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70760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4332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93760" y="347508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81240" y="1066680"/>
              <a:ext cx="2415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81240" y="1467000"/>
              <a:ext cx="2415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81240" y="186840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1240" y="227016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81240" y="267336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81240" y="307512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81240" y="347508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19508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77160" y="18874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252320" y="1595520"/>
              <a:ext cx="893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9508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252320" y="202572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9508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17840" y="238140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9508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342680" y="281160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9508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262040" y="317988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9508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47000" y="354816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07680" y="1066680"/>
              <a:ext cx="6537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72240" y="1066680"/>
              <a:ext cx="66132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39072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76880" y="1066680"/>
              <a:ext cx="6458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70760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393760" y="1066680"/>
              <a:ext cx="67680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81240" y="1868400"/>
              <a:ext cx="41738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81240" y="227016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81240" y="2673360"/>
              <a:ext cx="41738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81240" y="307512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81240" y="347508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95080" y="1868400"/>
              <a:ext cx="4860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95080" y="227016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95080" y="2673360"/>
              <a:ext cx="486000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95080" y="307512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5080" y="347508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7459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9072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7688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70760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3937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114800" y="387684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055440" y="3855960"/>
              <a:ext cx="882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9136080" y="1044720"/>
              <a:ext cx="7560" cy="30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95080" y="1023840"/>
              <a:ext cx="494856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55440" y="304920"/>
              <a:ext cx="88200" cy="78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055440" y="304920"/>
              <a:ext cx="882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114800" y="3876840"/>
              <a:ext cx="502128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02640" y="1087560"/>
              <a:ext cx="108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047520" y="1087560"/>
              <a:ext cx="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02640" y="1087560"/>
              <a:ext cx="484452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202640" y="3855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02640" y="1488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5240" y="1087560"/>
              <a:ext cx="144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078480" y="304920"/>
              <a:ext cx="576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114800" y="3941640"/>
              <a:ext cx="50212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797440" y="1227240"/>
              <a:ext cx="57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10520" y="122724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62560" y="122724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44400" y="121284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34800" y="122724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15240" y="1212840"/>
              <a:ext cx="6195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1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903" name=""/>
          <p:cNvGraphicFramePr/>
          <p:nvPr/>
        </p:nvGraphicFramePr>
        <p:xfrm>
          <a:off x="3419640" y="4724280"/>
          <a:ext cx="5690880" cy="196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4724280"/>
                    <a:ext cx="5690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4A4D-3760-46EB-AA7A-B9381D547F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304920" y="96840"/>
            <a:ext cx="8610480" cy="64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2344-D53E-40F0-9BDB-A5E16D62DF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7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909" name=""/>
          <p:cNvGraphicFramePr/>
          <p:nvPr/>
        </p:nvGraphicFramePr>
        <p:xfrm>
          <a:off x="41400" y="1246320"/>
          <a:ext cx="9063000" cy="436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0" y="1246320"/>
                    <a:ext cx="9063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0FA-C287-4514-8574-B389B0697B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12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A30-0DC6-4304-9C70-AFB9BE2545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16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646760" cy="573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F1C-D575-4D04-9253-3269FBEECD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228600" y="138240"/>
            <a:ext cx="8686800" cy="64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96FA-2918-4AB4-A6F4-E7E831D74B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973080" y="1773360"/>
          <a:ext cx="7559640" cy="3259080"/>
        </p:xfrm>
        <a:graphic>
          <a:graphicData uri="http://schemas.openxmlformats.org/drawingml/2006/table">
            <a:tbl>
              <a:tblPr/>
              <a:tblGrid>
                <a:gridCol w="2016000"/>
                <a:gridCol w="1001520"/>
                <a:gridCol w="1230480"/>
                <a:gridCol w="1041480"/>
                <a:gridCol w="1135080"/>
                <a:gridCol w="1135080"/>
              </a:tblGrid>
              <a:tr h="9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39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42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52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29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39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3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1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418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42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3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865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33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52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1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865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4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29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418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33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4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1" name=""/>
          <p:cNvSpPr/>
          <p:nvPr/>
        </p:nvSpPr>
        <p:spPr>
          <a:xfrm>
            <a:off x="2988720" y="59040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Matriz de correlaci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6CE-9F35-4A37-8FCD-831CB36421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2" name=""/>
          <p:cNvGraphicFramePr/>
          <p:nvPr/>
        </p:nvGraphicFramePr>
        <p:xfrm>
          <a:off x="1279440" y="1628640"/>
          <a:ext cx="6964560" cy="3338640"/>
        </p:xfrm>
        <a:graphic>
          <a:graphicData uri="http://schemas.openxmlformats.org/drawingml/2006/table">
            <a:tbl>
              <a:tblPr/>
              <a:tblGrid>
                <a:gridCol w="1706760"/>
                <a:gridCol w="1022400"/>
                <a:gridCol w="1184040"/>
                <a:gridCol w="1017720"/>
                <a:gridCol w="1015920"/>
                <a:gridCol w="10177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alor prop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29.9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99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701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23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08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14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974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6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0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19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506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9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65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79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7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55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4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29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61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20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8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8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490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84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8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97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87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7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27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3" name=""/>
          <p:cNvSpPr/>
          <p:nvPr/>
        </p:nvSpPr>
        <p:spPr>
          <a:xfrm>
            <a:off x="2342160" y="606600"/>
            <a:ext cx="49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Valores y vectores propios de 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396-846C-4F8C-95C6-2D30804CE6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4" name=""/>
          <p:cNvGraphicFramePr/>
          <p:nvPr/>
        </p:nvGraphicFramePr>
        <p:xfrm>
          <a:off x="1136520" y="2251080"/>
          <a:ext cx="6870600" cy="2355840"/>
        </p:xfrm>
        <a:graphic>
          <a:graphicData uri="http://schemas.openxmlformats.org/drawingml/2006/table">
            <a:tbl>
              <a:tblPr/>
              <a:tblGrid>
                <a:gridCol w="1689120"/>
                <a:gridCol w="1003320"/>
                <a:gridCol w="1168200"/>
                <a:gridCol w="1003320"/>
                <a:gridCol w="1003320"/>
                <a:gridCol w="10033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alor prop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29.9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99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701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23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08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98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969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34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51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0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875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9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22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84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0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962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40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1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58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17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901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1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236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66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71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96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3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78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5" name=""/>
          <p:cNvSpPr/>
          <p:nvPr/>
        </p:nvSpPr>
        <p:spPr>
          <a:xfrm>
            <a:off x="1764000" y="404640"/>
            <a:ext cx="637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Correlaciones entre variables antiguas 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componentes principales (factor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A68-BE8D-48FD-8C97-999BC20BB7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9560" y="19080"/>
            <a:ext cx="8974440" cy="6838920"/>
            <a:chOff x="169560" y="19080"/>
            <a:chExt cx="8974440" cy="683892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1981080" y="5105520"/>
              <a:ext cx="68580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3398760" y="228600"/>
              <a:ext cx="3251160" cy="70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Garamond"/>
                </a:rPr>
                <a:t>EJEMPLO</a:t>
              </a:r>
              <a:endPara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  <a:ea typeface="Garamond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2760" y="2743200"/>
              <a:ext cx="66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PNUD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199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692360" y="1143000"/>
              <a:ext cx="7451640" cy="406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8AE-DAEC-4FF9-B909-AC5AF0F95A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65D9-6859-4F56-B04C-F296D14D11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2592-E75E-4E38-AD8E-E231AED468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136520" y="754200"/>
            <a:ext cx="6861240" cy="5494320"/>
            <a:chOff x="1136520" y="754200"/>
            <a:chExt cx="6861240" cy="5494320"/>
          </a:xfrm>
        </p:grpSpPr>
        <p:sp>
          <p:nvSpPr>
            <p:cNvPr id="97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5880" y="5884920"/>
              <a:ext cx="209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336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7080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0708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452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477360" y="4087800"/>
              <a:ext cx="225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ASA DE MORTAL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6680" y="922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6680" y="1782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69920" y="264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69920" y="3505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69920" y="4367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69920" y="5143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3514" y="2718"/>
                  </a:moveTo>
                  <a:lnTo>
                    <a:pt x="0" y="0"/>
                  </a:lnTo>
                  <a:lnTo>
                    <a:pt x="0" y="2718"/>
                  </a:lnTo>
                  <a:lnTo>
                    <a:pt x="3514" y="27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0" y="0"/>
                  </a:moveTo>
                  <a:lnTo>
                    <a:pt x="3514" y="0"/>
                  </a:lnTo>
                  <a:lnTo>
                    <a:pt x="3514" y="2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47760" y="1025640"/>
              <a:ext cx="5578560" cy="43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560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6720" y="172728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27560" y="34974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3840" y="28972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2080" y="3413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84880" y="39276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1880" y="319716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8016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89520" y="306540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76640" y="10447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10160" y="289728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97360" y="311292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95800" y="31971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2200" y="3413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6840" y="32814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53240" y="45831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11680" y="3627360"/>
              <a:ext cx="558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21280" y="293544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52720" y="21574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22800" y="246708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47760" y="5340240"/>
              <a:ext cx="557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47760" y="1025280"/>
              <a:ext cx="1800" cy="43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3560" y="360828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35840" y="149400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8360" y="33084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1120" y="285120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29360" y="31258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62840" y="36925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315612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480" y="361332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640" y="28321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78760" y="265428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30034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49720" y="295272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68880" y="3168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15440" y="30463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1480" y="43387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08720" y="3384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08600" y="26686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59120" y="192420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19840" y="22240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34080" y="1090440"/>
              <a:ext cx="427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333333"/>
                  </a:solidFill>
                  <a:latin typeface="Arial"/>
                </a:rPr>
                <a:t>Ha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243400" y="574344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6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20D8-1F6B-4D02-A1D8-726A45BADF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9560" y="624852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_VIDA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22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168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336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3344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1034280" y="494352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_URB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48680" y="8668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1455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2043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624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0920" y="3211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3800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437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4968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5460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21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21"/>
                </a:lnTo>
                <a:lnTo>
                  <a:pt x="17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39" y="11"/>
                </a:moveTo>
                <a:lnTo>
                  <a:pt x="0" y="0"/>
                </a:lnTo>
                <a:lnTo>
                  <a:pt x="0" y="11"/>
                </a:lnTo>
                <a:lnTo>
                  <a:pt x="3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0" y="0"/>
                </a:moveTo>
                <a:lnTo>
                  <a:pt x="39" y="0"/>
                </a:lnTo>
                <a:lnTo>
                  <a:pt x="39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3779" y="2948"/>
                </a:moveTo>
                <a:lnTo>
                  <a:pt x="0" y="0"/>
                </a:lnTo>
                <a:lnTo>
                  <a:pt x="0" y="2948"/>
                </a:lnTo>
                <a:lnTo>
                  <a:pt x="3779" y="29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0" y="0"/>
                </a:moveTo>
                <a:lnTo>
                  <a:pt x="3779" y="0"/>
                </a:lnTo>
                <a:lnTo>
                  <a:pt x="3779" y="29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98600" y="988920"/>
            <a:ext cx="59994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72280" y="15159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8600" y="1811160"/>
            <a:ext cx="52560" cy="51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08800" y="328140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5120" y="270972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95920" y="4033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51800" y="361008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32240" y="33163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10360" y="256392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9880" y="42591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6400" y="503712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435456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54480" y="42163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68760" y="347976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1801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54800" y="24336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50040" y="36799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5760" y="270180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89560" y="231300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71960" y="380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2080" y="176688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98600" y="5668920"/>
            <a:ext cx="59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298600" y="988920"/>
            <a:ext cx="180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56480" y="12574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360" y="1752480"/>
            <a:ext cx="38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7960" y="30481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13480" y="24415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10360" y="377352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85040" y="334980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840" y="3124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54400" y="230364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800" y="411480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79240" y="47782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320" y="441972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120" y="403848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720" y="342900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3560" y="1539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94960" y="21733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7280" y="37339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590920"/>
            <a:ext cx="65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64200" y="205272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19240" y="354960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16765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43400" y="601020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5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E7A-7DD3-4114-AA84-22FC61E33E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900000" y="982800"/>
            <a:ext cx="7992720" cy="5541480"/>
            <a:chOff x="900000" y="982800"/>
            <a:chExt cx="7992720" cy="5541480"/>
          </a:xfrm>
        </p:grpSpPr>
        <p:sp>
          <p:nvSpPr>
            <p:cNvPr id="277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87640" y="6156720"/>
              <a:ext cx="19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560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924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3892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7496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457560" y="4514040"/>
              <a:ext cx="193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TASA DE NATAL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80200" y="1160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80200" y="2251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80200" y="3329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0200" y="441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80200" y="5424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18"/>
                  </a:lnTo>
                  <a:lnTo>
                    <a:pt x="1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18"/>
                  </a:lnTo>
                  <a:lnTo>
                    <a:pt x="12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3154" y="2441"/>
                  </a:moveTo>
                  <a:lnTo>
                    <a:pt x="0" y="0"/>
                  </a:lnTo>
                  <a:lnTo>
                    <a:pt x="0" y="2441"/>
                  </a:lnTo>
                  <a:lnTo>
                    <a:pt x="3154" y="24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0" y="0"/>
                  </a:moveTo>
                  <a:lnTo>
                    <a:pt x="3154" y="0"/>
                  </a:lnTo>
                  <a:lnTo>
                    <a:pt x="3154" y="24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97360" y="1265040"/>
              <a:ext cx="6468480" cy="433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90360" y="3601440"/>
              <a:ext cx="468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61960" y="481680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76480" y="3601440"/>
              <a:ext cx="4716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78720" y="351792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0720" y="308772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6880" y="396756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64280" y="227088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16560" y="364392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89120" y="2649240"/>
              <a:ext cx="486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05520" y="283716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62960" y="2469960"/>
              <a:ext cx="486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0400" y="303624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18800" y="3318840"/>
              <a:ext cx="486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75920" y="4230720"/>
              <a:ext cx="489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51360" y="4773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42640" y="3810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23600" y="386280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34560" y="3832560"/>
              <a:ext cx="468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41280" y="293148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07800" y="4461480"/>
              <a:ext cx="471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97360" y="5601960"/>
              <a:ext cx="646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097360" y="1264680"/>
              <a:ext cx="2160" cy="43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8920" y="329436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27680" y="457668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17720" y="33613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45520" y="327636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26080" y="28483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50720" y="37278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2960" y="20307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3480" y="343080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31800" y="240732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71240" y="259596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a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03480" y="22298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58360" y="27950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71920" y="30772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42000" y="39888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92240" y="45450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83880" y="357156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01920" y="363348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01360" y="359064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01440" y="2833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74240" y="42307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564160" y="579132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7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279-CF46-4502-B75C-C9A4DFE4DC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10200" y="6294600"/>
            <a:ext cx="118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NA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327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595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424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289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557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1065600" y="483516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MO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60280" y="874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60280" y="1819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63960" y="2763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63960" y="3708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63960" y="4653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63960" y="5504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22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44" y="16"/>
                </a:moveTo>
                <a:lnTo>
                  <a:pt x="0" y="0"/>
                </a:lnTo>
                <a:lnTo>
                  <a:pt x="0" y="16"/>
                </a:lnTo>
                <a:lnTo>
                  <a:pt x="4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0" y="0"/>
                </a:moveTo>
                <a:lnTo>
                  <a:pt x="44" y="0"/>
                </a:lnTo>
                <a:lnTo>
                  <a:pt x="44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17"/>
                </a:moveTo>
                <a:lnTo>
                  <a:pt x="0" y="0"/>
                </a:lnTo>
                <a:lnTo>
                  <a:pt x="0" y="17"/>
                </a:lnTo>
                <a:lnTo>
                  <a:pt x="4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0" y="0"/>
                </a:moveTo>
                <a:lnTo>
                  <a:pt x="44" y="0"/>
                </a:lnTo>
                <a:lnTo>
                  <a:pt x="44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44" y="10"/>
                </a:moveTo>
                <a:lnTo>
                  <a:pt x="0" y="0"/>
                </a:lnTo>
                <a:lnTo>
                  <a:pt x="0" y="10"/>
                </a:lnTo>
                <a:lnTo>
                  <a:pt x="4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0" y="0"/>
                </a:moveTo>
                <a:lnTo>
                  <a:pt x="44" y="0"/>
                </a:lnTo>
                <a:lnTo>
                  <a:pt x="44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3954" y="2976"/>
                </a:moveTo>
                <a:lnTo>
                  <a:pt x="0" y="0"/>
                </a:lnTo>
                <a:lnTo>
                  <a:pt x="0" y="2976"/>
                </a:lnTo>
                <a:lnTo>
                  <a:pt x="3954" y="29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0" y="0"/>
                </a:moveTo>
                <a:lnTo>
                  <a:pt x="3954" y="0"/>
                </a:lnTo>
                <a:lnTo>
                  <a:pt x="3954" y="29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19480" y="985680"/>
            <a:ext cx="627696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6744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06680" y="175896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67440" y="37004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7220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00760" y="360504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27440" y="417348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7724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552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45160" y="322740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62560" y="100332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9284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79960" y="32702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7388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55920" y="36050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51320" y="34686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48120" y="48769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68920" y="383868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21120" y="308124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21440" y="22320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11760" y="256716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319480" y="5710320"/>
            <a:ext cx="62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319480" y="985680"/>
            <a:ext cx="144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397836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76560" y="150192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GUY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80760" y="37339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14520" y="278136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67640" y="365760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40384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0" y="342900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57080" y="420696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30120" y="313992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81320" y="274320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75960" y="301320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91400" y="33526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77720" y="334800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01560" y="320184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8640" y="46195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08720" y="373392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0400" y="289548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71240" y="197316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16120" y="2308320"/>
            <a:ext cx="103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64160" y="609768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80760" y="1066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33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44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E15-2854-4868-BA77-692332BFEC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169560" y="19080"/>
            <a:ext cx="8636400" cy="5848200"/>
            <a:chOff x="169560" y="19080"/>
            <a:chExt cx="8636400" cy="5848200"/>
          </a:xfrm>
        </p:grpSpPr>
        <p:sp>
          <p:nvSpPr>
            <p:cNvPr id="448" name=""/>
            <p:cNvSpPr/>
            <p:nvPr/>
          </p:nvSpPr>
          <p:spPr>
            <a:xfrm>
              <a:off x="6524640" y="4516560"/>
              <a:ext cx="1095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67640" y="498780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3280" y="1235160"/>
              <a:ext cx="8180280" cy="75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00400" y="126540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04920" y="247968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12920" y="247968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94000" y="247968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43480" y="247968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99360" y="247968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48480" y="247968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44800" y="299556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89880" y="300672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12920" y="299556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9400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43480" y="299556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99360" y="299556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48480" y="299556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44800" y="351000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08960" y="34797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12920" y="351000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51960" y="355752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10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9400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43480" y="351000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99360" y="351000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48480" y="351000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44800" y="402588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85280" y="40305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12920" y="402588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76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9400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19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43480" y="402588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99360" y="402588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48480" y="402588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44800" y="4540320"/>
              <a:ext cx="1095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20896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12920" y="4540320"/>
              <a:ext cx="1108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1960" y="44546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9400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94960" y="45338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26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34120" y="4533840"/>
              <a:ext cx="1082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6200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99360" y="4540320"/>
              <a:ext cx="1176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48480" y="4540320"/>
              <a:ext cx="1135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44800" y="505296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08960" y="50846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12920" y="505296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76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9400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19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3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43480" y="505296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62000" y="50529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99360" y="505296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2868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48480" y="505296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65360" y="1967040"/>
              <a:ext cx="40644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65360" y="247968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65360" y="299556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65360" y="351000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65360" y="402588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65360" y="4540320"/>
              <a:ext cx="40644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665360" y="505296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588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2320" y="301932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8760" y="2644920"/>
              <a:ext cx="1430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588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9120" y="3195720"/>
              <a:ext cx="129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588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3960" y="365112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588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1040" y="42022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588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800" y="4675320"/>
              <a:ext cx="134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588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1480" y="514656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44800" y="1967040"/>
              <a:ext cx="1095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59000" y="1967040"/>
              <a:ext cx="1108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9400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43480" y="1967040"/>
              <a:ext cx="10828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399360" y="1967040"/>
              <a:ext cx="1176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48480" y="1967040"/>
              <a:ext cx="1135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65360" y="2995560"/>
              <a:ext cx="6991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5360" y="351000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65360" y="402588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65360" y="454032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65360" y="5052960"/>
              <a:ext cx="69912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5880" y="2995560"/>
              <a:ext cx="81406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5880" y="351000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5880" y="402588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5880" y="454032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5880" y="5052960"/>
              <a:ext cx="81406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1292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9400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43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99360" y="1967040"/>
              <a:ext cx="144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8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0880" y="5568840"/>
              <a:ext cx="841212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656560" y="5541840"/>
              <a:ext cx="14940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793000" y="1938240"/>
              <a:ext cx="12960" cy="39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5880" y="1913040"/>
              <a:ext cx="82900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656560" y="990720"/>
              <a:ext cx="149400" cy="10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656560" y="990720"/>
              <a:ext cx="1494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0880" y="5568840"/>
              <a:ext cx="84121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028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64396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0280" y="19922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0280" y="55418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0280" y="250812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5740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97960" y="990720"/>
              <a:ext cx="9504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0880" y="5651640"/>
              <a:ext cx="841212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00760" y="217188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29280" y="217188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85320" y="21718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28680" y="2155680"/>
              <a:ext cx="84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21560" y="217188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7760" y="2155680"/>
              <a:ext cx="9914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5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2F2-B0DC-414D-95D1-FB07283D0D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5181480" cy="2365560"/>
          </a:xfrm>
          <a:prstGeom prst="rect">
            <a:avLst/>
          </a:prstGeom>
          <a:ln w="0">
            <a:noFill/>
          </a:ln>
        </p:spPr>
      </p:pic>
      <p:grpSp>
        <p:nvGrpSpPr>
          <p:cNvPr id="573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574" name="" descr=""/>
            <p:cNvPicPr/>
            <p:nvPr/>
          </p:nvPicPr>
          <p:blipFill>
            <a:blip r:embed="rId2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576" name=""/>
          <p:cNvGraphicFramePr/>
          <p:nvPr/>
        </p:nvGraphicFramePr>
        <p:xfrm>
          <a:off x="990720" y="3352680"/>
          <a:ext cx="7543800" cy="2598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352680"/>
                    <a:ext cx="7543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8BFF-DD44-41B6-BED3-A890D8477A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169560" y="19080"/>
            <a:ext cx="8707680" cy="6602400"/>
            <a:chOff x="169560" y="19080"/>
            <a:chExt cx="8707680" cy="6602400"/>
          </a:xfrm>
        </p:grpSpPr>
        <p:grpSp>
          <p:nvGrpSpPr>
            <p:cNvPr id="579" name=""/>
            <p:cNvGrpSpPr/>
            <p:nvPr/>
          </p:nvGrpSpPr>
          <p:grpSpPr>
            <a:xfrm>
              <a:off x="762120" y="762120"/>
              <a:ext cx="8115120" cy="5859360"/>
              <a:chOff x="762120" y="762120"/>
              <a:chExt cx="8115120" cy="5859360"/>
            </a:xfrm>
          </p:grpSpPr>
          <p:sp>
            <p:nvSpPr>
              <p:cNvPr id="580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5112" y="3691"/>
                    </a:moveTo>
                    <a:lnTo>
                      <a:pt x="0" y="0"/>
                    </a:lnTo>
                    <a:lnTo>
                      <a:pt x="0" y="3691"/>
                    </a:lnTo>
                    <a:lnTo>
                      <a:pt x="5112" y="36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0" y="0"/>
                    </a:moveTo>
                    <a:lnTo>
                      <a:pt x="5112" y="0"/>
                    </a:lnTo>
                    <a:lnTo>
                      <a:pt x="5112" y="3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5112" y="3691"/>
                    </a:moveTo>
                    <a:lnTo>
                      <a:pt x="0" y="0"/>
                    </a:lnTo>
                    <a:lnTo>
                      <a:pt x="0" y="3691"/>
                    </a:lnTo>
                    <a:lnTo>
                      <a:pt x="5112" y="36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0" y="0"/>
                    </a:moveTo>
                    <a:lnTo>
                      <a:pt x="5112" y="0"/>
                    </a:lnTo>
                    <a:lnTo>
                      <a:pt x="5112" y="3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828120" y="6229440"/>
                <a:ext cx="1788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333333"/>
                    </a:solidFill>
                    <a:latin typeface="Times New Roman"/>
                  </a:rPr>
                  <a:t>Factor 1   (69%)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48448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16688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83992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47732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15180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3276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6200000">
                <a:off x="293040" y="2214720"/>
                <a:ext cx="185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333333"/>
                    </a:solidFill>
                    <a:latin typeface="Times New Roman"/>
                  </a:rPr>
                  <a:t>Factor 2    (19%)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721880" y="954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721880" y="18669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21880" y="278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721880" y="371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654920" y="463248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54920" y="546084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535960" y="5661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5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535960" y="5661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5"/>
                    </a:moveTo>
                    <a:lnTo>
                      <a:pt x="22" y="25"/>
                    </a:lnTo>
                    <a:lnTo>
                      <a:pt x="2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183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183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9104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9104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56408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6408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2367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2367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19160" y="566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25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919160" y="566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25"/>
                    </a:moveTo>
                    <a:lnTo>
                      <a:pt x="10" y="25"/>
                    </a:lnTo>
                    <a:lnTo>
                      <a:pt x="1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876320" y="103824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3" y="20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876320" y="103824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0" y="0"/>
                    </a:moveTo>
                    <a:lnTo>
                      <a:pt x="43" y="0"/>
                    </a:lnTo>
                    <a:lnTo>
                      <a:pt x="4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76320" y="19605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76320" y="19605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876320" y="288144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43" y="15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876320" y="288144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0" y="0"/>
                    </a:moveTo>
                    <a:lnTo>
                      <a:pt x="43" y="0"/>
                    </a:lnTo>
                    <a:lnTo>
                      <a:pt x="43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876320" y="3803760"/>
                <a:ext cx="68400" cy="219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876320" y="3803760"/>
                <a:ext cx="68400" cy="219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876320" y="472428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43" y="15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876320" y="472428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0" y="0"/>
                    </a:moveTo>
                    <a:lnTo>
                      <a:pt x="43" y="0"/>
                    </a:lnTo>
                    <a:lnTo>
                      <a:pt x="43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876320" y="563868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876320" y="563868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33720" y="1066680"/>
                <a:ext cx="6626160" cy="4600800"/>
              </a:xfrm>
              <a:custGeom>
                <a:avLst/>
                <a:gdLst/>
                <a:ahLst/>
                <a:rect l="l" t="t" r="r" b="b"/>
                <a:pathLst>
                  <a:path w="4174" h="2898">
                    <a:moveTo>
                      <a:pt x="4174" y="2898"/>
                    </a:moveTo>
                    <a:lnTo>
                      <a:pt x="0" y="0"/>
                    </a:lnTo>
                    <a:lnTo>
                      <a:pt x="0" y="2898"/>
                    </a:lnTo>
                    <a:lnTo>
                      <a:pt x="4174" y="28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927080" y="1054080"/>
                <a:ext cx="6626520" cy="4600440"/>
              </a:xfrm>
              <a:custGeom>
                <a:avLst/>
                <a:gdLst/>
                <a:ahLst/>
                <a:rect l="l" t="t" r="r" b="b"/>
                <a:pathLst>
                  <a:path w="4174" h="2898">
                    <a:moveTo>
                      <a:pt x="0" y="0"/>
                    </a:moveTo>
                    <a:lnTo>
                      <a:pt x="4174" y="0"/>
                    </a:lnTo>
                    <a:lnTo>
                      <a:pt x="4174" y="28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927080" y="1054080"/>
                <a:ext cx="6626520" cy="4600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767640" y="4102200"/>
                <a:ext cx="6804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421400" y="18748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57920" y="3917880"/>
                <a:ext cx="666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313240" y="3051000"/>
                <a:ext cx="6696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288040" y="4602240"/>
                <a:ext cx="666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86440" y="4656240"/>
                <a:ext cx="68400" cy="601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691160" y="4602240"/>
                <a:ext cx="6804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580080" y="42721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530600" y="4510080"/>
                <a:ext cx="6840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19480" y="23749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317840" y="46324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26040" y="42721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397480" y="3949560"/>
                <a:ext cx="6840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13480" y="35956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924680" y="3403440"/>
                <a:ext cx="6696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99200" y="5470560"/>
                <a:ext cx="68400" cy="601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613560" y="39178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053040" y="30272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89360" y="28274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07120" y="25970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27080" y="5654520"/>
                <a:ext cx="66265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1927080" y="1053720"/>
                <a:ext cx="1800" cy="4600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10640" y="4038480"/>
                <a:ext cx="1058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VENEZUEL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963480" y="1628640"/>
                <a:ext cx="889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URUGUY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78480" y="3672000"/>
                <a:ext cx="1000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R. DOMINIC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065920" y="280512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ERU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257800" y="4648320"/>
                <a:ext cx="623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ARAG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86600" y="4572000"/>
                <a:ext cx="752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ANAM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572000" y="4648320"/>
                <a:ext cx="55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NICA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780960" y="4267080"/>
                <a:ext cx="703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MEXICO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58320" y="4267080"/>
                <a:ext cx="1017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HONDURAS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997720" y="2128680"/>
                <a:ext cx="45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HAITI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169800" y="4724280"/>
                <a:ext cx="1098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GUATEMAL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028480" y="4267080"/>
                <a:ext cx="1238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EL SALVADO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496400" y="3886200"/>
                <a:ext cx="889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ECUADO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149600" y="3349800"/>
                <a:ext cx="524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HILE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687080" y="315756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UB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536520" y="5222880"/>
                <a:ext cx="1089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OSTA RIC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704280" y="3733920"/>
                <a:ext cx="94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OLOMBI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736600" y="2781360"/>
                <a:ext cx="634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RASIL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440160" y="2581200"/>
                <a:ext cx="695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OLIVI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562800" y="2343240"/>
                <a:ext cx="1038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ARGENTIN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6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DAA0-3CE9-4507-B930-B137DE819E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8T15:55:10Z</dcterms:created>
  <dc:creator>Juan Muñoz</dc:creator>
  <dc:description/>
  <dc:language>en-US</dc:language>
  <cp:lastModifiedBy>nancy Lacourly</cp:lastModifiedBy>
  <dcterms:modified xsi:type="dcterms:W3CDTF">2004-06-23T20:55:39Z</dcterms:modified>
  <cp:revision>114</cp:revision>
  <dc:subject/>
  <dc:title>Sin título de diapositiva</dc:title>
</cp:coreProperties>
</file>