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C9F55-65BC-4F92-8CA6-7E713158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CF780-BD85-4014-81F6-BD58147A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7ACAF-693A-4DC6-B6B3-4F387A20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8439C-C249-4392-B4A5-5324E906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0FB37-BC72-44D3-BCB4-F30EEE35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45B23-6292-457B-BEDE-CB734869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13D24-D5B7-4A17-BE16-93277C0A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11273-9484-4B12-A7FF-501D1753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68D73-003B-40DA-BB3E-CA81E49E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7CEB0-8DE1-4065-8DD4-35D312B3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5C3D6-DB85-4B35-AD47-AEAFAA743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56842-9413-4C31-B319-1DE3BBCD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6009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6200000">
            <a:off x="-1582560" y="219240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Comic Sans MS"/>
              </a:rPr>
              <a:t>M. Lagrange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396920" y="6377040"/>
            <a:ext cx="12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álculo III (G,B)</a:t>
            </a:r>
            <a:endParaRPr b="0" lang="en-US" sz="12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37440" y="208440"/>
            <a:ext cx="1300680" cy="6045840"/>
            <a:chOff x="-37440" y="208440"/>
            <a:chExt cx="1300680" cy="6045840"/>
          </a:xfrm>
        </p:grpSpPr>
        <p:sp>
          <p:nvSpPr>
            <p:cNvPr id="7" name=""/>
            <p:cNvSpPr/>
            <p:nvPr/>
          </p:nvSpPr>
          <p:spPr>
            <a:xfrm flipH="1" rot="5907600">
              <a:off x="-365760" y="5562000"/>
              <a:ext cx="1203840" cy="16848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66"/>
                </a:gs>
                <a:gs pos="100000">
                  <a:srgbClr val="00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907600">
              <a:off x="-1730160" y="2262240"/>
              <a:ext cx="4686120" cy="61812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grpSp>
          <p:nvGrpSpPr>
            <p:cNvPr id="9" name=""/>
            <p:cNvGrpSpPr/>
            <p:nvPr/>
          </p:nvGrpSpPr>
          <p:grpSpPr>
            <a:xfrm>
              <a:off x="326880" y="4878360"/>
              <a:ext cx="187920" cy="218160"/>
              <a:chOff x="326880" y="4878360"/>
              <a:chExt cx="187920" cy="218160"/>
            </a:xfrm>
          </p:grpSpPr>
          <p:sp>
            <p:nvSpPr>
              <p:cNvPr id="10" name=""/>
              <p:cNvSpPr/>
              <p:nvPr/>
            </p:nvSpPr>
            <p:spPr>
              <a:xfrm flipH="1" rot="5400000">
                <a:off x="311760" y="4893480"/>
                <a:ext cx="218160" cy="187920"/>
              </a:xfrm>
              <a:prstGeom prst="ellipse">
                <a:avLst/>
              </a:prstGeom>
              <a:gradFill rotWithShape="0">
                <a:gsLst>
                  <a:gs pos="0">
                    <a:srgbClr val="ff0066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5400000">
                <a:off x="415080" y="4937040"/>
                <a:ext cx="53280" cy="468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5400000">
                <a:off x="441720" y="5011920"/>
                <a:ext cx="53280" cy="468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 rot="5400000">
                <a:off x="388440" y="5011920"/>
                <a:ext cx="53280" cy="468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 rot="5400000">
                <a:off x="370800" y="4961160"/>
                <a:ext cx="53280" cy="468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 rot="5400000">
                <a:off x="376920" y="4892760"/>
                <a:ext cx="53280" cy="468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 rot="5400000">
                <a:off x="332640" y="4947480"/>
                <a:ext cx="53280" cy="468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 rot="5400000">
                <a:off x="341640" y="5011920"/>
                <a:ext cx="53280" cy="468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5400000">
                <a:off x="461880" y="4950720"/>
                <a:ext cx="53280" cy="468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56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d60093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3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4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5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CA3C-7425-463D-9B83-DDCC05DB453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5640" y="609120"/>
            <a:ext cx="6738840" cy="762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d60093"/>
                </a:solidFill>
                <a:latin typeface="Comic Sans MS"/>
              </a:rPr>
              <a:t>Multiplicadores</a:t>
            </a:r>
            <a:r>
              <a:rPr b="0" i="1" lang="en-US" sz="3600" spc="-1" strike="noStrike">
                <a:solidFill>
                  <a:srgbClr val="d60093"/>
                </a:solidFill>
                <a:latin typeface="Comic Sans MS"/>
              </a:rPr>
              <a:t>  </a:t>
            </a:r>
            <a:r>
              <a:rPr b="1" i="1" lang="en-US" sz="3600" spc="-1" strike="noStrike">
                <a:solidFill>
                  <a:srgbClr val="d60093"/>
                </a:solidFill>
                <a:latin typeface="Comic Sans MS"/>
              </a:rPr>
              <a:t>de  Lagrange</a:t>
            </a:r>
            <a:br>
              <a:rPr sz="3600"/>
            </a:b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52160" y="1371240"/>
            <a:ext cx="59770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¿Cómo optimizar una  función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cuando sus variables están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sujetas a una restricción?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2971800"/>
            <a:ext cx="62485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método que nos permitirá responder a ésta pregunta se encuentra en un artículo sobre Mecánica que Lagrange escribió cuando tenía  19 años !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e fue el primer analista pues  escribió con rigor  y  precisión sus ideas matemáticas. Fue el primero en usar la notación f ’(x)  y f ’’(x) para la derivadas.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23560" y="380880"/>
            <a:ext cx="6510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jemplo 3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36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disponen de  320 mts de  cerca  para  encerrar  un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mpo  rectangular. ¿Cómo debería colocarse la cerca,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  manera  que  el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área encerrada  sea lo más grande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osible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Función objetivo:  Are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Restricción:   Perímetro = 320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x, y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eremos: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timizar      F(x,y) = x.y,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jeto  a         2x + 2y = 320               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19920" y="2666880"/>
            <a:ext cx="2361960" cy="914400"/>
          </a:xfrm>
          <a:prstGeom prst="rect">
            <a:avLst/>
          </a:prstGeom>
          <a:solidFill>
            <a:srgbClr val="ff66ff"/>
          </a:solidFill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19920" y="-360"/>
            <a:ext cx="28526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…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jemplo 3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2640" y="609120"/>
            <a:ext cx="800100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 hacer el sistema, conseguimos: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= 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;         x = 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;             2x + 2y = 320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uya solución 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x,y) = (80, 80)   y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40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(80, 80) = 6400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mprobamos que es un máximo, al compara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n otro punto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obre la restricción.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(100,60) = 6000 &lt;  6400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luimos que: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mayor área que puede encerrarse con 320 mts de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rca es de 6400  metros cuadrados y   corresponde a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 cuadrado, cuyo lado  mide 80 mt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504960" y="228240"/>
            <a:ext cx="53672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gnificado  del  multiplicador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2640" y="1066320"/>
            <a:ext cx="772956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  M   es el valor extremo   de   F(x,y)    sujeta a  la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tricción   g(x,y) = K, entonces:  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dM/dK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or lo tanto,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/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ción de M       si   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 = 1 .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3962520"/>
            <a:ext cx="77295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3581280"/>
            <a:ext cx="7729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emostración de este hecho puede conseguirla en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 libro en la   </a:t>
            </a:r>
            <a:r>
              <a:rPr b="0" lang="es-ES_tradnl" sz="2400" spc="-1" strike="noStrike" u="sng">
                <a:solidFill>
                  <a:srgbClr val="d60093"/>
                </a:solidFill>
                <a:uFillTx/>
                <a:latin typeface="Comic Sans MS"/>
                <a:hlinkClick r:id="rId1" action="ppaction://hlinksldjump"/>
              </a:rPr>
              <a:t>págin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545.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43000" y="4952880"/>
            <a:ext cx="7729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 ejemplo, en el caso anterior  si nos dan un metro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icional  de cerca, el área encerrada aumenta  en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0  metros cuadrados …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5000" y="380880"/>
            <a:ext cx="2819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jercici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26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99"/>
                </a:solidFill>
                <a:latin typeface="Comic Sans MS"/>
              </a:rPr>
              <a:t>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Ejercicio 28, pág 549 del Hoffmann</a:t>
            </a:r>
            <a:endParaRPr b="0" lang="en-US" sz="16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PVP de un producto:  150 $ la unidad. 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Si se gastan: x  miles de $ en promoción, y miles de $ en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desarrollo, 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se venden 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omic Sans MS"/>
              </a:rPr>
              <a:t>320 y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 + 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omic Sans MS"/>
              </a:rPr>
              <a:t>160x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  unidades del producto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    y + 2      x + 4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l costo de producción es: 50 $ la unidad.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l fabricante dispone  de  8.000 $  para  desarrollo   y 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promoción.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debe distribuirse este dinero para generar el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yor beneficio posible?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86728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jercici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33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unción objetivo:  Beneficio.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stricción:  Fondos disponibles para desarrollo y  promoción.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ptimizar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981080" y="1752480"/>
                <a:ext cx="535176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00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0y</m:t>
                            </m:r>
                          </m:num>
                          <m:den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0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1143000" y="274320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n dólares, sujeto  a   100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+ 1000y = 8000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  con   x, y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0.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(x,x) = 1000x + 1000y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)  El sistema: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245280" y="3968640"/>
            <a:ext cx="2600280" cy="2080800"/>
            <a:chOff x="6245280" y="3968640"/>
            <a:chExt cx="2600280" cy="2080800"/>
          </a:xfrm>
        </p:grpSpPr>
        <p:grpSp>
          <p:nvGrpSpPr>
            <p:cNvPr id="205" name=""/>
            <p:cNvGrpSpPr/>
            <p:nvPr/>
          </p:nvGrpSpPr>
          <p:grpSpPr>
            <a:xfrm>
              <a:off x="6245280" y="3968640"/>
              <a:ext cx="2285640" cy="2040840"/>
              <a:chOff x="6245280" y="3968640"/>
              <a:chExt cx="2285640" cy="204084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6245280" y="4223520"/>
                <a:ext cx="2285640" cy="1785960"/>
                <a:chOff x="6245280" y="4223520"/>
                <a:chExt cx="2285640" cy="1785960"/>
              </a:xfrm>
            </p:grpSpPr>
            <p:grpSp>
              <p:nvGrpSpPr>
                <p:cNvPr id="207" name=""/>
                <p:cNvGrpSpPr/>
                <p:nvPr/>
              </p:nvGrpSpPr>
              <p:grpSpPr>
                <a:xfrm>
                  <a:off x="6318360" y="4223520"/>
                  <a:ext cx="2212560" cy="1785960"/>
                  <a:chOff x="6318360" y="4223520"/>
                  <a:chExt cx="2212560" cy="178596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6318360" y="5818320"/>
                    <a:ext cx="2212560" cy="0"/>
                  </a:xfrm>
                  <a:prstGeom prst="line">
                    <a:avLst/>
                  </a:prstGeom>
                  <a:ln w="12600">
                    <a:solidFill>
                      <a:srgbClr val="a50021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V="1">
                    <a:off x="6513480" y="4223520"/>
                    <a:ext cx="0" cy="1785960"/>
                  </a:xfrm>
                  <a:prstGeom prst="line">
                    <a:avLst/>
                  </a:prstGeom>
                  <a:ln w="12600">
                    <a:solidFill>
                      <a:srgbClr val="a50021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6318360" y="4415040"/>
                    <a:ext cx="1626840" cy="1594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1" name=""/>
                <p:cNvSpPr/>
                <p:nvPr/>
              </p:nvSpPr>
              <p:spPr>
                <a:xfrm>
                  <a:off x="6245280" y="4489560"/>
                  <a:ext cx="520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a50021"/>
                      </a:solidFill>
                      <a:latin typeface="Times New Roman"/>
                    </a:rPr>
                    <a:t>8</a:t>
                  </a:r>
                  <a:endParaRPr b="0" lang="en-US" sz="2400" spc="-1" strike="noStrike">
                    <a:solidFill>
                      <a:srgbClr val="a50021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689240" y="5508720"/>
                  <a:ext cx="390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a50021"/>
                      </a:solidFill>
                      <a:latin typeface="Times New Roman"/>
                    </a:rPr>
                    <a:t>8</a:t>
                  </a:r>
                  <a:endParaRPr b="0" lang="en-US" sz="2400" spc="-1" strike="noStrike">
                    <a:solidFill>
                      <a:srgbClr val="a50021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6513480" y="3968640"/>
                <a:ext cx="911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a50021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8458200" y="558972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</p:grp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828800" y="4114800"/>
            <a:ext cx="40384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86728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jercici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133720" y="4038480"/>
                <a:ext cx="3381120" cy="20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64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=λ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64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=λ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x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y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18" name=""/>
          <p:cNvGrpSpPr/>
          <p:nvPr/>
        </p:nvGrpSpPr>
        <p:grpSpPr>
          <a:xfrm>
            <a:off x="1066680" y="500040"/>
            <a:ext cx="7620120" cy="3538440"/>
            <a:chOff x="1066680" y="500040"/>
            <a:chExt cx="7620120" cy="3538440"/>
          </a:xfrm>
        </p:grpSpPr>
        <p:sp>
          <p:nvSpPr>
            <p:cNvPr id="219" name=""/>
            <p:cNvSpPr/>
            <p:nvPr/>
          </p:nvSpPr>
          <p:spPr>
            <a:xfrm>
              <a:off x="1066680" y="3200400"/>
              <a:ext cx="76201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Restricción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x + y = 8, con  x, y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0.  G(x,y) = x + y = 8</a:t>
              </a:r>
              <a:endParaRPr b="0" lang="en-US" sz="2000" spc="-1" strike="noStrike">
                <a:solidFill>
                  <a:srgbClr val="a50021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)  El sistema:</a:t>
              </a:r>
              <a:endParaRPr b="0" lang="en-US" sz="20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0" name=""/>
                <p:cNvSpPr txBox="1"/>
                <p:nvPr/>
              </p:nvSpPr>
              <p:spPr>
                <a:xfrm>
                  <a:off x="1962000" y="2124000"/>
                  <a:ext cx="4096080" cy="76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x,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32y</m:t>
                              </m:r>
                            </m:num>
                            <m:den>
                              <m:r>
                                <m:t xml:space="preserve">y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6x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</m:den>
                          </m:f>
                        </m:e>
                      </m:d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1" name=""/>
                <p:cNvSpPr txBox="1"/>
                <p:nvPr/>
              </p:nvSpPr>
              <p:spPr>
                <a:xfrm>
                  <a:off x="1981080" y="1187280"/>
                  <a:ext cx="4038840" cy="79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x,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320y</m:t>
                              </m:r>
                            </m:num>
                            <m:den>
                              <m:r>
                                <m:t xml:space="preserve">y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60x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</m:den>
                          </m:f>
                        </m:e>
                      </m:d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2" name=""/>
            <p:cNvSpPr/>
            <p:nvPr/>
          </p:nvSpPr>
          <p:spPr>
            <a:xfrm>
              <a:off x="1066680" y="500040"/>
              <a:ext cx="716292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Función objetivo:  Beneficio expresado en miles de $.</a:t>
              </a:r>
              <a:endParaRPr b="0" lang="en-US" sz="20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867280" y="4191120"/>
            <a:ext cx="2743200" cy="2105640"/>
            <a:chOff x="5867280" y="4191120"/>
            <a:chExt cx="2743200" cy="2105640"/>
          </a:xfrm>
        </p:grpSpPr>
        <p:grpSp>
          <p:nvGrpSpPr>
            <p:cNvPr id="224" name=""/>
            <p:cNvGrpSpPr/>
            <p:nvPr/>
          </p:nvGrpSpPr>
          <p:grpSpPr>
            <a:xfrm>
              <a:off x="6019920" y="4191120"/>
              <a:ext cx="2590560" cy="1920240"/>
              <a:chOff x="6019920" y="4191120"/>
              <a:chExt cx="2590560" cy="1920240"/>
            </a:xfrm>
          </p:grpSpPr>
          <p:sp>
            <p:nvSpPr>
              <p:cNvPr id="225" name=""/>
              <p:cNvSpPr/>
              <p:nvPr/>
            </p:nvSpPr>
            <p:spPr>
              <a:xfrm>
                <a:off x="6019920" y="5905440"/>
                <a:ext cx="2590560" cy="0"/>
              </a:xfrm>
              <a:prstGeom prst="line">
                <a:avLst/>
              </a:prstGeom>
              <a:ln w="1260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6248160" y="4191120"/>
                <a:ext cx="0" cy="1920240"/>
              </a:xfrm>
              <a:prstGeom prst="line">
                <a:avLst/>
              </a:prstGeom>
              <a:ln w="1260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019920" y="4396680"/>
                <a:ext cx="1904760" cy="17143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5867280" y="43966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467480" y="583704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32448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jercici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42640" y="39960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onces 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 + 4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y + 2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   x + y = 8,     tenemos que      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x,y) = (3,5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(0,8) = 17.600   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&lt;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21.714, 286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B(3,5)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 la cantidad disponible de dinero, deben invertirse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3000 $ en desarrollo  y   5000 $ en promoción para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eguir  el mayor beneficio posible, el cual  es  de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1.714,28 $.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4195800"/>
            <a:ext cx="733428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B)  Si el fabricante dispone de 8100 $ para desarrollo y promoción ¿en cuánto cambia  el  beneficio?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/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= 0,306122 miles,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= 306,1224 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 = (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306,1224)(0,1)      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l beneficio aumentará aproximadamente, en   30,6  $.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32448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jercici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609480"/>
            <a:ext cx="769608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) Si hay disponible   un  fondo   ilimitado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  gastar   en  desarrollo y   cuánto  en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moción  para   alcanzar   el  mayor  beneficio?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este caso, no hay restricciones para  (x,y) …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6009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ales son los  puntos  críticos?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x, y) = (4, 6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6009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s  un máximo?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í, puede comprobarlo pues  D(4,6) &gt; 0   y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xx(4,6) &lt; 0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6009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l  es el  beneficio óptimo, sin restricciones?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mayor beneficio posible es de  22.000 $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90760" y="228240"/>
            <a:ext cx="3462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Comic Sans MS"/>
              </a:rPr>
              <a:t>Reflexión     </a:t>
            </a:r>
            <a:br>
              <a:rPr sz="3600"/>
            </a:b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676520" y="1371240"/>
            <a:ext cx="5976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Si  el  fabricante   dispone  de   11.000 $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para   desarrollo  y   promoción … y  le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solicita  asesoría  para  distribuir  estos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fondos ...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d6009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¿Qué haría  Ud. para  elaborar una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recomendación?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d6009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¿Qué recomendación le daría ?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            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                     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...... Fin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200400" y="456840"/>
            <a:ext cx="52070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Multiplicador de Langrang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180800" y="333360"/>
            <a:ext cx="7031160" cy="4390920"/>
            <a:chOff x="1180800" y="333360"/>
            <a:chExt cx="7031160" cy="4390920"/>
          </a:xfrm>
        </p:grpSpPr>
        <p:sp>
          <p:nvSpPr>
            <p:cNvPr id="239" name=""/>
            <p:cNvSpPr/>
            <p:nvPr/>
          </p:nvSpPr>
          <p:spPr>
            <a:xfrm>
              <a:off x="5486400" y="3886200"/>
              <a:ext cx="272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(x,y) = x + y  = 4</a:t>
              </a:r>
              <a:endParaRPr b="0" lang="en-US" sz="20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1180800" y="333360"/>
              <a:ext cx="6978960" cy="4390920"/>
              <a:chOff x="1180800" y="333360"/>
              <a:chExt cx="6978960" cy="4390920"/>
            </a:xfrm>
          </p:grpSpPr>
          <p:pic>
            <p:nvPicPr>
              <p:cNvPr id="241" name="" descr=""/>
              <p:cNvPicPr/>
              <p:nvPr/>
            </p:nvPicPr>
            <p:blipFill>
              <a:blip r:embed="rId1"/>
              <a:srcRect l="18885" t="0" r="19387" b="0"/>
              <a:stretch/>
            </p:blipFill>
            <p:spPr>
              <a:xfrm>
                <a:off x="1225440" y="333360"/>
                <a:ext cx="4535640" cy="439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"/>
              <p:cNvSpPr/>
              <p:nvPr/>
            </p:nvSpPr>
            <p:spPr>
              <a:xfrm>
                <a:off x="4915080" y="1706400"/>
                <a:ext cx="293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d60093"/>
                    </a:solidFill>
                    <a:uFillTx/>
                    <a:latin typeface="Arial"/>
                    <a:hlinkClick r:id="rId2" action="ppaction://hlinksldjump"/>
                  </a:rPr>
                  <a:t>F(x,y) = 9- x</a:t>
                </a:r>
                <a:r>
                  <a:rPr b="0" lang="en-US" sz="2400" spc="-1" strike="noStrike" u="sng" baseline="30000">
                    <a:solidFill>
                      <a:srgbClr val="d60093"/>
                    </a:solidFill>
                    <a:uFillTx/>
                    <a:latin typeface="Arial"/>
                    <a:hlinkClick r:id="rId3" action="ppaction://hlinksldjump"/>
                  </a:rPr>
                  <a:t>2</a:t>
                </a:r>
                <a:r>
                  <a:rPr b="0" lang="en-US" sz="2400" spc="-1" strike="noStrike" u="sng" baseline="30000">
                    <a:solidFill>
                      <a:srgbClr val="d60093"/>
                    </a:solidFill>
                    <a:uFillTx/>
                    <a:latin typeface="Arial"/>
                    <a:hlinkClick r:id="rId4" action="ppaction://hlinksldjump"/>
                  </a:rPr>
                  <a:t> – y</a:t>
                </a:r>
                <a:r>
                  <a:rPr b="0" lang="en-US" sz="2400" spc="-1" strike="noStrike" u="sng" baseline="30000">
                    <a:solidFill>
                      <a:srgbClr val="d60093"/>
                    </a:solidFill>
                    <a:uFillTx/>
                    <a:latin typeface="Arial"/>
                    <a:hlinkClick r:id="rId5" action="ppaction://hlinksldjump"/>
                  </a:rPr>
                  <a:t>2</a:t>
                </a: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grpSp>
            <p:nvGrpSpPr>
              <p:cNvPr id="243" name=""/>
              <p:cNvGrpSpPr/>
              <p:nvPr/>
            </p:nvGrpSpPr>
            <p:grpSpPr>
              <a:xfrm>
                <a:off x="2057040" y="2174400"/>
                <a:ext cx="2971800" cy="1301040"/>
                <a:chOff x="2057040" y="2174400"/>
                <a:chExt cx="2971800" cy="1301040"/>
              </a:xfrm>
            </p:grpSpPr>
            <p:sp>
              <p:nvSpPr>
                <p:cNvPr id="244" name=""/>
                <p:cNvSpPr/>
                <p:nvPr/>
              </p:nvSpPr>
              <p:spPr>
                <a:xfrm flipH="1" flipV="1">
                  <a:off x="2273040" y="2174040"/>
                  <a:ext cx="2536200" cy="83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" y="10491"/>
                      </a:moveTo>
                      <a:arcTo wR="10800" hR="10800" stAng="-10701629" swAng="104957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" y="10491"/>
                      </a:moveTo>
                      <a:arcTo wR="10800" hR="10800" stAng="-10701629" swAng="10495700"/>
                    </a:path>
                  </a:pathLst>
                </a:custGeom>
                <a:noFill/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a50021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flipV="1">
                  <a:off x="2056680" y="2643120"/>
                  <a:ext cx="2971800" cy="83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" y="10491"/>
                      </a:moveTo>
                      <a:arcTo wR="10800" hR="10800" stAng="-10701629" swAng="1097093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" y="10491"/>
                      </a:moveTo>
                      <a:arcTo wR="10800" hR="10800" stAng="-10701629" swAng="10970930"/>
                    </a:path>
                  </a:pathLst>
                </a:custGeom>
                <a:noFill/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a50021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6" name=""/>
              <p:cNvSpPr/>
              <p:nvPr/>
            </p:nvSpPr>
            <p:spPr>
              <a:xfrm flipH="1" flipV="1">
                <a:off x="1808640" y="3172680"/>
                <a:ext cx="3473640" cy="771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9" y="11716"/>
                    </a:moveTo>
                    <a:arcTo wR="10800" hR="10800" stAng="10508066" swAng="110078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9" y="11716"/>
                    </a:moveTo>
                    <a:arcTo wR="10800" hR="10800" stAng="10508066" swAng="11007810"/>
                  </a:path>
                </a:pathLst>
              </a:custGeom>
              <a:noFill/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433840" y="3448080"/>
                <a:ext cx="272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G(x,y) = x + y  = 3</a:t>
                </a:r>
                <a:endParaRPr b="0" lang="en-US" sz="20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grpSp>
            <p:nvGrpSpPr>
              <p:cNvPr id="248" name=""/>
              <p:cNvGrpSpPr/>
              <p:nvPr/>
            </p:nvGrpSpPr>
            <p:grpSpPr>
              <a:xfrm>
                <a:off x="1180800" y="2289240"/>
                <a:ext cx="4375800" cy="1571040"/>
                <a:chOff x="1180800" y="2289240"/>
                <a:chExt cx="4375800" cy="15710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2208240" y="2289240"/>
                  <a:ext cx="2490840" cy="1554120"/>
                </a:xfrm>
                <a:custGeom>
                  <a:avLst/>
                  <a:gdLst/>
                  <a:ahLst/>
                  <a:rect l="l" t="t" r="r" b="b"/>
                  <a:pathLst>
                    <a:path w="1466" h="608">
                      <a:moveTo>
                        <a:pt x="0" y="582"/>
                      </a:moveTo>
                      <a:cubicBezTo>
                        <a:pt x="35" y="545"/>
                        <a:pt x="112" y="447"/>
                        <a:pt x="210" y="359"/>
                      </a:cubicBezTo>
                      <a:cubicBezTo>
                        <a:pt x="308" y="271"/>
                        <a:pt x="471" y="100"/>
                        <a:pt x="591" y="50"/>
                      </a:cubicBezTo>
                      <a:cubicBezTo>
                        <a:pt x="711" y="0"/>
                        <a:pt x="833" y="25"/>
                        <a:pt x="930" y="61"/>
                      </a:cubicBezTo>
                      <a:cubicBezTo>
                        <a:pt x="1027" y="97"/>
                        <a:pt x="1084" y="178"/>
                        <a:pt x="1173" y="269"/>
                      </a:cubicBezTo>
                      <a:cubicBezTo>
                        <a:pt x="1262" y="360"/>
                        <a:pt x="1405" y="538"/>
                        <a:pt x="1466" y="60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a50021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180800" y="3794040"/>
                  <a:ext cx="4375800" cy="66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a50021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1291680" y="2986200"/>
                <a:ext cx="4370040" cy="991080"/>
                <a:chOff x="1291680" y="2986200"/>
                <a:chExt cx="4370040" cy="9910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316240" y="2986200"/>
                  <a:ext cx="2046240" cy="968400"/>
                </a:xfrm>
                <a:custGeom>
                  <a:avLst/>
                  <a:gdLst/>
                  <a:ahLst/>
                  <a:rect l="l" t="t" r="r" b="b"/>
                  <a:pathLst>
                    <a:path w="1466" h="608">
                      <a:moveTo>
                        <a:pt x="0" y="582"/>
                      </a:moveTo>
                      <a:cubicBezTo>
                        <a:pt x="35" y="545"/>
                        <a:pt x="112" y="447"/>
                        <a:pt x="210" y="359"/>
                      </a:cubicBezTo>
                      <a:cubicBezTo>
                        <a:pt x="308" y="271"/>
                        <a:pt x="471" y="100"/>
                        <a:pt x="591" y="50"/>
                      </a:cubicBezTo>
                      <a:cubicBezTo>
                        <a:pt x="711" y="0"/>
                        <a:pt x="833" y="25"/>
                        <a:pt x="930" y="61"/>
                      </a:cubicBezTo>
                      <a:cubicBezTo>
                        <a:pt x="1027" y="97"/>
                        <a:pt x="1084" y="178"/>
                        <a:pt x="1173" y="269"/>
                      </a:cubicBezTo>
                      <a:cubicBezTo>
                        <a:pt x="1262" y="360"/>
                        <a:pt x="1405" y="538"/>
                        <a:pt x="1466" y="60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a50021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291680" y="3901680"/>
                  <a:ext cx="4370040" cy="75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a50021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4" name=""/>
              <p:cNvSpPr/>
              <p:nvPr/>
            </p:nvSpPr>
            <p:spPr>
              <a:xfrm flipH="1" flipV="1">
                <a:off x="2624040" y="1529280"/>
                <a:ext cx="1612080" cy="83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7" y="9509"/>
                    </a:moveTo>
                    <a:arcTo wR="10800" hR="10800" stAng="-10388009" swAng="934285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7" y="9509"/>
                    </a:moveTo>
                    <a:arcTo wR="10800" hR="10800" stAng="-10388009" swAng="9342858"/>
                  </a:path>
                </a:pathLst>
              </a:custGeom>
              <a:noFill/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04960" y="4800240"/>
            <a:ext cx="7354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  M = 9/2  es el valor extremo   de   F(x,y)    sujeta a  la 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stricción   G(x,y) = 3  y 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K = 1 entonces:  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= -3. 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o cual significa que el valor máximo disminuye en 3.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/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5009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¿Qué es un extremo condicionado de  F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685440"/>
            <a:ext cx="780552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 un extremo (máximo o mínimo) de la  función  F,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ando   (x,y)  vive  sobre  una  curva del  plano,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(x,y) = K, en el dominio de F.  Es decir, (x,y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tisface una condición  o  restricción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 ejemplo: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895480" y="2819520"/>
          <a:ext cx="403884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819520"/>
                    <a:ext cx="40388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4419720" y="4089240"/>
            <a:ext cx="1981080" cy="1549440"/>
          </a:xfrm>
          <a:custGeom>
            <a:avLst/>
            <a:gdLst/>
            <a:ahLst/>
            <a:rect l="l" t="t" r="r" b="b"/>
            <a:pathLst>
              <a:path w="1248" h="976">
                <a:moveTo>
                  <a:pt x="0" y="976"/>
                </a:moveTo>
                <a:cubicBezTo>
                  <a:pt x="21" y="914"/>
                  <a:pt x="61" y="750"/>
                  <a:pt x="127" y="602"/>
                </a:cubicBezTo>
                <a:cubicBezTo>
                  <a:pt x="193" y="454"/>
                  <a:pt x="299" y="180"/>
                  <a:pt x="394" y="90"/>
                </a:cubicBezTo>
                <a:cubicBezTo>
                  <a:pt x="489" y="0"/>
                  <a:pt x="582" y="43"/>
                  <a:pt x="699" y="64"/>
                </a:cubicBezTo>
                <a:cubicBezTo>
                  <a:pt x="816" y="85"/>
                  <a:pt x="1007" y="174"/>
                  <a:pt x="1098" y="216"/>
                </a:cubicBezTo>
                <a:cubicBezTo>
                  <a:pt x="1190" y="259"/>
                  <a:pt x="1231" y="301"/>
                  <a:pt x="1248" y="318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429000" y="4177800"/>
            <a:ext cx="3505320" cy="2070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Y- 2x = 4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70600" y="4089240"/>
            <a:ext cx="75960" cy="142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17880" y="24224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Máximo relativo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1334600">
            <a:off x="4809240" y="3430080"/>
            <a:ext cx="3418200" cy="801720"/>
          </a:xfrm>
          <a:custGeom>
            <a:avLst/>
            <a:gdLst>
              <a:gd name="textAreaLeft" fmla="*/ 696960 w 3418200"/>
              <a:gd name="textAreaRight" fmla="*/ 2131920 w 3418200"/>
              <a:gd name="textAreaTop" fmla="*/ 107280 h 801720"/>
              <a:gd name="textAreaBottom" fmla="*/ 694440 h 80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811" hR="21600" stAng="10800000" swAng="-5400000"/>
                <a:lnTo>
                  <a:pt x="9067" y="21600"/>
                </a:lnTo>
                <a:arcTo wR="8811" hR="21600" stAng="5400000" swAng="-2944917"/>
                <a:lnTo>
                  <a:pt x="21096" y="7200"/>
                </a:lnTo>
                <a:lnTo>
                  <a:pt x="17749" y="0"/>
                </a:lnTo>
                <a:lnTo>
                  <a:pt x="13394" y="7200"/>
                </a:lnTo>
                <a:lnTo>
                  <a:pt x="17117" y="7200"/>
                </a:lnTo>
                <a:arcTo wR="8811" hR="21600" stAng="2455083" swAng="2924543"/>
                <a:lnTo>
                  <a:pt x="8939" y="21598"/>
                </a:lnTo>
                <a:arcTo wR="8811" hR="21600" stAng="5420374" swAng="5379626"/>
                <a:close/>
              </a:path>
              <a:path fill="darkenLess" w="21600" h="21600">
                <a:moveTo>
                  <a:pt x="0" y="0"/>
                </a:moveTo>
                <a:arcTo wR="8811" hR="21600" stAng="10800000" swAng="-5400000"/>
                <a:lnTo>
                  <a:pt x="9067" y="21600"/>
                </a:lnTo>
                <a:arcTo wR="8811" hR="21600" stAng="5400000" swAng="20374"/>
                <a:lnTo>
                  <a:pt x="8939" y="21598"/>
                </a:lnTo>
                <a:arcTo wR="8811" hR="21600" stAng="5420374" swAng="5379626"/>
                <a:close/>
              </a:path>
            </a:pathLst>
          </a:custGeom>
          <a:solidFill>
            <a:srgbClr val="ff0000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53120" y="4232160"/>
            <a:ext cx="209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Máximo condicionado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43560" y="2819520"/>
            <a:ext cx="380880" cy="396720"/>
          </a:xfrm>
          <a:prstGeom prst="downArrow">
            <a:avLst>
              <a:gd name="adj1" fmla="val 50000"/>
              <a:gd name="adj2" fmla="val 26040"/>
            </a:avLst>
          </a:prstGeom>
          <a:solidFill>
            <a:srgbClr val="ff0000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89360" y="3268800"/>
            <a:ext cx="76320" cy="142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04760" y="609480"/>
            <a:ext cx="7119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¿ Cuál es la utilidad 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76960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 este método podemos saber: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Cómo distribuir una cantidad  fija  de  dinero?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: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arrollo y en promoción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o de obra y equipos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ursos físicos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modo de optimizar el  beneficio, la producción,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ingreso, etc.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23560" y="380880"/>
            <a:ext cx="6510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étod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72820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a   F(x,y)  la  función   objetivo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ongamos que  (x,y)   están  condicionadas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   la  ecuación    g(x,y) = K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 y  g  son  funciones  suaves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F tiene un extremo (máximo o mínimo) sujeto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  g(x,y) = K    en  el  punto  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 entonces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iste  un  escal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l qu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819440" y="4562640"/>
                <a:ext cx="4940280" cy="19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F</m:t>
                              </m:r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r>
                                <m:t xml:space="preserve">λ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g</m:t>
                              </m:r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F</m:t>
                              </m:r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  <m:r>
                                <m:t xml:space="preserve">=</m:t>
                              </m:r>
                              <m:r>
                                <m:t xml:space="preserve">λ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g</m:t>
                              </m:r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g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K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95800" y="304560"/>
            <a:ext cx="3929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gnificado  geométric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52440" y="990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n el plano xy, dibujamos la condición  x+y = 1, en rojo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y vamos dibujando las curvas de nivel del objetivo F(x,y) en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azul, hasta lograr que los vectores (Fx,Fy) y (gx,gy) sean 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paralelos.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828800" y="2514600"/>
            <a:ext cx="4267080" cy="3352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4267080" cy="3352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676520" y="2514600"/>
            <a:ext cx="4267080" cy="3352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1752480" y="2514600"/>
            <a:ext cx="426744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523880" y="782640"/>
          <a:ext cx="403884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782640"/>
                    <a:ext cx="40388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3048120" y="2052720"/>
            <a:ext cx="1981080" cy="1549440"/>
          </a:xfrm>
          <a:custGeom>
            <a:avLst/>
            <a:gdLst/>
            <a:ahLst/>
            <a:rect l="l" t="t" r="r" b="b"/>
            <a:pathLst>
              <a:path w="1248" h="976">
                <a:moveTo>
                  <a:pt x="0" y="976"/>
                </a:moveTo>
                <a:cubicBezTo>
                  <a:pt x="21" y="914"/>
                  <a:pt x="61" y="750"/>
                  <a:pt x="127" y="602"/>
                </a:cubicBezTo>
                <a:cubicBezTo>
                  <a:pt x="193" y="454"/>
                  <a:pt x="299" y="180"/>
                  <a:pt x="394" y="90"/>
                </a:cubicBezTo>
                <a:cubicBezTo>
                  <a:pt x="489" y="0"/>
                  <a:pt x="582" y="43"/>
                  <a:pt x="699" y="64"/>
                </a:cubicBezTo>
                <a:cubicBezTo>
                  <a:pt x="816" y="85"/>
                  <a:pt x="1007" y="174"/>
                  <a:pt x="1098" y="216"/>
                </a:cubicBezTo>
                <a:cubicBezTo>
                  <a:pt x="1190" y="259"/>
                  <a:pt x="1231" y="301"/>
                  <a:pt x="1248" y="318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057400" y="2141640"/>
            <a:ext cx="3505320" cy="2070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375444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Y- 2x = 4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2376720" y="4215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7" y="8283"/>
                </a:moveTo>
                <a:arcTo wR="10800" hR="10800" stAng="-9991390" swAng="9061727"/>
                <a:lnTo>
                  <a:pt x="10800" y="10800"/>
                </a:lnTo>
                <a:close/>
              </a:path>
              <a:path fill="none" w="21600" h="21600">
                <a:moveTo>
                  <a:pt x="297" y="8283"/>
                </a:moveTo>
                <a:arcTo wR="10800" hR="10800" stAng="-9991390" swAng="9061727"/>
              </a:path>
            </a:pathLst>
          </a:cu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1777320" y="858240"/>
            <a:ext cx="279396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0491"/>
                </a:moveTo>
                <a:arcTo wR="10800" hR="10800" stAng="-10701629" swAng="9771966"/>
                <a:lnTo>
                  <a:pt x="10800" y="10800"/>
                </a:lnTo>
                <a:close/>
              </a:path>
              <a:path fill="none" w="21600" h="21600">
                <a:moveTo>
                  <a:pt x="4" y="10491"/>
                </a:moveTo>
                <a:arcTo wR="10800" hR="10800" stAng="-10701629" swAng="9771966"/>
              </a:path>
            </a:pathLst>
          </a:cu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1691280" y="1532880"/>
            <a:ext cx="32598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0491"/>
                </a:moveTo>
                <a:arcTo wR="10800" hR="10800" stAng="-10701629" swAng="9771966"/>
                <a:lnTo>
                  <a:pt x="10800" y="10800"/>
                </a:lnTo>
                <a:close/>
              </a:path>
              <a:path fill="none" w="21600" h="21600">
                <a:moveTo>
                  <a:pt x="4" y="10491"/>
                </a:moveTo>
                <a:arcTo wR="10800" hR="10800" stAng="-10701629" swAng="9771966"/>
              </a:path>
            </a:pathLst>
          </a:cu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33920" y="2052720"/>
            <a:ext cx="75960" cy="142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222960" y="1595520"/>
            <a:ext cx="1752480" cy="1050120"/>
            <a:chOff x="6222960" y="1595520"/>
            <a:chExt cx="1752480" cy="1050120"/>
          </a:xfrm>
        </p:grpSpPr>
        <p:sp>
          <p:nvSpPr>
            <p:cNvPr id="142" name=""/>
            <p:cNvSpPr/>
            <p:nvPr/>
          </p:nvSpPr>
          <p:spPr>
            <a:xfrm>
              <a:off x="6222960" y="21859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Arial"/>
                </a:rPr>
                <a:t>g(x,y) = k</a:t>
              </a:r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23320" y="1595520"/>
              <a:ext cx="156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99"/>
                  </a:solidFill>
                  <a:latin typeface="Arial"/>
                </a:rPr>
                <a:t>F(x,y) = C</a:t>
              </a:r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159080" y="431640"/>
            <a:ext cx="4338720" cy="1148400"/>
            <a:chOff x="4159080" y="431640"/>
            <a:chExt cx="4338720" cy="1148400"/>
          </a:xfrm>
        </p:grpSpPr>
        <p:sp>
          <p:nvSpPr>
            <p:cNvPr id="145" name=""/>
            <p:cNvSpPr/>
            <p:nvPr/>
          </p:nvSpPr>
          <p:spPr>
            <a:xfrm>
              <a:off x="4159080" y="431640"/>
              <a:ext cx="4338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La curva de nivel más alta que intersecta a la curva restricción</a:t>
              </a:r>
              <a:endParaRPr b="0" lang="en-US" sz="20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212720" y="1113120"/>
              <a:ext cx="1108800" cy="466920"/>
            </a:xfrm>
            <a:prstGeom prst="line">
              <a:avLst/>
            </a:prstGeom>
            <a:ln w="57240">
              <a:solidFill>
                <a:srgbClr val="66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894200" y="2874960"/>
            <a:ext cx="3405240" cy="2001960"/>
            <a:chOff x="4894200" y="2874960"/>
            <a:chExt cx="3405240" cy="2001960"/>
          </a:xfrm>
        </p:grpSpPr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4894200" y="2874960"/>
                  <a:ext cx="2657520" cy="101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T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5643720" y="3865680"/>
                  <a:ext cx="2655720" cy="101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0" name=""/>
          <p:cNvGrpSpPr/>
          <p:nvPr/>
        </p:nvGrpSpPr>
        <p:grpSpPr>
          <a:xfrm>
            <a:off x="1585800" y="5105520"/>
            <a:ext cx="5119920" cy="1028520"/>
            <a:chOff x="1585800" y="5105520"/>
            <a:chExt cx="5119920" cy="1028520"/>
          </a:xfrm>
        </p:grpSpPr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1585800" y="5105520"/>
                  <a:ext cx="2300400" cy="101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4405320" y="5122800"/>
                  <a:ext cx="2300400" cy="101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562720" y="456840"/>
            <a:ext cx="2844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jemplo 1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74760" y="579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Máximo relativo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03640" y="4121280"/>
            <a:ext cx="209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Máximo </a:t>
            </a:r>
            <a:r>
              <a:rPr b="0" lang="en-US" sz="2000" spc="-1" strike="noStrike" u="sng">
                <a:solidFill>
                  <a:srgbClr val="d60093"/>
                </a:solidFill>
                <a:uFillTx/>
                <a:latin typeface="Arial"/>
                <a:hlinkClick r:id="rId1" action="ppaction://hlinksldjump"/>
              </a:rPr>
              <a:t>condicionado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17960" y="919080"/>
            <a:ext cx="301680" cy="397080"/>
          </a:xfrm>
          <a:prstGeom prst="downArrow">
            <a:avLst>
              <a:gd name="adj1" fmla="val 50000"/>
              <a:gd name="adj2" fmla="val 32906"/>
            </a:avLst>
          </a:prstGeom>
          <a:solidFill>
            <a:srgbClr val="ff0000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3048120" y="3637800"/>
            <a:ext cx="301680" cy="397080"/>
          </a:xfrm>
          <a:prstGeom prst="downArrow">
            <a:avLst>
              <a:gd name="adj1" fmla="val 50000"/>
              <a:gd name="adj2" fmla="val 32906"/>
            </a:avLst>
          </a:prstGeom>
          <a:solidFill>
            <a:srgbClr val="ff0000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143000" y="228600"/>
            <a:ext cx="5985000" cy="4037040"/>
            <a:chOff x="1143000" y="228600"/>
            <a:chExt cx="5985000" cy="4037040"/>
          </a:xfrm>
        </p:grpSpPr>
        <p:pic>
          <p:nvPicPr>
            <p:cNvPr id="159" name="" descr=""/>
            <p:cNvPicPr/>
            <p:nvPr/>
          </p:nvPicPr>
          <p:blipFill>
            <a:blip r:embed="rId2"/>
            <a:srcRect l="18885" t="0" r="19387" b="0"/>
            <a:stretch/>
          </p:blipFill>
          <p:spPr>
            <a:xfrm>
              <a:off x="1143000" y="228600"/>
              <a:ext cx="4235400" cy="40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384800" y="131616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F(x,y) = 9- x</a:t>
              </a:r>
              <a:r>
                <a:rPr b="1" lang="en-US" sz="2400" spc="-1" strike="noStrike" baseline="30000">
                  <a:solidFill>
                    <a:srgbClr val="003399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 – y</a:t>
              </a:r>
              <a:r>
                <a:rPr b="1" lang="en-US" sz="2400" spc="-1" strike="noStrike" baseline="30000">
                  <a:solidFill>
                    <a:srgbClr val="003399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768320" y="2099880"/>
            <a:ext cx="2997360" cy="1197000"/>
            <a:chOff x="1768320" y="2099880"/>
            <a:chExt cx="2997360" cy="1197000"/>
          </a:xfrm>
        </p:grpSpPr>
        <p:sp>
          <p:nvSpPr>
            <p:cNvPr id="162" name=""/>
            <p:cNvSpPr/>
            <p:nvPr/>
          </p:nvSpPr>
          <p:spPr>
            <a:xfrm flipH="1" flipV="1">
              <a:off x="1986840" y="2099520"/>
              <a:ext cx="2558160" cy="76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" y="10491"/>
                  </a:moveTo>
                  <a:arcTo wR="10800" hR="10800" stAng="-10701629" swAng="10495700"/>
                  <a:lnTo>
                    <a:pt x="10800" y="10800"/>
                  </a:lnTo>
                  <a:close/>
                </a:path>
                <a:path fill="none" w="21600" h="21600">
                  <a:moveTo>
                    <a:pt x="4" y="10491"/>
                  </a:moveTo>
                  <a:arcTo wR="10800" hR="10800" stAng="-10701629" swAng="10495700"/>
                </a:path>
              </a:pathLst>
            </a:custGeom>
            <a:noFill/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1768320" y="2531520"/>
              <a:ext cx="2997360" cy="76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" y="10491"/>
                  </a:moveTo>
                  <a:arcTo wR="10800" hR="10800" stAng="-10701629" swAng="10970930"/>
                  <a:lnTo>
                    <a:pt x="10800" y="10800"/>
                  </a:lnTo>
                  <a:close/>
                </a:path>
                <a:path fill="none" w="21600" h="21600">
                  <a:moveTo>
                    <a:pt x="4" y="10491"/>
                  </a:moveTo>
                  <a:arcTo wR="10800" hR="10800" stAng="-10701629" swAng="10970930"/>
                </a:path>
              </a:pathLst>
            </a:custGeom>
            <a:noFill/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644120" y="2793600"/>
            <a:ext cx="4155120" cy="711000"/>
            <a:chOff x="1644120" y="2793600"/>
            <a:chExt cx="4155120" cy="711000"/>
          </a:xfrm>
        </p:grpSpPr>
        <p:sp>
          <p:nvSpPr>
            <p:cNvPr id="165" name=""/>
            <p:cNvSpPr/>
            <p:nvPr/>
          </p:nvSpPr>
          <p:spPr>
            <a:xfrm flipH="1" flipV="1">
              <a:off x="1644120" y="2793240"/>
              <a:ext cx="3243600" cy="71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9" y="11716"/>
                  </a:moveTo>
                  <a:arcTo wR="10800" hR="10800" stAng="10508066" swAng="11007810"/>
                  <a:lnTo>
                    <a:pt x="10800" y="10800"/>
                  </a:lnTo>
                  <a:close/>
                </a:path>
                <a:path fill="none" w="21600" h="21600">
                  <a:moveTo>
                    <a:pt x="39" y="11716"/>
                  </a:moveTo>
                  <a:arcTo wR="10800" hR="10800" stAng="10508066" swAng="11007810"/>
                </a:path>
              </a:pathLst>
            </a:custGeom>
            <a:noFill/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7920" y="29512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F = 0</a:t>
              </a:r>
              <a:endParaRPr b="0" lang="en-US" sz="18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121120" y="1720440"/>
            <a:ext cx="3257280" cy="765000"/>
            <a:chOff x="2121120" y="1720440"/>
            <a:chExt cx="3257280" cy="765000"/>
          </a:xfrm>
        </p:grpSpPr>
        <p:sp>
          <p:nvSpPr>
            <p:cNvPr id="168" name=""/>
            <p:cNvSpPr/>
            <p:nvPr/>
          </p:nvSpPr>
          <p:spPr>
            <a:xfrm flipH="1" flipV="1">
              <a:off x="2121120" y="1720080"/>
              <a:ext cx="2221920" cy="76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7" y="9509"/>
                  </a:moveTo>
                  <a:arcTo wR="10800" hR="10800" stAng="-10388009" swAng="9342858"/>
                  <a:lnTo>
                    <a:pt x="10800" y="10800"/>
                  </a:lnTo>
                  <a:close/>
                </a:path>
                <a:path fill="none" w="21600" h="21600">
                  <a:moveTo>
                    <a:pt x="77" y="9509"/>
                  </a:moveTo>
                  <a:arcTo wR="10800" hR="10800" stAng="-10388009" swAng="9342858"/>
                </a:path>
              </a:pathLst>
            </a:custGeom>
            <a:noFill/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40160" y="1874880"/>
              <a:ext cx="103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F = 9/2</a:t>
              </a:r>
              <a:endParaRPr b="0" lang="en-US" sz="18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181480" y="3700440"/>
            <a:ext cx="3543480" cy="2852640"/>
            <a:chOff x="5181480" y="3700440"/>
            <a:chExt cx="3543480" cy="2852640"/>
          </a:xfrm>
        </p:grpSpPr>
        <p:pic>
          <p:nvPicPr>
            <p:cNvPr id="171" name="" descr=""/>
            <p:cNvPicPr/>
            <p:nvPr/>
          </p:nvPicPr>
          <p:blipFill>
            <a:blip r:embed="rId3"/>
            <a:stretch/>
          </p:blipFill>
          <p:spPr>
            <a:xfrm>
              <a:off x="5181480" y="3700440"/>
              <a:ext cx="3276720" cy="28526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72" name=""/>
            <p:cNvSpPr/>
            <p:nvPr/>
          </p:nvSpPr>
          <p:spPr>
            <a:xfrm>
              <a:off x="5334120" y="374796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F = 0</a:t>
              </a:r>
              <a:endParaRPr b="0" lang="en-US" sz="18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83160" y="4510080"/>
              <a:ext cx="11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F = 9/2</a:t>
              </a:r>
              <a:endParaRPr b="0" lang="en-US" sz="18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28000" y="3794040"/>
              <a:ext cx="159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x + y  = 3</a:t>
              </a:r>
              <a:endParaRPr b="0" lang="en-US" sz="20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065600" y="2446560"/>
            <a:ext cx="6859080" cy="1179720"/>
            <a:chOff x="1065600" y="2446560"/>
            <a:chExt cx="6859080" cy="1179720"/>
          </a:xfrm>
        </p:grpSpPr>
        <p:sp>
          <p:nvSpPr>
            <p:cNvPr id="176" name=""/>
            <p:cNvSpPr/>
            <p:nvPr/>
          </p:nvSpPr>
          <p:spPr>
            <a:xfrm>
              <a:off x="5378400" y="3227400"/>
              <a:ext cx="254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(x,y) = x + y  = 3</a:t>
              </a:r>
              <a:endParaRPr b="0" lang="en-US" sz="20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1065600" y="2446560"/>
              <a:ext cx="4069800" cy="995400"/>
              <a:chOff x="1065600" y="2446560"/>
              <a:chExt cx="4069800" cy="995400"/>
            </a:xfrm>
          </p:grpSpPr>
          <p:sp>
            <p:nvSpPr>
              <p:cNvPr id="178" name=""/>
              <p:cNvSpPr/>
              <p:nvPr/>
            </p:nvSpPr>
            <p:spPr>
              <a:xfrm>
                <a:off x="2016000" y="2446560"/>
                <a:ext cx="2327400" cy="965160"/>
              </a:xfrm>
              <a:custGeom>
                <a:avLst/>
                <a:gdLst/>
                <a:ahLst/>
                <a:rect l="l" t="t" r="r" b="b"/>
                <a:pathLst>
                  <a:path w="1466" h="608">
                    <a:moveTo>
                      <a:pt x="0" y="582"/>
                    </a:moveTo>
                    <a:cubicBezTo>
                      <a:pt x="35" y="545"/>
                      <a:pt x="112" y="447"/>
                      <a:pt x="210" y="359"/>
                    </a:cubicBezTo>
                    <a:cubicBezTo>
                      <a:pt x="308" y="271"/>
                      <a:pt x="471" y="100"/>
                      <a:pt x="591" y="50"/>
                    </a:cubicBezTo>
                    <a:cubicBezTo>
                      <a:pt x="711" y="0"/>
                      <a:pt x="833" y="25"/>
                      <a:pt x="930" y="61"/>
                    </a:cubicBezTo>
                    <a:cubicBezTo>
                      <a:pt x="1027" y="97"/>
                      <a:pt x="1084" y="178"/>
                      <a:pt x="1173" y="269"/>
                    </a:cubicBezTo>
                    <a:cubicBezTo>
                      <a:pt x="1262" y="360"/>
                      <a:pt x="1405" y="538"/>
                      <a:pt x="1466" y="60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065600" y="3352680"/>
                <a:ext cx="4069800" cy="8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023560" y="380880"/>
            <a:ext cx="6510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jemplo 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72820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llar los valores  máximo  y   mínimo  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(x,y)  vive  sobre  la  recta     x + y = 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514600" y="1523880"/>
                <a:ext cx="3786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1523880" y="3124080"/>
            <a:ext cx="7282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nemos  q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g(x,y) = x + y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ntonces las derivadas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286000" y="4191120"/>
                <a:ext cx="447516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x       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y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1         g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5000" y="380880"/>
            <a:ext cx="2819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…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jemplo 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9907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 hacer el sistema, conseguimos: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2x =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;         - 2y =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;             x + y = 1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uya solución 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x,y) = (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/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 y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-1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(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/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= 1/2  puede ser  el valor extremo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icionado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3581280"/>
            <a:ext cx="8001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d6009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Cómo sabemos  si el punto es máximo  o mínimo condicionado?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mparando con otro punto sobre la restricción.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(1,0) = 0 &lt;  1/ 2 =  F(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/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luimos que  (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/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es un máximo  condicionado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el valor  máximo condicionado  es  1/ 2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20:41:56Z</dcterms:created>
  <dc:creator>Lida Niño</dc:creator>
  <dc:description/>
  <dc:language>en-US</dc:language>
  <cp:lastModifiedBy>Universidad Metropolitana</cp:lastModifiedBy>
  <cp:lastPrinted>2000-04-10T19:57:26Z</cp:lastPrinted>
  <dcterms:modified xsi:type="dcterms:W3CDTF">2004-01-09T06:05:50Z</dcterms:modified>
  <cp:revision>84</cp:revision>
  <dc:subject/>
  <dc:title>Multiplicadores  de  Lagrange </dc:title>
</cp:coreProperties>
</file>