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CA5D1-7BF1-454D-B54A-B4DAAE1E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E143B-0B62-431E-A162-CB3CE2F2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7F254-8207-4001-ACCD-2C8DB88B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67025-C84E-4BE8-9AF2-8E4FA7B3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C22B-AAB5-43FD-9A30-0AC99298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42D2B-A3D4-41C1-A171-02AA086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AE23D-D63A-41AE-BB3C-9265ED2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6770-F462-4374-8FD2-FE49A76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137E6-2CF9-4EC6-9E46-2726A5C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F448A-BDF8-4978-BD53-9E2324F7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52A7C-EFE0-46AD-AA71-103513F5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F048-6BA4-4825-B5F9-0039BFF4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1582560" y="21924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Comic Sans MS"/>
              </a:rPr>
              <a:t>M. Lagrang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6920" y="637704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álculo III (G,B)</a:t>
            </a:r>
            <a:endParaRPr b="0" lang="en-US" sz="12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7440" y="208440"/>
            <a:ext cx="1300680" cy="6045840"/>
            <a:chOff x="-37440" y="208440"/>
            <a:chExt cx="1300680" cy="6045840"/>
          </a:xfrm>
        </p:grpSpPr>
        <p:sp>
          <p:nvSpPr>
            <p:cNvPr id="7" name=""/>
            <p:cNvSpPr/>
            <p:nvPr/>
          </p:nvSpPr>
          <p:spPr>
            <a:xfrm flipH="1" rot="5907600">
              <a:off x="-365760" y="5562000"/>
              <a:ext cx="1203840" cy="16848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907600">
              <a:off x="-1730160" y="2262240"/>
              <a:ext cx="4686120" cy="61812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326880" y="4878360"/>
              <a:ext cx="187920" cy="218160"/>
              <a:chOff x="326880" y="4878360"/>
              <a:chExt cx="187920" cy="218160"/>
            </a:xfrm>
          </p:grpSpPr>
          <p:sp>
            <p:nvSpPr>
              <p:cNvPr id="10" name=""/>
              <p:cNvSpPr/>
              <p:nvPr/>
            </p:nvSpPr>
            <p:spPr>
              <a:xfrm flipH="1" rot="5400000">
                <a:off x="311760" y="4893480"/>
                <a:ext cx="2181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5400000">
                <a:off x="415080" y="493704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5400000">
                <a:off x="44172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 rot="5400000">
                <a:off x="38844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 rot="5400000">
                <a:off x="370800" y="496116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400000">
                <a:off x="376920" y="489276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5400000">
                <a:off x="332640" y="494748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 rot="5400000">
                <a:off x="34164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5400000">
                <a:off x="461880" y="49507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56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d60093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3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7CD6-C5CB-4633-9C5A-D4C803A8E4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73884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Multiplicadores</a:t>
            </a:r>
            <a:r>
              <a:rPr b="0" i="1" lang="en-US" sz="3600" spc="-1" strike="noStrike">
                <a:solidFill>
                  <a:srgbClr val="d60093"/>
                </a:solidFill>
                <a:latin typeface="Comic Sans MS"/>
              </a:rPr>
              <a:t>  </a:t>
            </a: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de  Lagrange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52160" y="1371240"/>
            <a:ext cx="5977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¿Cómo optimizar una  funció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uando sus variables está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ujetas a una restricción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971800"/>
            <a:ext cx="62485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étodo que nos permitirá responder a ésta pregunta se encuentra en un artículo sobre Mecánica que Lagrange escribió cuando tenía  19 años 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e fue el primer analista pues  escribió con rigor  y  precisión sus ideas matemáticas. Fue el primero en usar la notación f ’(x)  y f ’’(x) para la derivadas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isponen de  320 mts de  cerca  para  encerrar  u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mpo  rectangular. ¿Cómo debería colocarse la cerca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 manera  que  el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área encerrada  sea lo más grand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osibl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ón objetivo:  Are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estricción:   Perímetro = 320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x, y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re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izar      F(x,y) = x.y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 a         2x + 2y = 320        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2666880"/>
            <a:ext cx="2361960" cy="9144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2852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 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hacer el sistema, consegui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x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    2x + 2y = 32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ya solución 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y) = (80, 80)   y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4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80, 80) = 640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bamos que es un máximo, al compar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otro punto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bre la restricción.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100,60) = 6000 &lt;  640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imos que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 área que puede encerrarse con 320 mts d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ca es de 6400  metros cuadrados y   corresponde 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cuadrado, cuyo lado  mide 80 m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4960" y="228240"/>
            <a:ext cx="5367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ificado  del  multiplicado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72956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  M   es el valor extremo   de   F(x,y)    sujeta a  l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tricción   g(x,y) = K, entonces: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dM/dK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lo tanto,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ción de M       si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 = 1 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962520"/>
            <a:ext cx="772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3581280"/>
            <a:ext cx="77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ostración de este hecho puede conseguirla e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 libro en la   </a:t>
            </a:r>
            <a:r>
              <a:rPr b="0" lang="es-ES_tradnl" sz="2400" spc="-1" strike="noStrike" u="sng">
                <a:solidFill>
                  <a:srgbClr val="d60093"/>
                </a:solidFill>
                <a:uFillTx/>
                <a:latin typeface="Comic Sans MS"/>
                <a:hlinkClick r:id="rId1" action="ppaction://hlinksldjump"/>
              </a:rPr>
              <a:t>págin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545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952880"/>
            <a:ext cx="772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ejemplo, en el caso anterior  si nos dan un metr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icional  de cerca, el área encerrada aumenta  e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 metros cuadrados …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5000" y="3808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jercicio 28, pág 549 del Hoffmann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VP de un producto:  150 $ la unidad.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i se gastan: x  miles de $ en promoción, y miles de $ e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sarrollo,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venden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320 y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+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160x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unidades del produc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y + 2      x + 4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costo de producción es: 50 $ la unidad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fabricante dispone  de  8.000 $  para  desarrollo   y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mo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debe distribuirse este dinero para generar el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 beneficio posible?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33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ón objetivo:  Beneficio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tricción:  Fondos disponibles para desarrollo y  promo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timiza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81080" y="1752480"/>
                <a:ext cx="5351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0y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0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143000" y="27432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 dólares, sujeto  a   10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1000y = 800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 con   x, 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0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(x,x) = 1000x + 1000y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)  El sistema: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245280" y="3968640"/>
            <a:ext cx="2600280" cy="2080800"/>
            <a:chOff x="6245280" y="3968640"/>
            <a:chExt cx="2600280" cy="2080800"/>
          </a:xfrm>
        </p:grpSpPr>
        <p:grpSp>
          <p:nvGrpSpPr>
            <p:cNvPr id="205" name=""/>
            <p:cNvGrpSpPr/>
            <p:nvPr/>
          </p:nvGrpSpPr>
          <p:grpSpPr>
            <a:xfrm>
              <a:off x="6245280" y="3968640"/>
              <a:ext cx="2285640" cy="2040840"/>
              <a:chOff x="6245280" y="3968640"/>
              <a:chExt cx="2285640" cy="20408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6245280" y="4223520"/>
                <a:ext cx="2285640" cy="1785960"/>
                <a:chOff x="6245280" y="4223520"/>
                <a:chExt cx="2285640" cy="17859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6318360" y="4223520"/>
                  <a:ext cx="2212560" cy="1785960"/>
                  <a:chOff x="6318360" y="4223520"/>
                  <a:chExt cx="2212560" cy="17859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6318360" y="5818320"/>
                    <a:ext cx="2212560" cy="0"/>
                  </a:xfrm>
                  <a:prstGeom prst="line">
                    <a:avLst/>
                  </a:prstGeom>
                  <a:ln w="1260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>
                    <a:off x="6513480" y="4223520"/>
                    <a:ext cx="0" cy="1785960"/>
                  </a:xfrm>
                  <a:prstGeom prst="line">
                    <a:avLst/>
                  </a:prstGeom>
                  <a:ln w="1260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318360" y="4415040"/>
                    <a:ext cx="1626840" cy="1594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6245280" y="4489560"/>
                  <a:ext cx="52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a50021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89240" y="5508720"/>
                  <a:ext cx="39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a50021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513480" y="396864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a50021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8458200" y="55897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40384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133720" y="4038480"/>
                <a:ext cx="33811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λ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λ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1066680" y="500040"/>
            <a:ext cx="7620120" cy="3538440"/>
            <a:chOff x="1066680" y="500040"/>
            <a:chExt cx="7620120" cy="3538440"/>
          </a:xfrm>
        </p:grpSpPr>
        <p:sp>
          <p:nvSpPr>
            <p:cNvPr id="219" name=""/>
            <p:cNvSpPr/>
            <p:nvPr/>
          </p:nvSpPr>
          <p:spPr>
            <a:xfrm>
              <a:off x="1066680" y="3200400"/>
              <a:ext cx="7620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estricción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x + y = 8, con  x, 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0.  G(x,y) = x + y = 8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)  El sistema: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962000" y="2124000"/>
                  <a:ext cx="409608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2y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1981080" y="1187280"/>
                  <a:ext cx="403884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20y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0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>
              <a:off x="1066680" y="500040"/>
              <a:ext cx="71629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unción objetivo:  Beneficio expresado en miles de $.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4191120"/>
            <a:ext cx="2743200" cy="2105640"/>
            <a:chOff x="5867280" y="4191120"/>
            <a:chExt cx="2743200" cy="2105640"/>
          </a:xfrm>
        </p:grpSpPr>
        <p:grpSp>
          <p:nvGrpSpPr>
            <p:cNvPr id="224" name=""/>
            <p:cNvGrpSpPr/>
            <p:nvPr/>
          </p:nvGrpSpPr>
          <p:grpSpPr>
            <a:xfrm>
              <a:off x="6019920" y="4191120"/>
              <a:ext cx="2590560" cy="1920240"/>
              <a:chOff x="6019920" y="4191120"/>
              <a:chExt cx="2590560" cy="1920240"/>
            </a:xfrm>
          </p:grpSpPr>
          <p:sp>
            <p:nvSpPr>
              <p:cNvPr id="225" name=""/>
              <p:cNvSpPr/>
              <p:nvPr/>
            </p:nvSpPr>
            <p:spPr>
              <a:xfrm>
                <a:off x="6019920" y="5905440"/>
                <a:ext cx="2590560" cy="0"/>
              </a:xfrm>
              <a:prstGeom prst="line">
                <a:avLst/>
              </a:prstGeom>
              <a:ln w="1260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248160" y="4191120"/>
                <a:ext cx="0" cy="1920240"/>
              </a:xfrm>
              <a:prstGeom prst="line">
                <a:avLst/>
              </a:prstGeom>
              <a:ln w="1260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19920" y="4396680"/>
                <a:ext cx="1904760" cy="171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867280" y="4396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67480" y="5837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39960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+ 4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+ 2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  x + y = 8,     tenemos que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x,y) = (3,5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(0,8) = 17.600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21.714, 286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B(3,5)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la cantidad disponible de dinero, deben invertirs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00 $ en desarrollo  y   5000 $ en promoción par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eguir  el mayor beneficio posible, el cual  es  d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714,28 $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195800"/>
            <a:ext cx="73342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)  Si el fabricante dispone de 8100 $ para desarrollo y promoción ¿en cuánto cambia  el  beneficio?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= 0,306122 miles,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= 306,1224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 = (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306,1224)(0,1)     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beneficio aumentará aproximadamente, en   30,6  $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Si hay disponible   un  fondo   ilimitad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  gastar   en  desarrollo y   cuánto  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  para   alcanzar   el  mayor  beneficio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ste caso, no hay restricciones para  (x,y) …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les son los  puntos  críticos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x, y) = (4, 6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s  un máximo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í, puede comprobarlo pues  D(4,6) &gt; 0   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xx(4,6) &lt; 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 es el  beneficio óptimo, sin restricciones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ayor beneficio posible es de  22.000 $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346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Comic Sans MS"/>
              </a:rPr>
              <a:t>Reflexión     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76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Si  el  fabricante   dispone  de   11.000 $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ara   desarrollo  y   promoción … y  l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solicita  asesoría  para  distribuir  esto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fondos ..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¿Qué haría  Ud. para  elaborar un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comendación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¿Qué recomendación le daría 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...... Fi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5207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ultiplicador de Langran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80800" y="333360"/>
            <a:ext cx="7031160" cy="4390920"/>
            <a:chOff x="1180800" y="333360"/>
            <a:chExt cx="7031160" cy="4390920"/>
          </a:xfrm>
        </p:grpSpPr>
        <p:sp>
          <p:nvSpPr>
            <p:cNvPr id="239" name=""/>
            <p:cNvSpPr/>
            <p:nvPr/>
          </p:nvSpPr>
          <p:spPr>
            <a:xfrm>
              <a:off x="5486400" y="3886200"/>
              <a:ext cx="27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(x,y) = x + y  = 4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180800" y="333360"/>
              <a:ext cx="6978960" cy="4390920"/>
              <a:chOff x="1180800" y="333360"/>
              <a:chExt cx="6978960" cy="439092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rcRect l="18885" t="0" r="19387" b="0"/>
              <a:stretch/>
            </p:blipFill>
            <p:spPr>
              <a:xfrm>
                <a:off x="1225440" y="333360"/>
                <a:ext cx="4535640" cy="43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4915080" y="1706400"/>
                <a:ext cx="293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d60093"/>
                    </a:solidFill>
                    <a:uFillTx/>
                    <a:latin typeface="Arial"/>
                    <a:hlinkClick r:id="rId2" action="ppaction://hlinksldjump"/>
                  </a:rPr>
                  <a:t>F(x,y) = 9- x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3" action="ppaction://hlinksldjump"/>
                  </a:rPr>
                  <a:t>2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4" action="ppaction://hlinksldjump"/>
                  </a:rPr>
                  <a:t> – y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5" action="ppaction://hlinksldjump"/>
                  </a:rPr>
                  <a:t>2</a:t>
                </a: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2057040" y="2174400"/>
                <a:ext cx="2971800" cy="1301040"/>
                <a:chOff x="2057040" y="2174400"/>
                <a:chExt cx="2971800" cy="130104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flipV="1">
                  <a:off x="2273040" y="2174040"/>
                  <a:ext cx="253620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1"/>
                      </a:moveTo>
                      <a:arcTo wR="10800" hR="10800" stAng="-10701629" swAng="104957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1"/>
                      </a:moveTo>
                      <a:arcTo wR="10800" hR="10800" stAng="-10701629" swAng="10495700"/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056680" y="2643120"/>
                  <a:ext cx="297180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1"/>
                      </a:moveTo>
                      <a:arcTo wR="10800" hR="10800" stAng="-10701629" swAng="10970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1"/>
                      </a:moveTo>
                      <a:arcTo wR="10800" hR="10800" stAng="-10701629" swAng="10970930"/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flipH="1" flipV="1">
                <a:off x="1808640" y="3172680"/>
                <a:ext cx="3473640" cy="77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9" y="11716"/>
                    </a:moveTo>
                    <a:arcTo wR="10800" hR="10800" stAng="10508066" swAng="11007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9" y="11716"/>
                    </a:moveTo>
                    <a:arcTo wR="10800" hR="10800" stAng="10508066" swAng="11007810"/>
                  </a:path>
                </a:pathLst>
              </a:cu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3840" y="3448080"/>
                <a:ext cx="272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(x,y) = x + y  = 3</a:t>
                </a:r>
                <a:endParaRPr b="0" lang="en-US" sz="20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180800" y="2289240"/>
                <a:ext cx="4375800" cy="1571040"/>
                <a:chOff x="1180800" y="2289240"/>
                <a:chExt cx="4375800" cy="1571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208240" y="2289240"/>
                  <a:ext cx="2490840" cy="1554120"/>
                </a:xfrm>
                <a:custGeom>
                  <a:avLst/>
                  <a:gdLst/>
                  <a:ahLst/>
                  <a:rect l="l" t="t" r="r" b="b"/>
                  <a:pathLst>
                    <a:path w="1466" h="608">
                      <a:moveTo>
                        <a:pt x="0" y="582"/>
                      </a:moveTo>
                      <a:cubicBezTo>
                        <a:pt x="35" y="545"/>
                        <a:pt x="112" y="447"/>
                        <a:pt x="210" y="359"/>
                      </a:cubicBezTo>
                      <a:cubicBezTo>
                        <a:pt x="308" y="271"/>
                        <a:pt x="471" y="100"/>
                        <a:pt x="591" y="50"/>
                      </a:cubicBezTo>
                      <a:cubicBezTo>
                        <a:pt x="711" y="0"/>
                        <a:pt x="833" y="25"/>
                        <a:pt x="930" y="61"/>
                      </a:cubicBezTo>
                      <a:cubicBezTo>
                        <a:pt x="1027" y="97"/>
                        <a:pt x="1084" y="178"/>
                        <a:pt x="1173" y="269"/>
                      </a:cubicBezTo>
                      <a:cubicBezTo>
                        <a:pt x="1262" y="360"/>
                        <a:pt x="1405" y="538"/>
                        <a:pt x="1466" y="6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80800" y="3794040"/>
                  <a:ext cx="4375800" cy="6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291680" y="2986200"/>
                <a:ext cx="4370040" cy="991080"/>
                <a:chOff x="1291680" y="2986200"/>
                <a:chExt cx="4370040" cy="991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316240" y="2986200"/>
                  <a:ext cx="2046240" cy="968400"/>
                </a:xfrm>
                <a:custGeom>
                  <a:avLst/>
                  <a:gdLst/>
                  <a:ahLst/>
                  <a:rect l="l" t="t" r="r" b="b"/>
                  <a:pathLst>
                    <a:path w="1466" h="608">
                      <a:moveTo>
                        <a:pt x="0" y="582"/>
                      </a:moveTo>
                      <a:cubicBezTo>
                        <a:pt x="35" y="545"/>
                        <a:pt x="112" y="447"/>
                        <a:pt x="210" y="359"/>
                      </a:cubicBezTo>
                      <a:cubicBezTo>
                        <a:pt x="308" y="271"/>
                        <a:pt x="471" y="100"/>
                        <a:pt x="591" y="50"/>
                      </a:cubicBezTo>
                      <a:cubicBezTo>
                        <a:pt x="711" y="0"/>
                        <a:pt x="833" y="25"/>
                        <a:pt x="930" y="61"/>
                      </a:cubicBezTo>
                      <a:cubicBezTo>
                        <a:pt x="1027" y="97"/>
                        <a:pt x="1084" y="178"/>
                        <a:pt x="1173" y="269"/>
                      </a:cubicBezTo>
                      <a:cubicBezTo>
                        <a:pt x="1262" y="360"/>
                        <a:pt x="1405" y="538"/>
                        <a:pt x="1466" y="6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91680" y="3901680"/>
                  <a:ext cx="437004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H="1" flipV="1">
                <a:off x="2624040" y="1529280"/>
                <a:ext cx="1612080" cy="83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09"/>
                    </a:moveTo>
                    <a:arcTo wR="10800" hR="10800" stAng="-10388009" swAng="93428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09"/>
                    </a:moveTo>
                    <a:arcTo wR="10800" hR="10800" stAng="-10388009" swAng="9342858"/>
                  </a:path>
                </a:pathLst>
              </a:cu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4960" y="4800240"/>
            <a:ext cx="7354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  M = 9/2  es el valor extremo   de   F(x,y)    sujeta a  la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tricción   G(x,y) = 3  y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 = 1 entonces: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= -3.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 cual significa que el valor máximo disminuye en 3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500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¿Qué es un extremo condicionado de  F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685440"/>
            <a:ext cx="7805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xtremo (máximo o mínimo) de la  función  F,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  (x,y)  vive  sobre  una  curva del  plano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(x,y) = K, en el dominio de F.  Es decir, (x,y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isface una condición  o  restricció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95480" y="2819520"/>
          <a:ext cx="403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19520"/>
                    <a:ext cx="403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9720" y="4089240"/>
            <a:ext cx="1981080" cy="1549440"/>
          </a:xfrm>
          <a:custGeom>
            <a:avLst/>
            <a:gdLst/>
            <a:ahLst/>
            <a:rect l="l" t="t" r="r" b="b"/>
            <a:pathLst>
              <a:path w="1248" h="976">
                <a:moveTo>
                  <a:pt x="0" y="976"/>
                </a:moveTo>
                <a:cubicBezTo>
                  <a:pt x="21" y="914"/>
                  <a:pt x="61" y="750"/>
                  <a:pt x="127" y="602"/>
                </a:cubicBezTo>
                <a:cubicBezTo>
                  <a:pt x="193" y="454"/>
                  <a:pt x="299" y="180"/>
                  <a:pt x="394" y="90"/>
                </a:cubicBezTo>
                <a:cubicBezTo>
                  <a:pt x="489" y="0"/>
                  <a:pt x="582" y="43"/>
                  <a:pt x="699" y="64"/>
                </a:cubicBezTo>
                <a:cubicBezTo>
                  <a:pt x="816" y="85"/>
                  <a:pt x="1007" y="174"/>
                  <a:pt x="1098" y="216"/>
                </a:cubicBezTo>
                <a:cubicBezTo>
                  <a:pt x="1190" y="259"/>
                  <a:pt x="1231" y="301"/>
                  <a:pt x="1248" y="31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29000" y="4177800"/>
            <a:ext cx="3505320" cy="207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Y- 2x = 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0600" y="4089240"/>
            <a:ext cx="759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7880" y="2422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relativ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1334600">
            <a:off x="4809240" y="3430080"/>
            <a:ext cx="3418200" cy="801720"/>
          </a:xfrm>
          <a:custGeom>
            <a:avLst/>
            <a:gdLst>
              <a:gd name="textAreaLeft" fmla="*/ 696960 w 3418200"/>
              <a:gd name="textAreaRight" fmla="*/ 2131920 w 3418200"/>
              <a:gd name="textAreaTop" fmla="*/ 107280 h 801720"/>
              <a:gd name="textAreaBottom" fmla="*/ 69444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1" hR="21600" stAng="10800000" swAng="-5400000"/>
                <a:lnTo>
                  <a:pt x="9067" y="21600"/>
                </a:lnTo>
                <a:arcTo wR="8811" hR="21600" stAng="5400000" swAng="-2944917"/>
                <a:lnTo>
                  <a:pt x="21096" y="7200"/>
                </a:lnTo>
                <a:lnTo>
                  <a:pt x="17749" y="0"/>
                </a:lnTo>
                <a:lnTo>
                  <a:pt x="13394" y="7200"/>
                </a:lnTo>
                <a:lnTo>
                  <a:pt x="17117" y="7200"/>
                </a:lnTo>
                <a:arcTo wR="8811" hR="21600" stAng="2455083" swAng="2924543"/>
                <a:lnTo>
                  <a:pt x="8939" y="21598"/>
                </a:lnTo>
                <a:arcTo wR="8811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811" hR="21600" stAng="10800000" swAng="-5400000"/>
                <a:lnTo>
                  <a:pt x="9067" y="21600"/>
                </a:lnTo>
                <a:arcTo wR="8811" hR="21600" stAng="5400000" swAng="20374"/>
                <a:lnTo>
                  <a:pt x="8939" y="21598"/>
                </a:lnTo>
                <a:arcTo wR="8811" hR="21600" stAng="5420374" swAng="5379626"/>
                <a:close/>
              </a:path>
            </a:pathLst>
          </a:cu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53120" y="4232160"/>
            <a:ext cx="209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condicionad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43560" y="2819520"/>
            <a:ext cx="380880" cy="396720"/>
          </a:xfrm>
          <a:prstGeom prst="downArrow">
            <a:avLst>
              <a:gd name="adj1" fmla="val 50000"/>
              <a:gd name="adj2" fmla="val 26040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360" y="3268800"/>
            <a:ext cx="76320" cy="14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7119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¿ Cuál es la utilidad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ste método podemos saber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distribuir una cantidad  fija  de  dinero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: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arrollo y en promoció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o de obra y equipo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os físico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optimizar el  beneficio, la producción,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ingreso, etc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282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   F(x,y)  la  función   objetivo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 (x,y)   están  condicionada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  la  ecuación    g(x,y) = K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 y  g  son  funciones  suaves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 tiene un extremo (máximo o mínimo) sujet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g(x,y) = K    en  el  punto  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enton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  un  esca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 q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19440" y="4562640"/>
                <a:ext cx="494028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=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K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95800" y="304560"/>
            <a:ext cx="392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ificado  geométr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244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el plano xy, dibujamos la condición  x+y = 1, en roj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 vamos dibujando las curvas de nivel del objetivo F(x,y) e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zul, hasta lograr que los vectores (Fx,Fy) y (gx,gy) sean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alelos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2674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782640"/>
          <a:ext cx="403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82640"/>
                    <a:ext cx="403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048120" y="2052720"/>
            <a:ext cx="1981080" cy="1549440"/>
          </a:xfrm>
          <a:custGeom>
            <a:avLst/>
            <a:gdLst/>
            <a:ahLst/>
            <a:rect l="l" t="t" r="r" b="b"/>
            <a:pathLst>
              <a:path w="1248" h="976">
                <a:moveTo>
                  <a:pt x="0" y="976"/>
                </a:moveTo>
                <a:cubicBezTo>
                  <a:pt x="21" y="914"/>
                  <a:pt x="61" y="750"/>
                  <a:pt x="127" y="602"/>
                </a:cubicBezTo>
                <a:cubicBezTo>
                  <a:pt x="193" y="454"/>
                  <a:pt x="299" y="180"/>
                  <a:pt x="394" y="90"/>
                </a:cubicBezTo>
                <a:cubicBezTo>
                  <a:pt x="489" y="0"/>
                  <a:pt x="582" y="43"/>
                  <a:pt x="699" y="64"/>
                </a:cubicBezTo>
                <a:cubicBezTo>
                  <a:pt x="816" y="85"/>
                  <a:pt x="1007" y="174"/>
                  <a:pt x="1098" y="216"/>
                </a:cubicBezTo>
                <a:cubicBezTo>
                  <a:pt x="1190" y="259"/>
                  <a:pt x="1231" y="301"/>
                  <a:pt x="1248" y="31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7400" y="2141640"/>
            <a:ext cx="3505320" cy="207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7544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Y- 2x = 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376720" y="4215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7" y="8283"/>
                </a:moveTo>
                <a:arcTo wR="10800" hR="10800" stAng="-9991390" swAng="9061727"/>
                <a:lnTo>
                  <a:pt x="10800" y="10800"/>
                </a:lnTo>
                <a:close/>
              </a:path>
              <a:path fill="none" w="21600" h="21600">
                <a:moveTo>
                  <a:pt x="297" y="8283"/>
                </a:moveTo>
                <a:arcTo wR="10800" hR="10800" stAng="-9991390" swAng="9061727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777320" y="858240"/>
            <a:ext cx="2793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91"/>
                </a:moveTo>
                <a:arcTo wR="10800" hR="10800" stAng="-10701629" swAng="9771966"/>
                <a:lnTo>
                  <a:pt x="10800" y="10800"/>
                </a:lnTo>
                <a:close/>
              </a:path>
              <a:path fill="none" w="21600" h="21600">
                <a:moveTo>
                  <a:pt x="4" y="10491"/>
                </a:moveTo>
                <a:arcTo wR="10800" hR="10800" stAng="-10701629" swAng="9771966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691280" y="1532880"/>
            <a:ext cx="32598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91"/>
                </a:moveTo>
                <a:arcTo wR="10800" hR="10800" stAng="-10701629" swAng="9771966"/>
                <a:lnTo>
                  <a:pt x="10800" y="10800"/>
                </a:lnTo>
                <a:close/>
              </a:path>
              <a:path fill="none" w="21600" h="21600">
                <a:moveTo>
                  <a:pt x="4" y="10491"/>
                </a:moveTo>
                <a:arcTo wR="10800" hR="10800" stAng="-10701629" swAng="9771966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052720"/>
            <a:ext cx="759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22960" y="1595520"/>
            <a:ext cx="1752480" cy="1050120"/>
            <a:chOff x="6222960" y="1595520"/>
            <a:chExt cx="1752480" cy="1050120"/>
          </a:xfrm>
        </p:grpSpPr>
        <p:sp>
          <p:nvSpPr>
            <p:cNvPr id="142" name=""/>
            <p:cNvSpPr/>
            <p:nvPr/>
          </p:nvSpPr>
          <p:spPr>
            <a:xfrm>
              <a:off x="6222960" y="2185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g(x,y) = k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3320" y="159552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99"/>
                  </a:solidFill>
                  <a:latin typeface="Arial"/>
                </a:rPr>
                <a:t>F(x,y) = C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159080" y="431640"/>
            <a:ext cx="4338720" cy="1148400"/>
            <a:chOff x="4159080" y="431640"/>
            <a:chExt cx="4338720" cy="1148400"/>
          </a:xfrm>
        </p:grpSpPr>
        <p:sp>
          <p:nvSpPr>
            <p:cNvPr id="145" name=""/>
            <p:cNvSpPr/>
            <p:nvPr/>
          </p:nvSpPr>
          <p:spPr>
            <a:xfrm>
              <a:off x="4159080" y="431640"/>
              <a:ext cx="433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 curva de nivel más alta que intersecta a la curva restricción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12720" y="1113120"/>
              <a:ext cx="1108800" cy="466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94200" y="2874960"/>
            <a:ext cx="3405240" cy="2001960"/>
            <a:chOff x="4894200" y="2874960"/>
            <a:chExt cx="3405240" cy="20019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894200" y="2874960"/>
                  <a:ext cx="2657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643720" y="3865680"/>
                  <a:ext cx="26557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1585800" y="5105520"/>
            <a:ext cx="5119920" cy="1028520"/>
            <a:chOff x="1585800" y="5105520"/>
            <a:chExt cx="5119920" cy="10285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585800" y="5105520"/>
                  <a:ext cx="230040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405320" y="5122800"/>
                  <a:ext cx="230040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2844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4760" y="579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relativ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3640" y="4121280"/>
            <a:ext cx="209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</a:t>
            </a:r>
            <a:r>
              <a:rPr b="0" lang="en-US" sz="2000" spc="-1" strike="noStrike" u="sng">
                <a:solidFill>
                  <a:srgbClr val="d60093"/>
                </a:solidFill>
                <a:uFillTx/>
                <a:latin typeface="Arial"/>
                <a:hlinkClick r:id="rId1" action="ppaction://hlinksldjump"/>
              </a:rPr>
              <a:t>condicionad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7960" y="919080"/>
            <a:ext cx="301680" cy="397080"/>
          </a:xfrm>
          <a:prstGeom prst="downArrow">
            <a:avLst>
              <a:gd name="adj1" fmla="val 50000"/>
              <a:gd name="adj2" fmla="val 32906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8120" y="3637800"/>
            <a:ext cx="301680" cy="397080"/>
          </a:xfrm>
          <a:prstGeom prst="downArrow">
            <a:avLst>
              <a:gd name="adj1" fmla="val 50000"/>
              <a:gd name="adj2" fmla="val 32906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3000" y="228600"/>
            <a:ext cx="5985000" cy="4037040"/>
            <a:chOff x="1143000" y="228600"/>
            <a:chExt cx="5985000" cy="403704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rcRect l="18885" t="0" r="19387" b="0"/>
            <a:stretch/>
          </p:blipFill>
          <p:spPr>
            <a:xfrm>
              <a:off x="1143000" y="228600"/>
              <a:ext cx="423540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384800" y="13161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F(x,y) = 9- x</a:t>
              </a:r>
              <a:r>
                <a:rPr b="1" lang="en-US" sz="2400" spc="-1" strike="noStrike" baseline="30000">
                  <a:solidFill>
                    <a:srgbClr val="00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 – y</a:t>
              </a:r>
              <a:r>
                <a:rPr b="1" lang="en-US" sz="2400" spc="-1" strike="noStrike" baseline="30000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68320" y="2099880"/>
            <a:ext cx="2997360" cy="1197000"/>
            <a:chOff x="1768320" y="2099880"/>
            <a:chExt cx="2997360" cy="1197000"/>
          </a:xfrm>
        </p:grpSpPr>
        <p:sp>
          <p:nvSpPr>
            <p:cNvPr id="162" name=""/>
            <p:cNvSpPr/>
            <p:nvPr/>
          </p:nvSpPr>
          <p:spPr>
            <a:xfrm flipH="1" flipV="1">
              <a:off x="1986840" y="2099520"/>
              <a:ext cx="255816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1"/>
                  </a:moveTo>
                  <a:arcTo wR="10800" hR="10800" stAng="-10701629" swAng="10495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1"/>
                  </a:moveTo>
                  <a:arcTo wR="10800" hR="10800" stAng="-10701629" swAng="1049570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68320" y="2531520"/>
              <a:ext cx="2997360" cy="76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1"/>
                  </a:moveTo>
                  <a:arcTo wR="10800" hR="10800" stAng="-10701629" swAng="10970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1"/>
                  </a:moveTo>
                  <a:arcTo wR="10800" hR="10800" stAng="-10701629" swAng="1097093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44120" y="2793600"/>
            <a:ext cx="4155120" cy="711000"/>
            <a:chOff x="1644120" y="2793600"/>
            <a:chExt cx="4155120" cy="711000"/>
          </a:xfrm>
        </p:grpSpPr>
        <p:sp>
          <p:nvSpPr>
            <p:cNvPr id="165" name=""/>
            <p:cNvSpPr/>
            <p:nvPr/>
          </p:nvSpPr>
          <p:spPr>
            <a:xfrm flipH="1" flipV="1">
              <a:off x="1644120" y="2793240"/>
              <a:ext cx="3243600" cy="7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9" y="11716"/>
                  </a:moveTo>
                  <a:arcTo wR="10800" hR="10800" stAng="10508066" swAng="11007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9" y="11716"/>
                  </a:moveTo>
                  <a:arcTo wR="10800" hR="10800" stAng="10508066" swAng="1100781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7920" y="29512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 = 0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121120" y="1720440"/>
            <a:ext cx="3257280" cy="765000"/>
            <a:chOff x="2121120" y="1720440"/>
            <a:chExt cx="3257280" cy="765000"/>
          </a:xfrm>
        </p:grpSpPr>
        <p:sp>
          <p:nvSpPr>
            <p:cNvPr id="168" name=""/>
            <p:cNvSpPr/>
            <p:nvPr/>
          </p:nvSpPr>
          <p:spPr>
            <a:xfrm flipH="1" flipV="1">
              <a:off x="2121120" y="1720080"/>
              <a:ext cx="222192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" y="9509"/>
                  </a:moveTo>
                  <a:arcTo wR="10800" hR="10800" stAng="-10388009" swAng="9342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77" y="9509"/>
                  </a:moveTo>
                  <a:arcTo wR="10800" hR="10800" stAng="-10388009" swAng="9342858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0160" y="187488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 = 9/2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81480" y="3700440"/>
            <a:ext cx="3543480" cy="2852640"/>
            <a:chOff x="5181480" y="3700440"/>
            <a:chExt cx="3543480" cy="28526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5181480" y="3700440"/>
              <a:ext cx="3276720" cy="2852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5334120" y="374796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 = 0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3160" y="4510080"/>
              <a:ext cx="11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 = 9/2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8000" y="3794040"/>
              <a:ext cx="159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+ y  = 3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65600" y="2446560"/>
            <a:ext cx="6859080" cy="1179720"/>
            <a:chOff x="1065600" y="2446560"/>
            <a:chExt cx="6859080" cy="1179720"/>
          </a:xfrm>
        </p:grpSpPr>
        <p:sp>
          <p:nvSpPr>
            <p:cNvPr id="176" name=""/>
            <p:cNvSpPr/>
            <p:nvPr/>
          </p:nvSpPr>
          <p:spPr>
            <a:xfrm>
              <a:off x="5378400" y="3227400"/>
              <a:ext cx="25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(x,y) = x + y  = 3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65600" y="2446560"/>
              <a:ext cx="4069800" cy="995400"/>
              <a:chOff x="1065600" y="2446560"/>
              <a:chExt cx="4069800" cy="995400"/>
            </a:xfrm>
          </p:grpSpPr>
          <p:sp>
            <p:nvSpPr>
              <p:cNvPr id="178" name=""/>
              <p:cNvSpPr/>
              <p:nvPr/>
            </p:nvSpPr>
            <p:spPr>
              <a:xfrm>
                <a:off x="2016000" y="2446560"/>
                <a:ext cx="2327400" cy="965160"/>
              </a:xfrm>
              <a:custGeom>
                <a:avLst/>
                <a:gdLst/>
                <a:ahLst/>
                <a:rect l="l" t="t" r="r" b="b"/>
                <a:pathLst>
                  <a:path w="1466" h="608">
                    <a:moveTo>
                      <a:pt x="0" y="582"/>
                    </a:moveTo>
                    <a:cubicBezTo>
                      <a:pt x="35" y="545"/>
                      <a:pt x="112" y="447"/>
                      <a:pt x="210" y="359"/>
                    </a:cubicBezTo>
                    <a:cubicBezTo>
                      <a:pt x="308" y="271"/>
                      <a:pt x="471" y="100"/>
                      <a:pt x="591" y="50"/>
                    </a:cubicBezTo>
                    <a:cubicBezTo>
                      <a:pt x="711" y="0"/>
                      <a:pt x="833" y="25"/>
                      <a:pt x="930" y="61"/>
                    </a:cubicBezTo>
                    <a:cubicBezTo>
                      <a:pt x="1027" y="97"/>
                      <a:pt x="1084" y="178"/>
                      <a:pt x="1173" y="269"/>
                    </a:cubicBezTo>
                    <a:cubicBezTo>
                      <a:pt x="1262" y="360"/>
                      <a:pt x="1405" y="538"/>
                      <a:pt x="1466" y="60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5600" y="3352680"/>
                <a:ext cx="4069800" cy="8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282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lar los valores  máximo  y   mínimo  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(x,y)  vive  sobre  la  recta     x + y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514600" y="1523880"/>
                <a:ext cx="378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23880" y="3124080"/>
            <a:ext cx="7282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nemos  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g(x,y) = x + y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onces las derivadas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4191120"/>
                <a:ext cx="44751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       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         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5000" y="3808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 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hacer el sistema, consegui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x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- 2y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    x + y = 1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ya solución 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y) =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y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1/2  puede ser  el valor extrem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cionado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58128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sabemos  si el punto es máximo  o mínimo condicionado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arando con otro punto sobre la restric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1,0) = 0 &lt;  1/ 2 =  F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imos que 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es un máximo  condicionad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el valor  máximo condicionado  es  1/ 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20:41:56Z</dcterms:created>
  <dc:creator>Lida Niño</dc:creator>
  <dc:description/>
  <dc:language>en-US</dc:language>
  <cp:lastModifiedBy>Universidad Metropolitana</cp:lastModifiedBy>
  <cp:lastPrinted>2000-04-10T19:57:26Z</cp:lastPrinted>
  <dcterms:modified xsi:type="dcterms:W3CDTF">2004-01-09T06:05:50Z</dcterms:modified>
  <cp:revision>84</cp:revision>
  <dc:subject/>
  <dc:title>Multiplicadores  de  Lagrange </dc:title>
</cp:coreProperties>
</file>