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8DAF-0421-44A8-ABAF-34DD5969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B1EF-C28F-47C9-A631-D3379F16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7893-3B5D-4A1A-AA4E-EE97B124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31CD-3AE6-4498-9B16-890F9EDF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D4F-E1EB-40F1-B30F-E8B4040F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EEF0-34F1-483E-B976-DCC27DCF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F2F7-E4FB-4906-9D35-3759476F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40B-13AE-4462-ACEF-B0DEFFE0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2C1-DD64-4FB7-87B0-E5FB0E2E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136F-4DD7-49E5-BB60-91D354AE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E75B-9151-4348-8E0B-D9F6BCDE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E04-9229-4053-9EFF-46D7F44A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23BF-9B98-4620-9A6C-C117600F3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sarrollo de Taylor (orden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(x,y)=sen(x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unto: (x,y)=(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.078,1.594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olinomio de Taylor: z=5.78-1.82x-2.72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(x,y)=(x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)e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(-x2-y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10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ampo del Grad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10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458200" cy="4478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lano Tang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sarrollo de Taylor (orden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F(x,y)=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6.78-8.21x-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23y+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33x</a:t>
            </a:r>
            <a:r>
              <a:rPr b="0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3.55yx+1.79y</a:t>
            </a:r>
            <a:r>
              <a:rPr b="0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áximos y Mín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(x,y)=sen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untos: (x,y)=(Pi/2,Pi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(x,y)=(3Pi/2,3Pi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esos puntos grad F = 0 (existen má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aylor orden 1 y Maximos(Minimo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47712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Forma Cuadra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h&gt;0 entonces (x,y) Mí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h&lt;0 entonces (x,y) Máx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irección del Grad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adiente es perpendicular a las curvas de ni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adiente apunta en la dirección de máximo crec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16:07:50Z</dcterms:created>
  <dc:creator>PERSONAL COMPUTER</dc:creator>
  <dc:description/>
  <dc:language>en-US</dc:language>
  <cp:lastModifiedBy>PERSONAL COMPUTER</cp:lastModifiedBy>
  <dcterms:modified xsi:type="dcterms:W3CDTF">2004-05-14T16:53:23Z</dcterms:modified>
  <cp:revision>5</cp:revision>
  <dc:subject/>
  <dc:title>Desarrollo de Taylor (orden 1)</dc:title>
</cp:coreProperties>
</file>