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D0C-F0B2-42F0-B39A-B97A01D4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B3F-59DC-4056-9856-10B25629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DC7-948D-4689-9889-C9DA9508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BF4-DD9E-4511-BFDC-37C985E7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770-847F-4420-AD52-CE451AD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3A9-55ED-432B-B93E-5BFD4FA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4B0-EA85-4EC2-96CE-8CB1B59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B3E-F290-47F8-8291-6C4AE15F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A64-CDF2-4447-881D-862510A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2D4-5021-4BE2-A412-36CEDE20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6E3-C57F-4F90-8432-79184B0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1A0-5832-4F1C-9032-76903686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B2C3-0A68-4871-B981-E4CA4CB94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: (x,y)=(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078,1.5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olinomio de Taylor: z=5.78-1.82x-2.7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(x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(-x2-y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mpo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458200" cy="4478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lano Tang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sarrollo de Taylor (orde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(x,y)=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6.78-8.21x-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23y+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33x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3.55yx+1.79y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(x,y)=se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ntos: (x,y)=(Pi/2,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x,y)=(3Pi/2,3Pi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sos puntos grad F = 0 (existen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aylor orden 1 y Maximos(Minim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477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orma Cuadr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gt;0 entonces (x,y)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h&lt;0 entonces (x,y) Máx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rección del Grad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es perpendicular a las curvas de n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diente apunta en la dirección de máximo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6:07:50Z</dcterms:created>
  <dc:creator>PERSONAL COMPUTER</dc:creator>
  <dc:description/>
  <dc:language>en-US</dc:language>
  <cp:lastModifiedBy>PERSONAL COMPUTER</cp:lastModifiedBy>
  <dcterms:modified xsi:type="dcterms:W3CDTF">2004-05-14T16:53:23Z</dcterms:modified>
  <cp:revision>5</cp:revision>
  <dc:subject/>
  <dc:title>Desarrollo de Taylor (orden 1)</dc:title>
</cp:coreProperties>
</file>