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E52-9F5F-4A38-ADC4-BFFC9231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B22B-21F0-4CFC-88D8-45D9F177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9843-9E7A-4FFA-B170-C9CBCD65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725E-B9E4-4491-8743-CA1231D5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65B6-C1F8-4338-9599-CEADA46C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E1CA-7C3A-4A3D-AC3D-4D14C049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5BE8-03CF-48DF-A6E3-43DD8655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618A-9BD5-4FF5-A5F3-E4247F2B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91B-2671-476B-95E5-7B6B80AA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AD23-E59B-4675-9850-E943712E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98B2-1201-43F7-80DF-E01BD53F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F0CD-D568-4246-B5DE-2DC5FA55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9FE1-603C-4E12-95F6-3B31F4826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sarrollo de Taylor (orden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(x,y)=sen(x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unto: (x,y)=(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.078,1.594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olinomio de Taylor: z=5.78-1.82x-2.72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(x,y)=(x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)e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(-x2-y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10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ampo del Grad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10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458200" cy="4478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lano Tang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sarrollo de Taylor (orden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(x,y)=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6.78-8.21x-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23y+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33x</a:t>
            </a:r>
            <a:r>
              <a:rPr b="0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3.55yx+1.79y</a:t>
            </a:r>
            <a:r>
              <a:rPr b="0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áximos y Mín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(x,y)=sen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untos: (x,y)=(Pi/2,Pi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(x,y)=(3Pi/2,3Pi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esos puntos grad F = 0 (existen má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aylor orden 1 y Maximos(Minimo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47712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Forma Cuadra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h&gt;0 entonces (x,y) Mí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h&lt;0 entonces (x,y) Máx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irección del Grad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adiente es perpendicular a las curvas de ni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adiente apunta en la dirección de máximo crec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16:07:50Z</dcterms:created>
  <dc:creator>PERSONAL COMPUTER</dc:creator>
  <dc:description/>
  <dc:language>en-US</dc:language>
  <cp:lastModifiedBy>PERSONAL COMPUTER</cp:lastModifiedBy>
  <dcterms:modified xsi:type="dcterms:W3CDTF">2004-05-14T16:53:23Z</dcterms:modified>
  <cp:revision>5</cp:revision>
  <dc:subject/>
  <dc:title>Desarrollo de Taylor (orden 1)</dc:title>
</cp:coreProperties>
</file>