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C6C-F75F-49DB-9320-40879419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8DA-F18B-48DC-B6C7-BFB9DFC3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29E-EDF6-4C08-A6C2-0DD9E438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4E9-AAC8-4A28-A419-0A337A2C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0EF-6EAF-464A-B375-4F24BB38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3CE-C9A4-44F0-B1AA-D7CF7960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D4C-7E25-46B6-ADD7-28B50E6F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32E-5F6D-480B-AC14-4220CDFB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CAE-F247-4F0E-9490-A1A8DAFF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2AE-0FFA-45ED-88DD-CAF1866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0D7-86E5-486B-B247-1629706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D87-FAF0-411F-9194-BF92C7A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1773-D196-4969-AE4D-374F15796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de Taylor (orde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sen(x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nto: (x,y)=(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078,1.594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linomio de Taylor: z=5.78-1.82x-2.7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(x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e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(-x2-y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mpo del Gra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4478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lano Tang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de Taylor (orde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(x,y)=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6.78-8.21x-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23y+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33x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3.55yx+1.79y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sen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ntos: (x,y)=(Pi/2,Pi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x,y)=(3Pi/2,3Pi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sos puntos grad F = 0 (existen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ylor orden 1 y Maximos(Minim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orma Cuadra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h&gt;0 entonces (x,y)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h&lt;0 entonces (x,y) Máx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rección del Gra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diente es perpendicular a las curvas de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diente apunta en la dirección de máximo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6:07:50Z</dcterms:created>
  <dc:creator>PERSONAL COMPUTER</dc:creator>
  <dc:description/>
  <dc:language>en-US</dc:language>
  <cp:lastModifiedBy>PERSONAL COMPUTER</cp:lastModifiedBy>
  <dcterms:modified xsi:type="dcterms:W3CDTF">2004-05-14T16:53:23Z</dcterms:modified>
  <cp:revision>5</cp:revision>
  <dc:subject/>
  <dc:title>Desarrollo de Taylor (orden 1)</dc:title>
</cp:coreProperties>
</file>