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194-141E-4C22-8724-243B6359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8B1-8261-49AA-9C46-F64BAE1F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8A5-AFAA-42EB-B70A-867D31D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7DE-999C-40C4-B655-99C3F5B1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9E5-E0E2-45EF-8E32-3D051F48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050-A2E2-4A1E-B593-DF51A49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C5C-2FE6-4F5B-BC6C-B7ED264A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B88-0D38-42BD-85BA-C42D922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2D0-2C1C-43CA-AB2D-077070A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010-7277-47D8-AB08-2BA1391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12E-F59D-468F-BC14-C5E488B2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7F4-AB42-4425-8565-678ED14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866A-E2D8-4AD9-B2BF-E36F9AD713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6629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0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ALANCED SCORE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177336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38560" y="263700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14172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0200" y="400536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450864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PROCESO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537372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2560" y="587700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7680" y="309096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2960" y="30909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7680" y="423396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487680" y="4688280"/>
            <a:ext cx="2667240" cy="252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50920" y="170028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720" y="4178160"/>
            <a:ext cx="10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rtici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u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360" y="4178160"/>
            <a:ext cx="14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o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l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esc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c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00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timula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cucha a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promiso y comunicación en do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Apoya la toma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Facilidad para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alta y fortalece la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1268280"/>
            <a:ext cx="26668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1960" y="12682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6680" y="2411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946680" y="286704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367680" y="4149720"/>
            <a:ext cx="10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le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bser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f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8000" y="414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a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car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and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716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27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elega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ciones muy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Verific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e mantiene 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tilos y Resposabilidad del Lí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773360"/>
            <a:ext cx="79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importando el estilo que esté aplicando, para ser un buen líder usted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083040"/>
            <a:ext cx="799308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cer y comunicar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onitorear el desempe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Proporcionar “feedback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cogiendo el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773360"/>
            <a:ext cx="7993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e"/>
                </a:solidFill>
                <a:latin typeface="Times New Roman"/>
              </a:rPr>
              <a:t>Para determinar el Estilo de Dirección a aplicar, usted debe tener en cuenta los siguientes facto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083040"/>
            <a:ext cx="7993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nivel de desarrollo del colab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grado de criticidad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La flexibilidad del propio líder para ajustar su estilo a las situacion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Contexto y Lideraz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33526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0640" y="335268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5960" y="19810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465300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2480" y="2286000"/>
            <a:ext cx="1143000" cy="129528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670040"/>
            <a:ext cx="3886200" cy="103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legislaciones que regulan el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form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997360"/>
            <a:ext cx="3886200" cy="1312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estructura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Fusiones, adquisiciones y par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581360"/>
            <a:ext cx="388620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Corpo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del 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581280"/>
            <a:ext cx="1067040" cy="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5880" y="3568680"/>
            <a:ext cx="1055160" cy="130824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220500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57336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32400" y="4937040"/>
            <a:ext cx="50328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Variación de los Est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352680"/>
            <a:ext cx="26668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AR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98108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480060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05320" y="2437920"/>
            <a:ext cx="1371600" cy="114300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040" y="3720600"/>
            <a:ext cx="1317960" cy="150444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irección y So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828800"/>
            <a:ext cx="518148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determinan el quién, qué, dónde, cuándo y có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416400"/>
            <a:ext cx="5257800" cy="21661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reconocen y estimulan el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lienta la presentación de ideas y sug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articipación en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288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r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4290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porte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612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458200" cy="556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26708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1932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533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74320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80880"/>
            <a:ext cx="5335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486400"/>
            <a:ext cx="2286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426672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742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95480" y="121896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380520"/>
            <a:ext cx="9907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8620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7692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1295280"/>
            <a:ext cx="99036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3808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580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1295280"/>
            <a:ext cx="9907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848720" y="38088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9640" y="28306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5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33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08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33520"/>
            <a:ext cx="68184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Verdana"/>
              </a:rPr>
              <a:t>OBJETIVOS DEL TALL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69134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Conocer y practicar estilos de liderazgo en correspondencia con las características de los colaboradores, el contexto del negocio y el desarrollo de las personas y los equipos en función de los objetivos estratégicos del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el rol y fortalecer al jefe directo como principal coach, en el desarrollo de las competencias de los equipos y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0824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Identificar y practicar los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distintos 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procesos e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 el ciclo de la gestión de los recursos humanos y su impacto directo en los resultados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 del negocio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a las gerencia de línea como uno de los más importantes transmisores de las políticas de Recursos Humanos en l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5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85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Facto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125360"/>
            <a:ext cx="511344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909720"/>
            <a:ext cx="5113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l Facto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1773360"/>
            <a:ext cx="446400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acer de la gente una venta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mpetitiva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357720"/>
            <a:ext cx="208764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500720" y="38606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SATISFA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48000" y="5084640"/>
            <a:ext cx="503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0640" y="5006160"/>
            <a:ext cx="586080" cy="103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510080"/>
            <a:ext cx="24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04920"/>
            <a:ext cx="856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Brechas de Resultado vs Brechas de 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71640" y="1268280"/>
            <a:ext cx="7345440" cy="4537080"/>
            <a:chOff x="971640" y="1268280"/>
            <a:chExt cx="7345440" cy="4537080"/>
          </a:xfrm>
        </p:grpSpPr>
        <p:sp>
          <p:nvSpPr>
            <p:cNvPr id="277" name=""/>
            <p:cNvSpPr/>
            <p:nvPr/>
          </p:nvSpPr>
          <p:spPr>
            <a:xfrm>
              <a:off x="5580000" y="3068640"/>
              <a:ext cx="273708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00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600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48720" y="2421000"/>
              <a:ext cx="0" cy="223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706920" y="184464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6920" y="522936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1640" y="3068640"/>
              <a:ext cx="273672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8560" y="2421000"/>
              <a:ext cx="1440" cy="21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04920"/>
            <a:ext cx="806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ILOS DE COMPORTAMIENTO DEL 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066680"/>
            <a:ext cx="4724640" cy="388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81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1960" y="22748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8560" y="1508040"/>
            <a:ext cx="18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4280" y="229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196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508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0680" y="310824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12408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980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46000">
            <a:off x="840240" y="266616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 R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5000" y="50734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26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5216400"/>
            <a:ext cx="609840" cy="1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0960" y="9144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9528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3800" y="4952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240" y="4572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51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8160" y="5927760"/>
            <a:ext cx="2812680" cy="3373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48"/>
                </a:solidFill>
                <a:latin typeface="Arial"/>
              </a:rPr>
              <a:t>LIDERAZGO SITU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stilo del Gerente  vs. Prepara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0720" y="44640"/>
            <a:ext cx="5614920" cy="6816600"/>
            <a:chOff x="1620720" y="44640"/>
            <a:chExt cx="5614920" cy="6816600"/>
          </a:xfrm>
        </p:grpSpPr>
        <p:sp>
          <p:nvSpPr>
            <p:cNvPr id="81" name=""/>
            <p:cNvSpPr/>
            <p:nvPr/>
          </p:nvSpPr>
          <p:spPr>
            <a:xfrm>
              <a:off x="2266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6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4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4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2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2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0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0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2" idx="1"/>
              <a:endCxn id="88" idx="3"/>
            </p:cNvCxnSpPr>
            <p:nvPr/>
          </p:nvCxnSpPr>
          <p:spPr>
            <a:xfrm>
              <a:off x="2266920" y="3932640"/>
              <a:ext cx="4032720" cy="2520"/>
            </a:xfrm>
            <a:prstGeom prst="curvedConnector5">
              <a:avLst>
                <a:gd name="adj1" fmla="val 23578"/>
                <a:gd name="adj2" fmla="val -90000000"/>
                <a:gd name="adj3" fmla="val 23578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2266920" y="4869000"/>
              <a:ext cx="4032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Comportamiento de t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080" y="44845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24922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0760" y="24670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0400" y="450864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3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6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4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560" y="9810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6560" y="21337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8200" y="1052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200" y="191628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443560"/>
              <a:ext cx="4032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200" y="587700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20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4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2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0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40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3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631040" y="2727360"/>
              <a:ext cx="3938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ESTILO DEL CONDUCTO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42480" y="2736360"/>
              <a:ext cx="377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Comportamiento de relació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022080" y="5647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EZ 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COLABO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543280" y="5767560"/>
              <a:ext cx="18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In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080360" y="576576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560" y="5397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7800" y="53974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d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1640" y="53974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B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16002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1760" y="1600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48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2346480" y="31989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809880" y="2895480"/>
            <a:ext cx="434340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36880" y="2924280"/>
            <a:ext cx="434088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Quién 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oles y tareas 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unicación unidirec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est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olicita re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strucciones secu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Tareas simplificadas y espec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240" y="4267080"/>
            <a:ext cx="1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u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r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3000" y="426708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b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o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t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4290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429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0" y="4572000"/>
            <a:ext cx="26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2916360" y="50277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365720" y="1536840"/>
            <a:ext cx="4383000" cy="311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5840" y="1557360"/>
            <a:ext cx="439416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forma Quién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decisiones, permite acl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Líde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la fun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Pregunta para aclarar nivel de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pro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4076640"/>
            <a:ext cx="117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v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ua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6320" y="4076640"/>
            <a:ext cx="13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ni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rmo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aciona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2:59:19Z</dcterms:created>
  <dc:creator>.</dc:creator>
  <dc:description/>
  <dc:language>en-US</dc:language>
  <cp:lastModifiedBy>usuario</cp:lastModifiedBy>
  <dcterms:modified xsi:type="dcterms:W3CDTF">2004-03-17T17:10:47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9207456</vt:r8>
  </property>
  <property fmtid="{D5CDD505-2E9C-101B-9397-08002B2CF9AE}" pid="3" name="_AuthorEmail">
    <vt:lpwstr>jlklapp@humana.cl</vt:lpwstr>
  </property>
  <property fmtid="{D5CDD505-2E9C-101B-9397-08002B2CF9AE}" pid="4" name="_AuthorEmailDisplayName">
    <vt:lpwstr>Jose Luis Klapp</vt:lpwstr>
  </property>
  <property fmtid="{D5CDD505-2E9C-101B-9397-08002B2CF9AE}" pid="5" name="_EmailSubject">
    <vt:lpwstr>Presentación</vt:lpwstr>
  </property>
</Properties>
</file>