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45AC-B640-4660-A39E-9A98E644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E1E3-B279-4F4A-BE20-02D97623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7E4A-949C-473A-B08F-B28824DC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18B-371A-48B7-ADF5-CF884C7B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6D7-2482-42AE-BA70-68053C20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9E1-F33E-4D87-9665-F40F3782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2006-4BF0-4399-BCB9-DF2D7B32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97A-1E8A-4396-B448-586F343C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12C-31A5-4F7E-A1D8-06AE03EC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EE6-89CB-44B4-AA88-888CD20A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AB05-93F8-49A6-B482-494ED59B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5AE-C0CF-4A29-9472-08619C5A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A472-F7BC-4789-A191-036328A0763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40" y="6629400"/>
            <a:ext cx="144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04640"/>
            <a:ext cx="820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Verdana"/>
              </a:rPr>
              <a:t>BALANCED SCOREC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Verdana"/>
              </a:rPr>
              <a:t>BS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0920" y="1773360"/>
            <a:ext cx="482472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38560" y="2637000"/>
            <a:ext cx="720720" cy="43164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900000"/>
              </a:gs>
              <a:gs pos="100000">
                <a:srgbClr val="fc0000">
                  <a:alpha val="92156"/>
                </a:srgbClr>
              </a:gs>
            </a:gsLst>
            <a:lin ang="13500000"/>
          </a:gradFill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3141720"/>
            <a:ext cx="482472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10200" y="4005360"/>
            <a:ext cx="720720" cy="43164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900000"/>
              </a:gs>
              <a:gs pos="100000">
                <a:srgbClr val="fc0000">
                  <a:alpha val="92156"/>
                </a:srgbClr>
              </a:gs>
            </a:gsLst>
            <a:lin ang="13500000"/>
          </a:gradFill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22560" y="4508640"/>
            <a:ext cx="48243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PROCESOS IN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10200" y="5373720"/>
            <a:ext cx="720720" cy="43164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900000"/>
              </a:gs>
              <a:gs pos="100000">
                <a:srgbClr val="fc0000">
                  <a:alpha val="92156"/>
                </a:srgbClr>
              </a:gs>
            </a:gsLst>
            <a:lin ang="13500000"/>
          </a:gradFill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22560" y="5877000"/>
            <a:ext cx="48243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RECURSO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87680" y="3090960"/>
            <a:ext cx="2666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2960" y="309096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87680" y="423396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/>
          <p:nvPr/>
        </p:nvCxnSpPr>
        <p:spPr>
          <a:xfrm>
            <a:off x="3487680" y="4688280"/>
            <a:ext cx="2667240" cy="252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250920" y="1700280"/>
            <a:ext cx="4343400" cy="259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72720" y="4178160"/>
            <a:ext cx="107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articip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len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poy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acul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68360" y="4178160"/>
            <a:ext cx="147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ro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pla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desc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acif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700280"/>
            <a:ext cx="4248000" cy="25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stimula la comun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scucha ac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l colaborador toma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Compromiso y comunicación en dos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Apoya la toma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Facilidad para 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alta y fortalece la confi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3040" y="259092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5000" y="50292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1268280"/>
            <a:ext cx="266688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41960" y="126828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46680" y="24112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/>
          <p:nvPr/>
        </p:nvCxnSpPr>
        <p:spPr>
          <a:xfrm>
            <a:off x="3946680" y="2867040"/>
            <a:ext cx="2667240" cy="216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6367680" y="4149720"/>
            <a:ext cx="101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le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bser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f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sig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68000" y="4149720"/>
            <a:ext cx="121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sat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scar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vi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bando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567160"/>
            <a:ext cx="4343400" cy="259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2627280"/>
            <a:ext cx="4248000" cy="25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Delega t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plicaciones muy gene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l colaborador toma las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upervisión lig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Verific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Refuerza l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e mantiene acce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11280" y="304920"/>
            <a:ext cx="806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Estilos y Resposabilidad del Lí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1773360"/>
            <a:ext cx="7993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importando el estilo que esté aplicando, para ser un buen líder usted de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3083040"/>
            <a:ext cx="7993080" cy="146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stablecer y comunicar objetiv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Monitorear el desempeñ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Proporcionar “feedback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11280" y="304920"/>
            <a:ext cx="806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Escogiendo el Esti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1773360"/>
            <a:ext cx="79930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e"/>
                </a:solidFill>
                <a:latin typeface="Times New Roman"/>
              </a:rPr>
              <a:t>Para determinar el Estilo de Dirección a aplicar, usted debe tener en cuenta los siguientes factor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" y="3083040"/>
            <a:ext cx="79930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buClr>
                <a:srgbClr val="0000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e"/>
                </a:solidFill>
                <a:latin typeface="Times New Roman"/>
              </a:rPr>
              <a:t>El nivel de desarrollo del colabor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e"/>
                </a:solidFill>
                <a:latin typeface="Times New Roman"/>
              </a:rPr>
              <a:t>El grado de criticidad del en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e"/>
                </a:solidFill>
                <a:latin typeface="Times New Roman"/>
              </a:rPr>
              <a:t>La flexibilidad del propio líder para ajustar su estilo a las situaciones específ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Contexto y Lideraz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2760" y="3352680"/>
            <a:ext cx="153972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60640" y="3352680"/>
            <a:ext cx="154008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55960" y="1981080"/>
            <a:ext cx="153972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4653000"/>
            <a:ext cx="154008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52480" y="2286000"/>
            <a:ext cx="1143000" cy="129528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1670040"/>
            <a:ext cx="3886200" cy="103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Cambios en la legislaciones que regulan el nego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Cambios en la forma d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997360"/>
            <a:ext cx="3886200" cy="13129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Cambios en la estructura de la Organ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Fusiones, adquisiciones y part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581360"/>
            <a:ext cx="3886200" cy="764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Estilo de Liderazgo Corpo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Estilo de Liderazgo del  Superv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3581280"/>
            <a:ext cx="1067040" cy="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75880" y="3568680"/>
            <a:ext cx="1055160" cy="130824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500720" y="2205000"/>
            <a:ext cx="502920" cy="792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500720" y="3573360"/>
            <a:ext cx="502920" cy="792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532400" y="4937040"/>
            <a:ext cx="503280" cy="792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11280" y="304920"/>
            <a:ext cx="806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Variación de los Esti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3352680"/>
            <a:ext cx="26668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VARI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37040" y="1981080"/>
            <a:ext cx="2683080" cy="70344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37040" y="4800600"/>
            <a:ext cx="2683080" cy="70344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So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505320" y="2437920"/>
            <a:ext cx="1371600" cy="1143000"/>
          </a:xfrm>
          <a:prstGeom prst="line">
            <a:avLst/>
          </a:prstGeom>
          <a:ln w="76320">
            <a:solidFill>
              <a:srgbClr val="f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24040" y="3720600"/>
            <a:ext cx="1317960" cy="1504440"/>
          </a:xfrm>
          <a:prstGeom prst="line">
            <a:avLst/>
          </a:prstGeom>
          <a:ln w="76320">
            <a:solidFill>
              <a:srgbClr val="f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irección y So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1828800"/>
            <a:ext cx="5181480" cy="82548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onductas que determinan el quién, qué, dónde, cuándo y có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3416400"/>
            <a:ext cx="5257800" cy="216612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onductas que reconocen y estimulan el desempe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lienta la presentación de ideas y sug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articipación en la toma de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828800"/>
            <a:ext cx="2362320" cy="52056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560" indent="-2095560" algn="just">
              <a:tabLst>
                <a:tab algn="l" pos="0"/>
                <a:tab algn="l" pos="171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Dire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3429000"/>
            <a:ext cx="2362320" cy="52056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560" indent="-2095560" algn="just">
              <a:tabLst>
                <a:tab algn="l" pos="0"/>
                <a:tab algn="l" pos="171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porte  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986120" y="228600"/>
            <a:ext cx="5405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80880"/>
            <a:ext cx="8458200" cy="5562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541008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4267080"/>
            <a:ext cx="8458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2743200"/>
            <a:ext cx="8458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1219320"/>
            <a:ext cx="8458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380880"/>
            <a:ext cx="845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4267080"/>
            <a:ext cx="5335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2743200"/>
            <a:ext cx="53352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219320"/>
            <a:ext cx="53352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80880"/>
            <a:ext cx="53352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5410080"/>
            <a:ext cx="9903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5410080"/>
            <a:ext cx="9903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5410080"/>
            <a:ext cx="9903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5486400"/>
            <a:ext cx="2286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0080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3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188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05120" y="4266720"/>
            <a:ext cx="99036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895480" y="2742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895480" y="1218960"/>
            <a:ext cx="99072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886200" y="380520"/>
            <a:ext cx="99072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886200" y="4343040"/>
            <a:ext cx="99072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87692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876920" y="1295280"/>
            <a:ext cx="99036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867280" y="38088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867280" y="4343040"/>
            <a:ext cx="99072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8580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1295280"/>
            <a:ext cx="99072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848720" y="38088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9548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9640" y="283068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6560" y="281952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33360" y="281952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9080" y="281952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58920" y="533520"/>
            <a:ext cx="6818400" cy="61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66"/>
                </a:solidFill>
                <a:latin typeface="Verdana"/>
              </a:rPr>
              <a:t>OBJETIVOS DEL TALL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429000"/>
            <a:ext cx="6913440" cy="131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Conocer y practicar estilos de liderazgo en correspondencia con las características de los colaboradores, el contexto del negocio y el desarrollo de las personas y los equipos en función de los objetivos estratégicos del nego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362320"/>
            <a:ext cx="69134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Reconocer el rol y fortalecer al jefe directo como principal coach, en el desarrollo de las competencias de los equipos y las perso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1308240"/>
            <a:ext cx="69134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Identificar y practicar los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distintos </a:t>
            </a: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procesos e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n el ciclo de la gestión de los recursos humanos y su impacto directo en los resultados</a:t>
            </a: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 del negocio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4800600"/>
            <a:ext cx="69134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Reconocer a las gerencia de línea como uno de los más importantes transmisores de las políticas de Recursos Humanos en las organiz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5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85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35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85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304920"/>
            <a:ext cx="806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El Factor H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0920" y="1125360"/>
            <a:ext cx="5113440" cy="573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0920" y="909720"/>
            <a:ext cx="51134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l Factor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13080" y="1773360"/>
            <a:ext cx="446400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acer de la gente una venta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mpetitiva irrever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92360" y="3357720"/>
            <a:ext cx="2087640" cy="50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mpe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500720" y="386064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68360" y="6021360"/>
            <a:ext cx="20876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SATISFA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32360" y="6021360"/>
            <a:ext cx="20876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PRODU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348000" y="5084640"/>
            <a:ext cx="50328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00640" y="5006160"/>
            <a:ext cx="586080" cy="1033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4510080"/>
            <a:ext cx="2447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24000" y="304920"/>
            <a:ext cx="8569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Brechas de Resultado vs Brechas de Desemp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971640" y="1268280"/>
            <a:ext cx="7345440" cy="4537080"/>
            <a:chOff x="971640" y="1268280"/>
            <a:chExt cx="7345440" cy="4537080"/>
          </a:xfrm>
        </p:grpSpPr>
        <p:sp>
          <p:nvSpPr>
            <p:cNvPr id="277" name=""/>
            <p:cNvSpPr/>
            <p:nvPr/>
          </p:nvSpPr>
          <p:spPr>
            <a:xfrm>
              <a:off x="5580000" y="3068640"/>
              <a:ext cx="2737080" cy="72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Brech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96000" y="4653000"/>
              <a:ext cx="2376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Desemp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Esper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6000" y="1268280"/>
              <a:ext cx="2376720" cy="1152720"/>
            </a:xfrm>
            <a:prstGeom prst="rect">
              <a:avLst/>
            </a:prstGeom>
            <a:solidFill>
              <a:srgbClr val="00006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Desemp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Act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58920" y="4653000"/>
              <a:ext cx="2376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Result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Esper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58920" y="1268280"/>
              <a:ext cx="2376720" cy="1152720"/>
            </a:xfrm>
            <a:prstGeom prst="rect">
              <a:avLst/>
            </a:prstGeom>
            <a:solidFill>
              <a:srgbClr val="00006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Result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Actu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948720" y="2421000"/>
              <a:ext cx="0" cy="2232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706920" y="1844640"/>
              <a:ext cx="20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06920" y="5229360"/>
              <a:ext cx="20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71640" y="3068640"/>
              <a:ext cx="2736720" cy="72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Brech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38560" y="2421000"/>
              <a:ext cx="1440" cy="2160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1280" y="304920"/>
            <a:ext cx="8064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STILOS DE COMPORTAMIENTO DEL L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066680"/>
            <a:ext cx="4724640" cy="388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11430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048120"/>
            <a:ext cx="4724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61960" y="227484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8560" y="1508040"/>
            <a:ext cx="181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24280" y="229068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61960" y="39765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8840" y="1508040"/>
            <a:ext cx="17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30680" y="3108240"/>
            <a:ext cx="184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124080"/>
            <a:ext cx="184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09800" y="39765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146000">
            <a:off x="840240" y="266616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ompor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e R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5000" y="5073480"/>
            <a:ext cx="24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omportamient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T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522612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124080" y="5216400"/>
            <a:ext cx="609840" cy="16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880" bIns="-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50960" y="91440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49528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13800" y="49528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7240" y="45720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38862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905120" y="137124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8160" y="5927760"/>
            <a:ext cx="2812680" cy="3373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48"/>
                </a:solidFill>
                <a:latin typeface="Arial"/>
              </a:rPr>
              <a:t>LIDERAZGO SITU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304920"/>
            <a:ext cx="806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Estilo del Gerente  vs. Preparación del Colabo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620720" y="44640"/>
            <a:ext cx="5614920" cy="6816600"/>
            <a:chOff x="1620720" y="44640"/>
            <a:chExt cx="5614920" cy="6816600"/>
          </a:xfrm>
        </p:grpSpPr>
        <p:sp>
          <p:nvSpPr>
            <p:cNvPr id="81" name=""/>
            <p:cNvSpPr/>
            <p:nvPr/>
          </p:nvSpPr>
          <p:spPr>
            <a:xfrm>
              <a:off x="2266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66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74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74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82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2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90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90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82" idx="1"/>
              <a:endCxn id="88" idx="3"/>
            </p:cNvCxnSpPr>
            <p:nvPr/>
          </p:nvCxnSpPr>
          <p:spPr>
            <a:xfrm>
              <a:off x="2266920" y="3932640"/>
              <a:ext cx="4032720" cy="2520"/>
            </a:xfrm>
            <a:prstGeom prst="curvedConnector5">
              <a:avLst>
                <a:gd name="adj1" fmla="val 23578"/>
                <a:gd name="adj2" fmla="val -90000000"/>
                <a:gd name="adj3" fmla="val 23578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90" name=""/>
            <p:cNvSpPr/>
            <p:nvPr/>
          </p:nvSpPr>
          <p:spPr>
            <a:xfrm>
              <a:off x="2266920" y="4869000"/>
              <a:ext cx="40320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Comportamiento de t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29080" y="448452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0" y="249228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60760" y="246708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40400" y="450864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5840" y="455148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53840" y="455148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46200" y="299736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54200" y="299736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560" y="98100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46560" y="213372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38200" y="10526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200" y="1916280"/>
              <a:ext cx="13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66920" y="5443560"/>
              <a:ext cx="403200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38200" y="5877000"/>
              <a:ext cx="388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38200" y="5659560"/>
              <a:ext cx="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74920" y="56595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82920" y="56595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90920" y="56595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27640" y="5659560"/>
              <a:ext cx="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956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640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738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818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631040" y="2727360"/>
              <a:ext cx="39387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300" spc="-1" strike="noStrike">
                  <a:solidFill>
                    <a:srgbClr val="ffffff"/>
                  </a:solidFill>
                  <a:latin typeface="Times New Roman"/>
                </a:rPr>
                <a:t>ESTILO DEL CONDUCTOR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-42480" y="2736360"/>
              <a:ext cx="377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300" spc="-1" strike="noStrike">
                  <a:solidFill>
                    <a:srgbClr val="ffffff"/>
                  </a:solidFill>
                  <a:latin typeface="Times New Roman"/>
                </a:rPr>
                <a:t>Comportamiento de relación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6022080" y="5647680"/>
              <a:ext cx="1846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MADUREZ 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COLABOR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5543280" y="5767560"/>
              <a:ext cx="184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Inmad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1080360" y="5765760"/>
              <a:ext cx="184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Mad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21560" y="539748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Elev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77800" y="5397480"/>
              <a:ext cx="10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Mode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1640" y="539748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Ba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3040" y="259092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5000" y="5029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46480" y="1600200"/>
            <a:ext cx="2666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41760" y="16002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46480" y="27432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2346480" y="3198960"/>
            <a:ext cx="2667240" cy="216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3809880" y="2895480"/>
            <a:ext cx="4343400" cy="2590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36880" y="2924280"/>
            <a:ext cx="4340880" cy="25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Quién , qué, dónde, cuándo y có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Roles y tareas defin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Comunicación unidirec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upervisión est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olicita repo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Instrucciones secu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Tareas simplificadas y especí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1240" y="4267080"/>
            <a:ext cx="113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c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duc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irig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stable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83000" y="4267080"/>
            <a:ext cx="121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xig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ba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omi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ta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3040" y="259092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5000" y="5029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16360" y="3429000"/>
            <a:ext cx="2666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34290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0800" y="4572000"/>
            <a:ext cx="269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/>
          <p:nvPr/>
        </p:nvCxnSpPr>
        <p:spPr>
          <a:xfrm>
            <a:off x="2916360" y="5027760"/>
            <a:ext cx="2667240" cy="216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4365720" y="1536840"/>
            <a:ext cx="4383000" cy="3116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5840" y="1557360"/>
            <a:ext cx="4394160" cy="314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Informa Quién, qué, dónde, cuándo y có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plica decisiones, permite acla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Líder toma las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plica la función del colabo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Pregunta para aclarar nivel de pre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Refuerza pro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640" y="4076640"/>
            <a:ext cx="117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ve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xpl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la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ua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36320" y="4076640"/>
            <a:ext cx="13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anip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ermo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f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acionali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3040" y="259092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5000" y="50292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2:59:19Z</dcterms:created>
  <dc:creator>.</dc:creator>
  <dc:description/>
  <dc:language>en-US</dc:language>
  <cp:lastModifiedBy>usuario</cp:lastModifiedBy>
  <dcterms:modified xsi:type="dcterms:W3CDTF">2004-03-17T17:10:47Z</dcterms:modified>
  <cp:revision>61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69207456</vt:r8>
  </property>
  <property fmtid="{D5CDD505-2E9C-101B-9397-08002B2CF9AE}" pid="3" name="_AuthorEmail">
    <vt:lpwstr>jlklapp@humana.cl</vt:lpwstr>
  </property>
  <property fmtid="{D5CDD505-2E9C-101B-9397-08002B2CF9AE}" pid="4" name="_AuthorEmailDisplayName">
    <vt:lpwstr>Jose Luis Klapp</vt:lpwstr>
  </property>
  <property fmtid="{D5CDD505-2E9C-101B-9397-08002B2CF9AE}" pid="5" name="_EmailSubject">
    <vt:lpwstr>Presentación</vt:lpwstr>
  </property>
</Properties>
</file>