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E83-5609-4AC7-99BC-F261454E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7A6-D242-4548-B12E-4304E8F9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F9F-CF66-4F11-A502-C863715C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AE2-C3D6-4B29-823B-95C8E383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860-8EE5-4125-873B-093B5E76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02D-3FCC-4E8D-AC39-D954C54A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F97-8858-4B32-B165-5EF7B83D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192-78FD-4D6F-B406-EB5D1E08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3D1-549E-465E-8F64-0A5ED0B4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63C-4305-453A-93F2-12A7BAE9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55C-CE6D-4193-940B-E257A00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7E8-0D6B-45FA-9BFA-71AE51BC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8209-3160-477B-92DA-35F98130852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6629400"/>
            <a:ext cx="144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0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ALANCED SCORE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177336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38560" y="263700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14172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0200" y="400536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450864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PROCESOS IN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0200" y="537372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2560" y="587700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7680" y="309096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2960" y="309096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87680" y="423396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487680" y="4688280"/>
            <a:ext cx="2667240" cy="252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50920" y="170028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720" y="4178160"/>
            <a:ext cx="10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rticip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oy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ul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68360" y="4178160"/>
            <a:ext cx="14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o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l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esc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c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700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timula la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cucha ac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promiso y comunicación en do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Apoya la toma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Facilidad para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alta y fortalece la conf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1268280"/>
            <a:ext cx="26668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1960" y="12682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6680" y="24112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3946680" y="286704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6367680" y="4149720"/>
            <a:ext cx="101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le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bser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f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ig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8000" y="414972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at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car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band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56716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27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elega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ciones muy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lig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Verific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e mantiene 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tilos y Resposabilidad del Lí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773360"/>
            <a:ext cx="7993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importando el estilo que esté aplicando, para ser un buen líder usted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083040"/>
            <a:ext cx="7993080" cy="14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cer y comunicar 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onitorear el desempe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Proporcionar “feedback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cogiendo el Esti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1773360"/>
            <a:ext cx="7993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e"/>
                </a:solidFill>
                <a:latin typeface="Times New Roman"/>
              </a:rPr>
              <a:t>Para determinar el Estilo de Dirección a aplicar, usted debe tener en cuenta los siguientes facto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3083040"/>
            <a:ext cx="7993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nivel de desarrollo del colabo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grado de criticidad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La flexibilidad del propio líder para ajustar su estilo a las situacione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Contexto y Lideraz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2760" y="33526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60640" y="335268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55960" y="19810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465300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52480" y="2286000"/>
            <a:ext cx="1143000" cy="129528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670040"/>
            <a:ext cx="3886200" cy="103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legislaciones que regulan el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forma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997360"/>
            <a:ext cx="3886200" cy="1312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estructura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Fusiones, adquisiciones y part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581360"/>
            <a:ext cx="3886200" cy="76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Corpo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del 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3581280"/>
            <a:ext cx="1067040" cy="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5880" y="3568680"/>
            <a:ext cx="1055160" cy="130824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220500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00720" y="357336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32400" y="4937040"/>
            <a:ext cx="50328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Variación de los Est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352680"/>
            <a:ext cx="26668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ARI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7040" y="198108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480060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05320" y="2437920"/>
            <a:ext cx="1371600" cy="114300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24040" y="3720600"/>
            <a:ext cx="1317960" cy="150444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irección y So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1828800"/>
            <a:ext cx="5181480" cy="8254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determinan el quién, qué, dónde, cuándo y có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3416400"/>
            <a:ext cx="5257800" cy="216612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reconocen y estimulan el desemp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lienta la presentación de ideas y sug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articipación en la toma de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288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ire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4290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porte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86120" y="228600"/>
            <a:ext cx="540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80880"/>
            <a:ext cx="8458200" cy="556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26708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74320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21932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80880"/>
            <a:ext cx="845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267080"/>
            <a:ext cx="533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74320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21932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80880"/>
            <a:ext cx="5335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5486400"/>
            <a:ext cx="2286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05120" y="426672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95480" y="2742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95480" y="1218960"/>
            <a:ext cx="9907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886200" y="380520"/>
            <a:ext cx="9907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88620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87692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76920" y="1295280"/>
            <a:ext cx="99036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67280" y="3808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6728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8580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1295280"/>
            <a:ext cx="99072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848720" y="38088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9640" y="283068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65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333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908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533520"/>
            <a:ext cx="6818400" cy="6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Verdana"/>
              </a:rPr>
              <a:t>OBJETIVOS DEL TALL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429000"/>
            <a:ext cx="691344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Conocer y practicar estilos de liderazgo en correspondencia con las características de los colaboradores, el contexto del negocio y el desarrollo de las personas y los equipos en función de los objetivos estratégicos del nego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36232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el rol y fortalecer al jefe directo como principal coach, en el desarrollo de las competencias de los equipos y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30824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Identificar y practicar los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distintos 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procesos e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n el ciclo de la gestión de los recursos humanos y su impacto directo en los resultados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 del negocio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80060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a las gerencia de línea como uno de los más importantes transmisores de las políticas de Recursos Humanos en l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85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35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85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El Factor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125360"/>
            <a:ext cx="5113440" cy="573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909720"/>
            <a:ext cx="51134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l Facto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1773360"/>
            <a:ext cx="446400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acer de la gente una venta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mpetitiva irrever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3357720"/>
            <a:ext cx="208764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500720" y="38606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SATISFA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32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48000" y="5084640"/>
            <a:ext cx="503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0640" y="5006160"/>
            <a:ext cx="586080" cy="103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510080"/>
            <a:ext cx="24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304920"/>
            <a:ext cx="856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Brechas de Resultado vs Brechas de Desemp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71640" y="1268280"/>
            <a:ext cx="7345440" cy="4537080"/>
            <a:chOff x="971640" y="1268280"/>
            <a:chExt cx="7345440" cy="4537080"/>
          </a:xfrm>
        </p:grpSpPr>
        <p:sp>
          <p:nvSpPr>
            <p:cNvPr id="277" name=""/>
            <p:cNvSpPr/>
            <p:nvPr/>
          </p:nvSpPr>
          <p:spPr>
            <a:xfrm>
              <a:off x="5580000" y="3068640"/>
              <a:ext cx="273708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600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600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5892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5892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948720" y="2421000"/>
              <a:ext cx="0" cy="2232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706920" y="184464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06920" y="522936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1640" y="3068640"/>
              <a:ext cx="273672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38560" y="2421000"/>
              <a:ext cx="1440" cy="21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304920"/>
            <a:ext cx="8064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STILOS DE COMPORTAMIENTO DEL L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066680"/>
            <a:ext cx="4724640" cy="388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0481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1960" y="22748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8560" y="1508040"/>
            <a:ext cx="18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4280" y="229068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196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8840" y="150804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0680" y="310824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12408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0980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146000">
            <a:off x="840240" y="266616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 R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5000" y="507348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261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24080" y="5216400"/>
            <a:ext cx="609840" cy="16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50960" y="91440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49528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13800" y="4952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7240" y="45720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886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05120" y="13712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8160" y="5927760"/>
            <a:ext cx="2812680" cy="3373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48"/>
                </a:solidFill>
                <a:latin typeface="Arial"/>
              </a:rPr>
              <a:t>LIDERAZGO SITU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stilo del Gerente  vs. Prepara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20720" y="44640"/>
            <a:ext cx="5614920" cy="6816600"/>
            <a:chOff x="1620720" y="44640"/>
            <a:chExt cx="5614920" cy="6816600"/>
          </a:xfrm>
        </p:grpSpPr>
        <p:sp>
          <p:nvSpPr>
            <p:cNvPr id="81" name=""/>
            <p:cNvSpPr/>
            <p:nvPr/>
          </p:nvSpPr>
          <p:spPr>
            <a:xfrm>
              <a:off x="2266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66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4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4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82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2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0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90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2" idx="1"/>
              <a:endCxn id="88" idx="3"/>
            </p:cNvCxnSpPr>
            <p:nvPr/>
          </p:nvCxnSpPr>
          <p:spPr>
            <a:xfrm>
              <a:off x="2266920" y="3932640"/>
              <a:ext cx="4032720" cy="2520"/>
            </a:xfrm>
            <a:prstGeom prst="curvedConnector5">
              <a:avLst>
                <a:gd name="adj1" fmla="val 23578"/>
                <a:gd name="adj2" fmla="val -90000000"/>
                <a:gd name="adj3" fmla="val 23578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2266920" y="4869000"/>
              <a:ext cx="4032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Comportamiento de t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29080" y="448452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0" y="24922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60760" y="24670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40400" y="450864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3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6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4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560" y="9810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6560" y="21337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38200" y="1052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200" y="191628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6920" y="5443560"/>
              <a:ext cx="403200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38200" y="5877000"/>
              <a:ext cx="38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3820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4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2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0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2764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956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640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3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631040" y="2727360"/>
              <a:ext cx="3938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ESTILO DEL CONDUCTOR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42480" y="2736360"/>
              <a:ext cx="377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Comportamiento de relación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6022080" y="5647680"/>
              <a:ext cx="18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EZ 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COLABOR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5543280" y="5767560"/>
              <a:ext cx="184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In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080360" y="576576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1560" y="53974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7800" y="53974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Mod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1640" y="539748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Ba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16002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1760" y="1600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648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2346480" y="31989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3809880" y="2895480"/>
            <a:ext cx="4343400" cy="259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36880" y="2924280"/>
            <a:ext cx="434088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Quién 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oles y tareas defin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unicación unidirec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est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olicita repo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strucciones secu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Tareas simplificadas y espec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240" y="4267080"/>
            <a:ext cx="11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u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r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stable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83000" y="426708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ba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o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t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34290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429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0800" y="4572000"/>
            <a:ext cx="269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2916360" y="50277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365720" y="1536840"/>
            <a:ext cx="4383000" cy="311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5840" y="1557360"/>
            <a:ext cx="4394160" cy="314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forma Quién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decisiones, permite acl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Líde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la fun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Pregunta para aclarar nivel de 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pro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0" y="4076640"/>
            <a:ext cx="117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ve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l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ua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6320" y="4076640"/>
            <a:ext cx="13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anip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rmo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f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aciona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2:59:19Z</dcterms:created>
  <dc:creator>.</dc:creator>
  <dc:description/>
  <dc:language>en-US</dc:language>
  <cp:lastModifiedBy>usuario</cp:lastModifiedBy>
  <dcterms:modified xsi:type="dcterms:W3CDTF">2004-03-17T17:10:47Z</dcterms:modified>
  <cp:revision>6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69207456</vt:r8>
  </property>
  <property fmtid="{D5CDD505-2E9C-101B-9397-08002B2CF9AE}" pid="3" name="_AuthorEmail">
    <vt:lpwstr>jlklapp@humana.cl</vt:lpwstr>
  </property>
  <property fmtid="{D5CDD505-2E9C-101B-9397-08002B2CF9AE}" pid="4" name="_AuthorEmailDisplayName">
    <vt:lpwstr>Jose Luis Klapp</vt:lpwstr>
  </property>
  <property fmtid="{D5CDD505-2E9C-101B-9397-08002B2CF9AE}" pid="5" name="_EmailSubject">
    <vt:lpwstr>Presentación</vt:lpwstr>
  </property>
</Properties>
</file>