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611A6-D1A9-468E-A0A0-A6E0C6D0F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5B2E5-28D0-44DB-8663-F05FD2FBB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34869-C0FB-43E8-B4A8-307FF54FB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E23B6-F33C-4B42-A18B-359E9E26C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F31FF-DB00-4D47-8FFA-5CDC2749F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7C8CD-C092-47ED-A6F3-17767705B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DB053-8DC1-434F-970F-0F8F63F94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0E52C-C226-4C4D-A5B9-CB37429F5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211E1-EF1D-4693-882E-D491E7FE1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2AD02-617C-493E-9086-8143FBEB8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86821-B76C-4555-96F9-33F93BE04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D03C0-139E-4AEA-AC7C-CF333D0EA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c"/>
            </a:gs>
            <a:gs pos="100000">
              <a:srgbClr val="1e1e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053BA-3EA9-4B0C-86E5-F871C756078E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24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240" y="6629400"/>
            <a:ext cx="1441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900" spc="-1" strike="noStrike">
                <a:solidFill>
                  <a:srgbClr val="ffffff"/>
                </a:solidFill>
                <a:latin typeface="Arial"/>
              </a:rPr>
              <a:t>RECURSOS HUMAN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c"/>
            </a:gs>
            <a:gs pos="100000">
              <a:srgbClr val="1e1e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9640" y="404640"/>
            <a:ext cx="8209080" cy="1191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0066"/>
                </a:solidFill>
                <a:latin typeface="Verdana"/>
              </a:rPr>
              <a:t>BALANCED SCORECAR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0066"/>
                </a:solidFill>
                <a:latin typeface="Verdana"/>
              </a:rPr>
              <a:t>BS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0920" y="1773360"/>
            <a:ext cx="4824720" cy="792000"/>
          </a:xfrm>
          <a:prstGeom prst="ellipse">
            <a:avLst/>
          </a:prstGeom>
          <a:solidFill>
            <a:srgbClr val="008000"/>
          </a:solidFill>
          <a:ln w="9360">
            <a:solidFill>
              <a:srgbClr val="ffff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e98d"/>
                </a:solidFill>
                <a:latin typeface="Franklin Gothic Heavy"/>
              </a:rPr>
              <a:t>RENTAB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138560" y="2637000"/>
            <a:ext cx="720720" cy="431640"/>
          </a:xfrm>
          <a:prstGeom prst="upDownArrow">
            <a:avLst>
              <a:gd name="adj1" fmla="val 50000"/>
              <a:gd name="adj2" fmla="val 19907"/>
            </a:avLst>
          </a:prstGeom>
          <a:gradFill rotWithShape="0">
            <a:gsLst>
              <a:gs pos="0">
                <a:srgbClr val="900000"/>
              </a:gs>
              <a:gs pos="100000">
                <a:srgbClr val="fc0000">
                  <a:alpha val="92156"/>
                </a:srgbClr>
              </a:gs>
            </a:gsLst>
            <a:lin ang="13500000"/>
          </a:gradFill>
          <a:ln w="9360">
            <a:solidFill>
              <a:srgbClr val="f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050920" y="3141720"/>
            <a:ext cx="4824720" cy="792000"/>
          </a:xfrm>
          <a:prstGeom prst="ellipse">
            <a:avLst/>
          </a:prstGeom>
          <a:solidFill>
            <a:srgbClr val="008000"/>
          </a:solidFill>
          <a:ln w="9360">
            <a:solidFill>
              <a:srgbClr val="ffff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e98d"/>
                </a:solidFill>
                <a:latin typeface="Franklin Gothic Heavy"/>
              </a:rPr>
              <a:t>CL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210200" y="4005360"/>
            <a:ext cx="720720" cy="431640"/>
          </a:xfrm>
          <a:prstGeom prst="upDownArrow">
            <a:avLst>
              <a:gd name="adj1" fmla="val 50000"/>
              <a:gd name="adj2" fmla="val 19907"/>
            </a:avLst>
          </a:prstGeom>
          <a:gradFill rotWithShape="0">
            <a:gsLst>
              <a:gs pos="0">
                <a:srgbClr val="900000"/>
              </a:gs>
              <a:gs pos="100000">
                <a:srgbClr val="fc0000">
                  <a:alpha val="92156"/>
                </a:srgbClr>
              </a:gs>
            </a:gsLst>
            <a:lin ang="13500000"/>
          </a:gradFill>
          <a:ln w="9360">
            <a:solidFill>
              <a:srgbClr val="f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122560" y="4508640"/>
            <a:ext cx="4824360" cy="792000"/>
          </a:xfrm>
          <a:prstGeom prst="ellipse">
            <a:avLst/>
          </a:prstGeom>
          <a:solidFill>
            <a:srgbClr val="008000"/>
          </a:solidFill>
          <a:ln w="9360">
            <a:solidFill>
              <a:srgbClr val="ffff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e98d"/>
                </a:solidFill>
                <a:latin typeface="Franklin Gothic Heavy"/>
              </a:rPr>
              <a:t>PROCESOS INTERN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210200" y="5373720"/>
            <a:ext cx="720720" cy="431640"/>
          </a:xfrm>
          <a:prstGeom prst="upDownArrow">
            <a:avLst>
              <a:gd name="adj1" fmla="val 50000"/>
              <a:gd name="adj2" fmla="val 19907"/>
            </a:avLst>
          </a:prstGeom>
          <a:gradFill rotWithShape="0">
            <a:gsLst>
              <a:gs pos="0">
                <a:srgbClr val="900000"/>
              </a:gs>
              <a:gs pos="100000">
                <a:srgbClr val="fc0000">
                  <a:alpha val="92156"/>
                </a:srgbClr>
              </a:gs>
            </a:gsLst>
            <a:lin ang="13500000"/>
          </a:gradFill>
          <a:ln w="9360">
            <a:solidFill>
              <a:srgbClr val="f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22560" y="5877000"/>
            <a:ext cx="4824360" cy="792000"/>
          </a:xfrm>
          <a:prstGeom prst="ellipse">
            <a:avLst/>
          </a:prstGeom>
          <a:solidFill>
            <a:srgbClr val="008000"/>
          </a:solidFill>
          <a:ln w="9360">
            <a:solidFill>
              <a:srgbClr val="ffff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e98d"/>
                </a:solidFill>
                <a:latin typeface="Franklin Gothic Heavy"/>
              </a:rPr>
              <a:t>RECURSOS HUMAN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2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2000"/>
                            </p:stCondLst>
                            <p:childTnLst>
                              <p:par>
                                <p:cTn id="42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4500"/>
                            </p:stCondLst>
                            <p:childTnLst>
                              <p:par>
                                <p:cTn id="5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c"/>
            </a:gs>
            <a:gs pos="100000">
              <a:srgbClr val="1e1e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11280" y="304920"/>
            <a:ext cx="8064360" cy="58140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53753" dir="2700000" blurRad="0" rotWithShape="0">
              <a:srgbClr val="939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s-CL" sz="3200" spc="-1" strike="noStrike">
                <a:solidFill>
                  <a:srgbClr val="000066"/>
                </a:solidFill>
                <a:latin typeface="Arial"/>
              </a:rPr>
              <a:t>Descripción Estilo 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87680" y="3090960"/>
            <a:ext cx="2666880" cy="2209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782960" y="3090960"/>
            <a:ext cx="0" cy="2209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487680" y="4233960"/>
            <a:ext cx="2666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" name=""/>
          <p:cNvCxnSpPr/>
          <p:nvPr/>
        </p:nvCxnSpPr>
        <p:spPr>
          <a:xfrm>
            <a:off x="3487680" y="4688280"/>
            <a:ext cx="2667240" cy="2520"/>
          </a:xfrm>
          <a:prstGeom prst="curvedConnector5">
            <a:avLst>
              <a:gd name="adj1" fmla="val 32019"/>
              <a:gd name="adj2" fmla="val -37300000"/>
              <a:gd name="adj3" fmla="val 32019"/>
            </a:avLst>
          </a:prstGeom>
          <a:ln w="57240">
            <a:solidFill>
              <a:srgbClr val="000000"/>
            </a:solidFill>
            <a:miter/>
          </a:ln>
        </p:spPr>
      </p:cxnSp>
      <p:sp>
        <p:nvSpPr>
          <p:cNvPr id="166" name=""/>
          <p:cNvSpPr/>
          <p:nvPr/>
        </p:nvSpPr>
        <p:spPr>
          <a:xfrm>
            <a:off x="250920" y="1700280"/>
            <a:ext cx="4343400" cy="2590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372720" y="4178160"/>
            <a:ext cx="107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 u="sng">
                <a:solidFill>
                  <a:srgbClr val="ffffff"/>
                </a:solidFill>
                <a:uFillTx/>
                <a:latin typeface="Times New Roman"/>
              </a:rPr>
              <a:t>Efica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Particip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Alent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Apoy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Facult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68360" y="4178160"/>
            <a:ext cx="1477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 u="sng">
                <a:solidFill>
                  <a:srgbClr val="ffffff"/>
                </a:solidFill>
                <a:uFillTx/>
                <a:latin typeface="Times New Roman"/>
              </a:rPr>
              <a:t>Inefica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Proteg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Aplac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Condescen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Pacific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24000" y="1700280"/>
            <a:ext cx="4248000" cy="2533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00000"/>
              </a:lnSpc>
              <a:buClr>
                <a:srgbClr val="0000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48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6e"/>
                </a:solidFill>
                <a:latin typeface="Arial"/>
              </a:rPr>
              <a:t>Estimula la comunic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e"/>
                </a:solidFill>
                <a:latin typeface="Arial"/>
              </a:rPr>
              <a:t>Escucha activam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e"/>
                </a:solidFill>
                <a:latin typeface="Arial"/>
              </a:rPr>
              <a:t>El colaborador toma decis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e"/>
                </a:solidFill>
                <a:latin typeface="Arial"/>
              </a:rPr>
              <a:t>Compromiso y comunicación en dos direc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e"/>
                </a:solidFill>
                <a:latin typeface="Arial"/>
              </a:rPr>
              <a:t>Apoya la toma de ries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e"/>
                </a:solidFill>
                <a:latin typeface="Arial"/>
              </a:rPr>
              <a:t>Facilidad para el trabaj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e"/>
                </a:solidFill>
                <a:latin typeface="Arial"/>
              </a:rPr>
              <a:t>Exalta y fortalece la confianz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c"/>
            </a:gs>
            <a:gs pos="100000">
              <a:srgbClr val="1e1e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2743200" y="1219320"/>
            <a:ext cx="3352680" cy="2590560"/>
          </a:xfrm>
          <a:prstGeom prst="rect">
            <a:avLst/>
          </a:prstGeom>
          <a:solidFill>
            <a:srgbClr val="f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743200" y="3809880"/>
            <a:ext cx="3352680" cy="259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012920" y="1492200"/>
            <a:ext cx="7858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6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803040" y="2590920"/>
            <a:ext cx="1301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Baj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945600" y="3930480"/>
            <a:ext cx="692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66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735000" y="5029200"/>
            <a:ext cx="1301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Baj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219320" y="152280"/>
            <a:ext cx="6705360" cy="764280"/>
          </a:xfrm>
          <a:prstGeom prst="rect">
            <a:avLst/>
          </a:prstGeom>
          <a:solidFill>
            <a:srgbClr val="ffff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000048"/>
                </a:solidFill>
                <a:latin typeface="Times New Roman"/>
              </a:rPr>
              <a:t>ESTILO  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c"/>
            </a:gs>
            <a:gs pos="100000">
              <a:srgbClr val="1e1e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611280" y="304920"/>
            <a:ext cx="8064360" cy="58140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53753" dir="2700000" blurRad="0" rotWithShape="0">
              <a:srgbClr val="939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s-CL" sz="3200" spc="-1" strike="noStrike">
                <a:solidFill>
                  <a:srgbClr val="000066"/>
                </a:solidFill>
                <a:latin typeface="Arial"/>
              </a:rPr>
              <a:t>Descripción Estilo 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946680" y="1268280"/>
            <a:ext cx="2666880" cy="22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241960" y="126828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946680" y="2411280"/>
            <a:ext cx="2666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1" name=""/>
          <p:cNvCxnSpPr/>
          <p:nvPr/>
        </p:nvCxnSpPr>
        <p:spPr>
          <a:xfrm>
            <a:off x="3946680" y="2867040"/>
            <a:ext cx="2667240" cy="2160"/>
          </a:xfrm>
          <a:prstGeom prst="curvedConnector5">
            <a:avLst>
              <a:gd name="adj1" fmla="val 32019"/>
              <a:gd name="adj2" fmla="val -37300000"/>
              <a:gd name="adj3" fmla="val 32019"/>
            </a:avLst>
          </a:prstGeom>
          <a:ln w="57240">
            <a:solidFill>
              <a:srgbClr val="000000"/>
            </a:solidFill>
            <a:miter/>
          </a:ln>
        </p:spPr>
      </p:cxnSp>
      <p:sp>
        <p:nvSpPr>
          <p:cNvPr id="182" name=""/>
          <p:cNvSpPr/>
          <p:nvPr/>
        </p:nvSpPr>
        <p:spPr>
          <a:xfrm>
            <a:off x="6367680" y="4149720"/>
            <a:ext cx="1018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 u="sng">
                <a:solidFill>
                  <a:srgbClr val="ffffff"/>
                </a:solidFill>
                <a:uFillTx/>
                <a:latin typeface="Times New Roman"/>
              </a:rPr>
              <a:t>Efica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Deleg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Observ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Confi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Asign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668000" y="4149720"/>
            <a:ext cx="1215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 u="sng">
                <a:solidFill>
                  <a:srgbClr val="ffffff"/>
                </a:solidFill>
                <a:uFillTx/>
                <a:latin typeface="Times New Roman"/>
              </a:rPr>
              <a:t>Inefica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Desaten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Descarg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Evit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Abandon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55640" y="2567160"/>
            <a:ext cx="4343400" cy="2590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8720" y="2627280"/>
            <a:ext cx="4248000" cy="2533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00000"/>
              </a:lnSpc>
              <a:buClr>
                <a:srgbClr val="0000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e"/>
                </a:solidFill>
                <a:latin typeface="Arial"/>
              </a:rPr>
              <a:t>Delega tare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e"/>
                </a:solidFill>
                <a:latin typeface="Arial"/>
              </a:rPr>
              <a:t>Explicaciones muy gener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e"/>
                </a:solidFill>
                <a:latin typeface="Arial"/>
              </a:rPr>
              <a:t>El colaborador toma las decis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e"/>
                </a:solidFill>
                <a:latin typeface="Arial"/>
              </a:rPr>
              <a:t>Supervisión lige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e"/>
                </a:solidFill>
                <a:latin typeface="Arial"/>
              </a:rPr>
              <a:t>Verifica las activ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e"/>
                </a:solidFill>
                <a:latin typeface="Arial"/>
              </a:rPr>
              <a:t>Refuerza los result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e"/>
                </a:solidFill>
                <a:latin typeface="Arial"/>
              </a:rPr>
              <a:t>Se mantiene accesi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c"/>
            </a:gs>
            <a:gs pos="100000">
              <a:srgbClr val="1e1e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611280" y="304920"/>
            <a:ext cx="8064360" cy="64260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53753" dir="2700000" blurRad="0" rotWithShape="0">
              <a:srgbClr val="939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s-CL" sz="3600" spc="-1" strike="noStrike">
                <a:solidFill>
                  <a:srgbClr val="000066"/>
                </a:solidFill>
                <a:latin typeface="Arial"/>
              </a:rPr>
              <a:t>Estilos y Resposabilidad del Líd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84360" y="1773360"/>
            <a:ext cx="7993080" cy="106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No importando el estilo que esté aplicando, para ser un buen líder usted deb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84360" y="3083040"/>
            <a:ext cx="7993080" cy="1464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23960" indent="-72396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Times New Roman"/>
              </a:rPr>
              <a:t>Establecer y comunicar objetivo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723960" indent="-72396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Times New Roman"/>
              </a:rPr>
              <a:t>Monitorear el desempeñ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723960" indent="-72396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Times New Roman"/>
              </a:rPr>
              <a:t>Proporcionar “feedback”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c"/>
            </a:gs>
            <a:gs pos="100000">
              <a:srgbClr val="1e1e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611280" y="304920"/>
            <a:ext cx="8064360" cy="64260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53753" dir="2700000" blurRad="0" rotWithShape="0">
              <a:srgbClr val="939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s-CL" sz="3600" spc="-1" strike="noStrike">
                <a:solidFill>
                  <a:srgbClr val="000066"/>
                </a:solidFill>
                <a:latin typeface="Arial"/>
              </a:rPr>
              <a:t>Escogiendo el Estil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84360" y="1773360"/>
            <a:ext cx="799308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6e"/>
                </a:solidFill>
                <a:latin typeface="Times New Roman"/>
              </a:rPr>
              <a:t>Para determinar el Estilo de Dirección a aplicar, usted debe tener en cuenta los siguientes factores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84360" y="3083040"/>
            <a:ext cx="7993080" cy="180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23960" indent="-723960">
              <a:buClr>
                <a:srgbClr val="00006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6e"/>
                </a:solidFill>
                <a:latin typeface="Times New Roman"/>
              </a:rPr>
              <a:t>El nivel de desarrollo del colaborad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723960" indent="-723960">
              <a:buClr>
                <a:srgbClr val="00006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6e"/>
                </a:solidFill>
                <a:latin typeface="Times New Roman"/>
              </a:rPr>
              <a:t>El grado de criticidad del entor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723960" indent="-723960">
              <a:buClr>
                <a:srgbClr val="00006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6e"/>
                </a:solidFill>
                <a:latin typeface="Times New Roman"/>
              </a:rPr>
              <a:t>La flexibilidad del propio líder para ajustar su estilo a las situaciones específic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c"/>
            </a:gs>
            <a:gs pos="100000">
              <a:srgbClr val="1e1e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611280" y="304920"/>
            <a:ext cx="8064360" cy="58140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53753" dir="2700000" blurRad="0" rotWithShape="0">
              <a:srgbClr val="939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s-CL" sz="3200" spc="-1" strike="noStrike">
                <a:solidFill>
                  <a:srgbClr val="000066"/>
                </a:solidFill>
                <a:latin typeface="Arial"/>
              </a:rPr>
              <a:t>Contexto y Liderazg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12760" y="3352680"/>
            <a:ext cx="1539720" cy="459720"/>
          </a:xfrm>
          <a:prstGeom prst="rect">
            <a:avLst/>
          </a:prstGeom>
          <a:solidFill>
            <a:srgbClr val="ffff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Contex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960640" y="3352680"/>
            <a:ext cx="1540080" cy="459720"/>
          </a:xfrm>
          <a:prstGeom prst="rect">
            <a:avLst/>
          </a:prstGeom>
          <a:solidFill>
            <a:srgbClr val="ffff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Med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955960" y="1981080"/>
            <a:ext cx="1539720" cy="459720"/>
          </a:xfrm>
          <a:prstGeom prst="rect">
            <a:avLst/>
          </a:prstGeom>
          <a:solidFill>
            <a:srgbClr val="ffff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Mac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987640" y="4653000"/>
            <a:ext cx="1540080" cy="459720"/>
          </a:xfrm>
          <a:prstGeom prst="rect">
            <a:avLst/>
          </a:prstGeom>
          <a:solidFill>
            <a:srgbClr val="ffff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Mic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1752480" y="2286000"/>
            <a:ext cx="1143000" cy="1295280"/>
          </a:xfrm>
          <a:prstGeom prst="line">
            <a:avLst/>
          </a:prstGeom>
          <a:ln w="57240">
            <a:solidFill>
              <a:srgbClr val="ffff0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181480" y="1670040"/>
            <a:ext cx="3886200" cy="103860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00"/>
                </a:solidFill>
                <a:latin typeface="Times New Roman"/>
              </a:rPr>
              <a:t>Cambios en la legislaciones que regulan el negoci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00"/>
                </a:solidFill>
                <a:latin typeface="Times New Roman"/>
              </a:rPr>
              <a:t>Cambios en la forma del Negoc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181480" y="2997360"/>
            <a:ext cx="3886200" cy="131292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00"/>
                </a:solidFill>
                <a:latin typeface="Times New Roman"/>
              </a:rPr>
              <a:t>Cambios en la estructura de la Organizació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00"/>
                </a:solidFill>
                <a:latin typeface="Times New Roman"/>
              </a:rPr>
              <a:t>Fusiones, adquisiciones y partic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181480" y="4581360"/>
            <a:ext cx="3886200" cy="76428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00"/>
                </a:solidFill>
                <a:latin typeface="Times New Roman"/>
              </a:rPr>
              <a:t>Estilo de Liderazgo Corporativ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00"/>
                </a:solidFill>
                <a:latin typeface="Times New Roman"/>
              </a:rPr>
              <a:t>Estilo de Liderazgo del  Supervis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752480" y="3581280"/>
            <a:ext cx="1067040" cy="0"/>
          </a:xfrm>
          <a:prstGeom prst="line">
            <a:avLst/>
          </a:prstGeom>
          <a:ln w="57240">
            <a:solidFill>
              <a:srgbClr val="ffff0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775880" y="3568680"/>
            <a:ext cx="1055160" cy="1308240"/>
          </a:xfrm>
          <a:prstGeom prst="line">
            <a:avLst/>
          </a:prstGeom>
          <a:ln w="57240">
            <a:solidFill>
              <a:srgbClr val="ffff0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500720" y="2205000"/>
            <a:ext cx="502920" cy="7920"/>
          </a:xfrm>
          <a:prstGeom prst="line">
            <a:avLst/>
          </a:prstGeom>
          <a:ln w="57240">
            <a:solidFill>
              <a:srgbClr val="ffff0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4500720" y="3573360"/>
            <a:ext cx="502920" cy="7920"/>
          </a:xfrm>
          <a:prstGeom prst="line">
            <a:avLst/>
          </a:prstGeom>
          <a:ln w="57240">
            <a:solidFill>
              <a:srgbClr val="ffff0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4532400" y="4937040"/>
            <a:ext cx="503280" cy="7920"/>
          </a:xfrm>
          <a:prstGeom prst="line">
            <a:avLst/>
          </a:prstGeom>
          <a:ln w="57240">
            <a:solidFill>
              <a:srgbClr val="ffff0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c"/>
            </a:gs>
            <a:gs pos="100000">
              <a:srgbClr val="1e1e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611280" y="304920"/>
            <a:ext cx="8064360" cy="52056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53753" dir="2700000" blurRad="0" rotWithShape="0">
              <a:srgbClr val="939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s-CL" sz="2800" spc="-1" strike="noStrike">
                <a:solidFill>
                  <a:srgbClr val="000066"/>
                </a:solidFill>
                <a:latin typeface="Arial"/>
              </a:rPr>
              <a:t>Variación de los Estil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62120" y="3352680"/>
            <a:ext cx="2666880" cy="581400"/>
          </a:xfrm>
          <a:prstGeom prst="rect">
            <a:avLst/>
          </a:prstGeom>
          <a:solidFill>
            <a:srgbClr val="ffffff"/>
          </a:solidFill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VARIAC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937040" y="1981080"/>
            <a:ext cx="2683080" cy="703440"/>
          </a:xfrm>
          <a:prstGeom prst="rect">
            <a:avLst/>
          </a:prstGeom>
          <a:solidFill>
            <a:srgbClr val="ff00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000000"/>
                </a:solidFill>
                <a:latin typeface="Times New Roman"/>
              </a:rPr>
              <a:t>Direcció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937040" y="4800600"/>
            <a:ext cx="2683080" cy="703440"/>
          </a:xfrm>
          <a:prstGeom prst="rect">
            <a:avLst/>
          </a:prstGeom>
          <a:solidFill>
            <a:srgbClr val="ff00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000000"/>
                </a:solidFill>
                <a:latin typeface="Times New Roman"/>
              </a:rPr>
              <a:t>Sopor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3505320" y="2437920"/>
            <a:ext cx="1371600" cy="1143000"/>
          </a:xfrm>
          <a:prstGeom prst="line">
            <a:avLst/>
          </a:prstGeom>
          <a:ln w="76320">
            <a:solidFill>
              <a:srgbClr val="f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24040" y="3720600"/>
            <a:ext cx="1317960" cy="1504440"/>
          </a:xfrm>
          <a:prstGeom prst="line">
            <a:avLst/>
          </a:prstGeom>
          <a:ln w="76320">
            <a:solidFill>
              <a:srgbClr val="f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c"/>
            </a:gs>
            <a:gs pos="100000">
              <a:srgbClr val="1e1e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611280" y="304920"/>
            <a:ext cx="8064360" cy="58140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53753" dir="2700000" blurRad="0" rotWithShape="0">
              <a:srgbClr val="939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s-CL" sz="3200" spc="-1" strike="noStrike">
                <a:solidFill>
                  <a:srgbClr val="000066"/>
                </a:solidFill>
                <a:latin typeface="Arial"/>
              </a:rPr>
              <a:t>Dirección y Sopor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1828800"/>
            <a:ext cx="5181480" cy="825480"/>
          </a:xfrm>
          <a:prstGeom prst="rect">
            <a:avLst/>
          </a:prstGeom>
          <a:solidFill>
            <a:srgbClr val="ff00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Conductas que determinan el quién, qué, dónde, cuándo y cóm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3416400"/>
            <a:ext cx="5257800" cy="2166120"/>
          </a:xfrm>
          <a:prstGeom prst="rect">
            <a:avLst/>
          </a:prstGeom>
          <a:solidFill>
            <a:srgbClr val="ff00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Conductas que reconocen y estimulan el desempeñ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Alienta la presentación de ideas y sugerenci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Participación en la toma de decis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09480" y="1828800"/>
            <a:ext cx="2362320" cy="520560"/>
          </a:xfrm>
          <a:prstGeom prst="rect">
            <a:avLst/>
          </a:prstGeom>
          <a:solidFill>
            <a:srgbClr val="ff00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095560" indent="-2095560" algn="just">
              <a:tabLst>
                <a:tab algn="l" pos="0"/>
                <a:tab algn="l" pos="1714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Times New Roman"/>
              </a:rPr>
              <a:t>Direcció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09480" y="3429000"/>
            <a:ext cx="2362320" cy="520560"/>
          </a:xfrm>
          <a:prstGeom prst="rect">
            <a:avLst/>
          </a:prstGeom>
          <a:solidFill>
            <a:srgbClr val="ff00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095560" indent="-2095560" algn="just">
              <a:tabLst>
                <a:tab algn="l" pos="0"/>
                <a:tab algn="l" pos="1714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Times New Roman"/>
              </a:rPr>
              <a:t>Soporte  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c"/>
            </a:gs>
            <a:gs pos="100000">
              <a:srgbClr val="1e1e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1986120" y="228600"/>
            <a:ext cx="54054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c"/>
            </a:gs>
            <a:gs pos="100000">
              <a:srgbClr val="1e1e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380880" y="380880"/>
            <a:ext cx="8458200" cy="5562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80880" y="5410080"/>
            <a:ext cx="533520" cy="5335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80880" y="4267080"/>
            <a:ext cx="84582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80880" y="2743200"/>
            <a:ext cx="8458200" cy="15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80880" y="1219320"/>
            <a:ext cx="8458200" cy="15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80880" y="380880"/>
            <a:ext cx="8458200" cy="8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80880" y="4267080"/>
            <a:ext cx="53352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80880" y="2743200"/>
            <a:ext cx="533520" cy="15238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80880" y="1219320"/>
            <a:ext cx="533520" cy="15238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380880"/>
            <a:ext cx="533520" cy="8384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914400" y="5410080"/>
            <a:ext cx="990720" cy="5335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905120" y="5410080"/>
            <a:ext cx="990360" cy="5335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895480" y="5410080"/>
            <a:ext cx="990720" cy="5335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886200" y="5410080"/>
            <a:ext cx="990720" cy="5335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876920" y="5410080"/>
            <a:ext cx="990360" cy="5335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867280" y="5410080"/>
            <a:ext cx="990720" cy="5335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858000" y="5410080"/>
            <a:ext cx="990720" cy="5335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848720" y="5410080"/>
            <a:ext cx="990360" cy="5335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76520" y="5486400"/>
            <a:ext cx="228600" cy="307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438280" y="5486400"/>
            <a:ext cx="457200" cy="307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Times New Roman"/>
              </a:rPr>
              <a:t>1,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429000" y="5486400"/>
            <a:ext cx="457200" cy="307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419720" y="5486400"/>
            <a:ext cx="457200" cy="307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Times New Roman"/>
              </a:rPr>
              <a:t>2,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410080" y="5486400"/>
            <a:ext cx="457200" cy="307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400800" y="5486400"/>
            <a:ext cx="457200" cy="307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Times New Roman"/>
              </a:rPr>
              <a:t>3,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391520" y="5486400"/>
            <a:ext cx="457200" cy="307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8381880" y="5486400"/>
            <a:ext cx="457200" cy="307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Times New Roman"/>
              </a:rPr>
              <a:t>4,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1905120" y="4266720"/>
            <a:ext cx="99036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2895480" y="2742840"/>
            <a:ext cx="0" cy="1523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2895480" y="1218960"/>
            <a:ext cx="990720" cy="1523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3886200" y="380520"/>
            <a:ext cx="990720" cy="838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3886200" y="4343040"/>
            <a:ext cx="99072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4876920" y="2819160"/>
            <a:ext cx="0" cy="1523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4876920" y="1295280"/>
            <a:ext cx="990360" cy="1524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5867280" y="380880"/>
            <a:ext cx="99072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5867280" y="4343040"/>
            <a:ext cx="99072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6858000" y="2819160"/>
            <a:ext cx="0" cy="1523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V="1">
            <a:off x="6858000" y="1295280"/>
            <a:ext cx="990720" cy="1524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7848720" y="380880"/>
            <a:ext cx="99036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914400" y="3124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895480" y="3124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6920" y="3124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0" y="3124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899640" y="2830680"/>
            <a:ext cx="4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E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896560" y="2819520"/>
            <a:ext cx="4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E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833360" y="2819520"/>
            <a:ext cx="4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E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859080" y="2819520"/>
            <a:ext cx="4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E 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c"/>
            </a:gs>
            <a:gs pos="100000">
              <a:srgbClr val="1e1e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258920" y="533520"/>
            <a:ext cx="6818400" cy="611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000066"/>
                </a:solidFill>
                <a:latin typeface="Verdana"/>
              </a:rPr>
              <a:t>OBJETIVOS DEL TALLER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219320" y="3429000"/>
            <a:ext cx="6913440" cy="131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spcBef>
                <a:spcPts val="1250"/>
              </a:spcBef>
              <a:buClr>
                <a:srgbClr val="000099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99"/>
                </a:solidFill>
                <a:latin typeface="Times New Roman"/>
              </a:rPr>
              <a:t>Conocer y practicar estilos de liderazgo en correspondencia con las características de los colaboradores, el contexto del negocio y el desarrollo de las personas y los equipos en función de los objetivos estratégicos del negoci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219320" y="2362320"/>
            <a:ext cx="6913440" cy="1008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spcBef>
                <a:spcPts val="1250"/>
              </a:spcBef>
              <a:buClr>
                <a:srgbClr val="000099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99"/>
                </a:solidFill>
                <a:latin typeface="Times New Roman"/>
              </a:rPr>
              <a:t>Reconocer el rol y fortalecer al jefe directo como principal coach, en el desarrollo de las competencias de los equipos y las person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219320" y="1308240"/>
            <a:ext cx="6913440" cy="1008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spcBef>
                <a:spcPts val="1250"/>
              </a:spcBef>
              <a:buClr>
                <a:srgbClr val="0000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99"/>
                </a:solidFill>
                <a:latin typeface="Times New Roman"/>
              </a:rPr>
              <a:t>Identificar y practicar los </a:t>
            </a:r>
            <a:r>
              <a:rPr b="0" lang="es-ES" sz="2000" spc="-1" strike="noStrike">
                <a:solidFill>
                  <a:srgbClr val="000099"/>
                </a:solidFill>
                <a:latin typeface="Times New Roman"/>
              </a:rPr>
              <a:t>distintos </a:t>
            </a:r>
            <a:r>
              <a:rPr b="0" lang="es-MX" sz="2000" spc="-1" strike="noStrike">
                <a:solidFill>
                  <a:srgbClr val="000099"/>
                </a:solidFill>
                <a:latin typeface="Times New Roman"/>
              </a:rPr>
              <a:t>procesos e</a:t>
            </a:r>
            <a:r>
              <a:rPr b="0" lang="es-ES" sz="2000" spc="-1" strike="noStrike">
                <a:solidFill>
                  <a:srgbClr val="000099"/>
                </a:solidFill>
                <a:latin typeface="Times New Roman"/>
              </a:rPr>
              <a:t>n el ciclo de la gestión de los recursos humanos y su impacto directo en los resultados</a:t>
            </a:r>
            <a:r>
              <a:rPr b="0" lang="es-MX" sz="2000" spc="-1" strike="noStrike">
                <a:solidFill>
                  <a:srgbClr val="000099"/>
                </a:solidFill>
                <a:latin typeface="Times New Roman"/>
              </a:rPr>
              <a:t> del negocio</a:t>
            </a:r>
            <a:r>
              <a:rPr b="0" lang="es-ES" sz="2000" spc="-1" strike="noStrike">
                <a:solidFill>
                  <a:srgbClr val="000099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219320" y="4800600"/>
            <a:ext cx="6913440" cy="1008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spcBef>
                <a:spcPts val="1250"/>
              </a:spcBef>
              <a:buClr>
                <a:srgbClr val="000099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99"/>
                </a:solidFill>
                <a:latin typeface="Times New Roman"/>
              </a:rPr>
              <a:t>Reconocer a las gerencia de línea como uno de los más importantes transmisores de las políticas de Recursos Humanos en las organizacion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350"/>
                            </p:stCondLst>
                            <p:childTnLst>
                              <p:par>
                                <p:cTn id="6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850"/>
                            </p:stCondLst>
                            <p:childTnLst>
                              <p:par>
                                <p:cTn id="6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2350"/>
                            </p:stCondLst>
                            <p:childTnLst>
                              <p:par>
                                <p:cTn id="7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2850"/>
                            </p:stCondLst>
                            <p:childTnLst>
                              <p:par>
                                <p:cTn id="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c"/>
            </a:gs>
            <a:gs pos="100000">
              <a:srgbClr val="1e1e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611280" y="304920"/>
            <a:ext cx="8064360" cy="52056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53753" dir="2700000" blurRad="0" rotWithShape="0">
              <a:srgbClr val="939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66"/>
                </a:solidFill>
                <a:latin typeface="Arial"/>
              </a:rPr>
              <a:t>El Factor Huma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050920" y="1125360"/>
            <a:ext cx="5113440" cy="573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050920" y="909720"/>
            <a:ext cx="5113440" cy="503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El Factor Huma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413080" y="1773360"/>
            <a:ext cx="4464000" cy="115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Hacer de la gente una ventaj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competitiva irrevers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492360" y="3357720"/>
            <a:ext cx="2087640" cy="502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Competenc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4500720" y="3860640"/>
            <a:ext cx="0" cy="648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268360" y="6021360"/>
            <a:ext cx="2087640" cy="503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Times New Roman"/>
              </a:rPr>
              <a:t>SATISFACC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932360" y="6021360"/>
            <a:ext cx="2087640" cy="503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Times New Roman"/>
              </a:rPr>
              <a:t>PRODUCTIV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H="1">
            <a:off x="3348000" y="5084640"/>
            <a:ext cx="503280" cy="9367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00640" y="5006160"/>
            <a:ext cx="586080" cy="10335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276720" y="4510080"/>
            <a:ext cx="2447640" cy="647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L EQUI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c"/>
            </a:gs>
            <a:gs pos="100000">
              <a:srgbClr val="1e1e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324000" y="304920"/>
            <a:ext cx="8569080" cy="52056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53753" dir="2700000" blurRad="0" rotWithShape="0">
              <a:srgbClr val="939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66"/>
                </a:solidFill>
                <a:latin typeface="Arial"/>
              </a:rPr>
              <a:t>Brechas de Resultado vs Brechas de Desempeñ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6" name=""/>
          <p:cNvGrpSpPr/>
          <p:nvPr/>
        </p:nvGrpSpPr>
        <p:grpSpPr>
          <a:xfrm>
            <a:off x="971640" y="1268280"/>
            <a:ext cx="7345440" cy="4537080"/>
            <a:chOff x="971640" y="1268280"/>
            <a:chExt cx="7345440" cy="4537080"/>
          </a:xfrm>
        </p:grpSpPr>
        <p:sp>
          <p:nvSpPr>
            <p:cNvPr id="277" name=""/>
            <p:cNvSpPr/>
            <p:nvPr/>
          </p:nvSpPr>
          <p:spPr>
            <a:xfrm>
              <a:off x="5580000" y="3068640"/>
              <a:ext cx="2737080" cy="720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400" spc="-1" strike="noStrike">
                  <a:solidFill>
                    <a:srgbClr val="ffffff"/>
                  </a:solidFill>
                  <a:latin typeface="Times New Roman"/>
                </a:rPr>
                <a:t>Brech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796000" y="4653000"/>
              <a:ext cx="2376720" cy="1152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00006e"/>
                  </a:solidFill>
                  <a:latin typeface="Arial"/>
                </a:rPr>
                <a:t>Desempeñ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00006e"/>
                  </a:solidFill>
                  <a:latin typeface="Arial"/>
                </a:rPr>
                <a:t>Esperad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796000" y="1268280"/>
              <a:ext cx="2376720" cy="1152720"/>
            </a:xfrm>
            <a:prstGeom prst="rect">
              <a:avLst/>
            </a:prstGeom>
            <a:solidFill>
              <a:srgbClr val="00006e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ffffff"/>
                  </a:solidFill>
                  <a:latin typeface="Arial"/>
                </a:rPr>
                <a:t>Desempeñ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ffffff"/>
                  </a:solidFill>
                  <a:latin typeface="Arial"/>
                </a:rPr>
                <a:t>Actu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258920" y="4653000"/>
              <a:ext cx="2376720" cy="1152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00006e"/>
                  </a:solidFill>
                  <a:latin typeface="Arial"/>
                </a:rPr>
                <a:t>Resultado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00006e"/>
                  </a:solidFill>
                  <a:latin typeface="Arial"/>
                </a:rPr>
                <a:t>Esperado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258920" y="1268280"/>
              <a:ext cx="2376720" cy="1152720"/>
            </a:xfrm>
            <a:prstGeom prst="rect">
              <a:avLst/>
            </a:prstGeom>
            <a:solidFill>
              <a:srgbClr val="00006e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ffffff"/>
                  </a:solidFill>
                  <a:latin typeface="Arial"/>
                </a:rPr>
                <a:t>Resultado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ffffff"/>
                  </a:solidFill>
                  <a:latin typeface="Arial"/>
                </a:rPr>
                <a:t>Actual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flipV="1">
              <a:off x="6948720" y="2421000"/>
              <a:ext cx="0" cy="223200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flipH="1">
              <a:off x="3706920" y="1844640"/>
              <a:ext cx="201600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3706920" y="5229360"/>
              <a:ext cx="201600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971640" y="3068640"/>
              <a:ext cx="2736720" cy="720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400" spc="-1" strike="noStrike">
                  <a:solidFill>
                    <a:srgbClr val="ffffff"/>
                  </a:solidFill>
                  <a:latin typeface="Times New Roman"/>
                </a:rPr>
                <a:t>Brech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338560" y="2421000"/>
              <a:ext cx="1440" cy="21603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c"/>
            </a:gs>
            <a:gs pos="100000">
              <a:srgbClr val="1e1e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611280" y="304920"/>
            <a:ext cx="8064360" cy="45972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53753" dir="2700000" blurRad="0" rotWithShape="0">
              <a:srgbClr val="939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s-CL" sz="2400" spc="-1" strike="noStrike">
                <a:solidFill>
                  <a:srgbClr val="000066"/>
                </a:solidFill>
                <a:latin typeface="Arial"/>
              </a:rPr>
              <a:t>ESTILOS DE COMPORTAMIENTO DEL LI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438280" y="1066680"/>
            <a:ext cx="4724640" cy="3886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800600" y="1143000"/>
            <a:ext cx="0" cy="3657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8280" y="3048120"/>
            <a:ext cx="4724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261960" y="2274840"/>
            <a:ext cx="81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E 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788560" y="1508040"/>
            <a:ext cx="181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c0000"/>
                </a:solidFill>
                <a:latin typeface="Arial"/>
              </a:rPr>
              <a:t>R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elación </a:t>
            </a:r>
            <a:r>
              <a:rPr b="1" lang="es-MX" sz="2000" spc="-1" strike="noStrike">
                <a:solidFill>
                  <a:srgbClr val="fc0000"/>
                </a:solidFill>
                <a:latin typeface="Arial"/>
              </a:rPr>
              <a:t>A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l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c0000"/>
                </a:solidFill>
                <a:latin typeface="Arial"/>
              </a:rPr>
              <a:t>T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area      </a:t>
            </a:r>
            <a:r>
              <a:rPr b="1" lang="es-MX" sz="2000" spc="-1" strike="noStrike">
                <a:solidFill>
                  <a:srgbClr val="fc0000"/>
                </a:solidFill>
                <a:latin typeface="Arial"/>
              </a:rPr>
              <a:t>B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a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624280" y="2290680"/>
            <a:ext cx="81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E 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261960" y="3976560"/>
            <a:ext cx="81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E  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028840" y="1508040"/>
            <a:ext cx="1793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c0000"/>
                </a:solidFill>
                <a:latin typeface="Arial"/>
              </a:rPr>
              <a:t>R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elación </a:t>
            </a:r>
            <a:r>
              <a:rPr b="1" lang="es-MX" sz="2000" spc="-1" strike="noStrike">
                <a:solidFill>
                  <a:srgbClr val="fc0000"/>
                </a:solidFill>
                <a:latin typeface="Arial"/>
              </a:rPr>
              <a:t>A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l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c0000"/>
                </a:solidFill>
                <a:latin typeface="Arial"/>
              </a:rPr>
              <a:t>T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area      </a:t>
            </a:r>
            <a:r>
              <a:rPr b="1" lang="es-MX" sz="2000" spc="-1" strike="noStrike">
                <a:solidFill>
                  <a:srgbClr val="fc0000"/>
                </a:solidFill>
                <a:latin typeface="Arial"/>
              </a:rPr>
              <a:t>A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l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830680" y="3108240"/>
            <a:ext cx="1849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c0000"/>
                </a:solidFill>
                <a:latin typeface="Arial"/>
              </a:rPr>
              <a:t>R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elación </a:t>
            </a:r>
            <a:r>
              <a:rPr b="1" lang="es-MX" sz="2000" spc="-1" strike="noStrike">
                <a:solidFill>
                  <a:srgbClr val="fc0000"/>
                </a:solidFill>
                <a:latin typeface="Arial"/>
              </a:rPr>
              <a:t>B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a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c0000"/>
                </a:solidFill>
                <a:latin typeface="Arial"/>
              </a:rPr>
              <a:t>T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area      </a:t>
            </a:r>
            <a:r>
              <a:rPr b="1" lang="es-MX" sz="2000" spc="-1" strike="noStrike">
                <a:solidFill>
                  <a:srgbClr val="fc0000"/>
                </a:solidFill>
                <a:latin typeface="Arial"/>
              </a:rPr>
              <a:t>B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a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029200" y="3124080"/>
            <a:ext cx="1849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c0000"/>
                </a:solidFill>
                <a:latin typeface="Arial"/>
              </a:rPr>
              <a:t>R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elación </a:t>
            </a:r>
            <a:r>
              <a:rPr b="1" lang="es-MX" sz="2000" spc="-1" strike="noStrike">
                <a:solidFill>
                  <a:srgbClr val="fc0000"/>
                </a:solidFill>
                <a:latin typeface="Arial"/>
              </a:rPr>
              <a:t>B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a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c0000"/>
                </a:solidFill>
                <a:latin typeface="Arial"/>
              </a:rPr>
              <a:t>T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area      </a:t>
            </a:r>
            <a:r>
              <a:rPr b="1" lang="es-MX" sz="2000" spc="-1" strike="noStrike">
                <a:solidFill>
                  <a:srgbClr val="fc0000"/>
                </a:solidFill>
                <a:latin typeface="Arial"/>
              </a:rPr>
              <a:t>A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l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509800" y="3976560"/>
            <a:ext cx="81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E 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rot="16146000">
            <a:off x="840240" y="2666160"/>
            <a:ext cx="200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Arial"/>
              </a:rPr>
              <a:t>Comportami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Arial"/>
              </a:rPr>
              <a:t>de Rel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735000" y="5073480"/>
            <a:ext cx="240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Arial"/>
              </a:rPr>
              <a:t>Comportamiento d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Arial"/>
              </a:rPr>
              <a:t>Tare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95880" y="5226120"/>
            <a:ext cx="60984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3124080" y="5216400"/>
            <a:ext cx="609840" cy="169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9880" bIns="-29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650960" y="914400"/>
            <a:ext cx="55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(+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705720" y="4952880"/>
            <a:ext cx="55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(+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413800" y="4952880"/>
            <a:ext cx="48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(-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77240" y="4572000"/>
            <a:ext cx="48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(-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905120" y="3886200"/>
            <a:ext cx="0" cy="6094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1905120" y="1371240"/>
            <a:ext cx="0" cy="6094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278160" y="5927760"/>
            <a:ext cx="2812680" cy="337320"/>
          </a:xfrm>
          <a:prstGeom prst="rect">
            <a:avLst/>
          </a:prstGeom>
          <a:solidFill>
            <a:srgbClr val="ffff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48"/>
                </a:solidFill>
                <a:latin typeface="Arial"/>
              </a:rPr>
              <a:t>LIDERAZGO SITUAC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c"/>
            </a:gs>
            <a:gs pos="100000">
              <a:srgbClr val="1e1e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611280" y="304920"/>
            <a:ext cx="8064360" cy="52056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53753" dir="2700000" blurRad="0" rotWithShape="0">
              <a:srgbClr val="939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s-CL" sz="2000" spc="-1" strike="noStrike">
                <a:solidFill>
                  <a:srgbClr val="000066"/>
                </a:solidFill>
                <a:latin typeface="Arial"/>
              </a:rPr>
              <a:t>Estilo del Gerente  vs. Preparación del Colabora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620720" y="44640"/>
            <a:ext cx="5614920" cy="6816600"/>
            <a:chOff x="1620720" y="44640"/>
            <a:chExt cx="5614920" cy="6816600"/>
          </a:xfrm>
        </p:grpSpPr>
        <p:sp>
          <p:nvSpPr>
            <p:cNvPr id="81" name=""/>
            <p:cNvSpPr/>
            <p:nvPr/>
          </p:nvSpPr>
          <p:spPr>
            <a:xfrm>
              <a:off x="2266920" y="909720"/>
              <a:ext cx="1008000" cy="201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266920" y="2925720"/>
              <a:ext cx="1008000" cy="201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274920" y="909720"/>
              <a:ext cx="1008000" cy="201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274920" y="2925720"/>
              <a:ext cx="1008000" cy="201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282920" y="909720"/>
              <a:ext cx="1008000" cy="201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282920" y="2925720"/>
              <a:ext cx="1008000" cy="201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290920" y="909720"/>
              <a:ext cx="1008000" cy="201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290920" y="2925720"/>
              <a:ext cx="1008000" cy="201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9" name=""/>
            <p:cNvCxnSpPr>
              <a:stCxn id="82" idx="1"/>
              <a:endCxn id="88" idx="3"/>
            </p:cNvCxnSpPr>
            <p:nvPr/>
          </p:nvCxnSpPr>
          <p:spPr>
            <a:xfrm>
              <a:off x="2266920" y="3932640"/>
              <a:ext cx="4032720" cy="2520"/>
            </a:xfrm>
            <a:prstGeom prst="curvedConnector5">
              <a:avLst>
                <a:gd name="adj1" fmla="val 23578"/>
                <a:gd name="adj2" fmla="val -90000000"/>
                <a:gd name="adj3" fmla="val 23578"/>
              </a:avLst>
            </a:prstGeom>
            <a:ln w="57240">
              <a:solidFill>
                <a:srgbClr val="000000"/>
              </a:solidFill>
              <a:miter/>
            </a:ln>
          </p:spPr>
        </p:cxnSp>
        <p:sp>
          <p:nvSpPr>
            <p:cNvPr id="90" name=""/>
            <p:cNvSpPr/>
            <p:nvPr/>
          </p:nvSpPr>
          <p:spPr>
            <a:xfrm>
              <a:off x="2266920" y="4869000"/>
              <a:ext cx="4032000" cy="57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400" spc="-1" strike="noStrike">
                  <a:solidFill>
                    <a:srgbClr val="ffffff"/>
                  </a:solidFill>
                  <a:latin typeface="Times New Roman"/>
                </a:rPr>
                <a:t>Comportamiento de tare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629080" y="4484520"/>
              <a:ext cx="61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400" spc="-1" strike="noStrike">
                  <a:solidFill>
                    <a:srgbClr val="000000"/>
                  </a:solidFill>
                  <a:latin typeface="Times New Roman"/>
                </a:rPr>
                <a:t>E 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0" y="2492280"/>
              <a:ext cx="61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400" spc="-1" strike="noStrike">
                  <a:solidFill>
                    <a:srgbClr val="000000"/>
                  </a:solidFill>
                  <a:latin typeface="Times New Roman"/>
                </a:rPr>
                <a:t>E 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460760" y="2467080"/>
              <a:ext cx="61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400" spc="-1" strike="noStrike">
                  <a:solidFill>
                    <a:srgbClr val="000000"/>
                  </a:solidFill>
                  <a:latin typeface="Times New Roman"/>
                </a:rPr>
                <a:t>E 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540400" y="4508640"/>
              <a:ext cx="61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400" spc="-1" strike="noStrike">
                  <a:solidFill>
                    <a:srgbClr val="000000"/>
                  </a:solidFill>
                  <a:latin typeface="Times New Roman"/>
                </a:rPr>
                <a:t>E 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345840" y="4551480"/>
              <a:ext cx="758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Times New Roman"/>
                </a:rPr>
                <a:t>relació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353840" y="4551480"/>
              <a:ext cx="758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Times New Roman"/>
                </a:rPr>
                <a:t>relació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346200" y="2997360"/>
              <a:ext cx="865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Times New Roman"/>
                </a:rPr>
                <a:t>tare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354200" y="2997360"/>
              <a:ext cx="865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Times New Roman"/>
                </a:rPr>
                <a:t>TARE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362560" y="981000"/>
              <a:ext cx="86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Times New Roman"/>
                </a:rPr>
                <a:t>TARE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146560" y="2133720"/>
              <a:ext cx="1368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Times New Roman"/>
                </a:rPr>
                <a:t>RELAC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338200" y="1052640"/>
              <a:ext cx="86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Times New Roman"/>
                </a:rPr>
                <a:t>tare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122200" y="1916280"/>
              <a:ext cx="1368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Times New Roman"/>
                </a:rPr>
                <a:t>RELAC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266920" y="5443560"/>
              <a:ext cx="4032000" cy="1081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338200" y="5877000"/>
              <a:ext cx="3889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338200" y="5659560"/>
              <a:ext cx="0" cy="433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274920" y="5659560"/>
              <a:ext cx="0" cy="43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282920" y="5659560"/>
              <a:ext cx="0" cy="43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290920" y="5659560"/>
              <a:ext cx="0" cy="43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27640" y="5659560"/>
              <a:ext cx="0" cy="433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195640" y="6019920"/>
              <a:ext cx="613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000000"/>
                  </a:solidFill>
                  <a:latin typeface="Times New Roman"/>
                </a:rPr>
                <a:t>M 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164040" y="6019920"/>
              <a:ext cx="613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000000"/>
                  </a:solidFill>
                  <a:latin typeface="Times New Roman"/>
                </a:rPr>
                <a:t>M 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173840" y="6019920"/>
              <a:ext cx="613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000000"/>
                  </a:solidFill>
                  <a:latin typeface="Times New Roman"/>
                </a:rPr>
                <a:t>M 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181840" y="6019920"/>
              <a:ext cx="613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000000"/>
                  </a:solidFill>
                  <a:latin typeface="Times New Roman"/>
                </a:rPr>
                <a:t>M 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631040" y="2727360"/>
              <a:ext cx="393876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300" spc="-1" strike="noStrike">
                  <a:solidFill>
                    <a:srgbClr val="ffffff"/>
                  </a:solidFill>
                  <a:latin typeface="Times New Roman"/>
                </a:rPr>
                <a:t>ESTILO DEL CONDUCTOR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rot="16200000">
              <a:off x="-42480" y="2736360"/>
              <a:ext cx="377136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300" spc="-1" strike="noStrike">
                  <a:solidFill>
                    <a:srgbClr val="ffffff"/>
                  </a:solidFill>
                  <a:latin typeface="Times New Roman"/>
                </a:rPr>
                <a:t>Comportamiento de relación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rot="5400000">
              <a:off x="6022080" y="5647680"/>
              <a:ext cx="18464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ffffff"/>
                  </a:solidFill>
                  <a:latin typeface="Times New Roman"/>
                </a:rPr>
                <a:t>MADUREZ DE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ffffff"/>
                  </a:solidFill>
                  <a:latin typeface="Times New Roman"/>
                </a:rPr>
                <a:t>COLABORAD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5400000">
              <a:off x="5543280" y="5767560"/>
              <a:ext cx="184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ffffff"/>
                  </a:solidFill>
                  <a:latin typeface="Times New Roman"/>
                </a:rPr>
                <a:t>Inmadu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16200000">
              <a:off x="1080360" y="5765760"/>
              <a:ext cx="184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ffffff"/>
                  </a:solidFill>
                  <a:latin typeface="Times New Roman"/>
                </a:rPr>
                <a:t>Madu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221560" y="5397480"/>
              <a:ext cx="834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600" spc="-1" strike="noStrike">
                  <a:solidFill>
                    <a:srgbClr val="000000"/>
                  </a:solidFill>
                  <a:latin typeface="Times New Roman"/>
                </a:rPr>
                <a:t>Elevad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277800" y="5397480"/>
              <a:ext cx="1003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600" spc="-1" strike="noStrike">
                  <a:solidFill>
                    <a:srgbClr val="000000"/>
                  </a:solidFill>
                  <a:latin typeface="Times New Roman"/>
                </a:rPr>
                <a:t>Moderad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291640" y="539748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600" spc="-1" strike="noStrike">
                  <a:solidFill>
                    <a:srgbClr val="000000"/>
                  </a:solidFill>
                  <a:latin typeface="Times New Roman"/>
                </a:rPr>
                <a:t>Baj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77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6" dur="770" fill="hold"/>
                                        <p:tgtEl>
                                          <p:spTgt spid="8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8" dur="77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0" dur="77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c"/>
            </a:gs>
            <a:gs pos="100000">
              <a:srgbClr val="1e1e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2743200" y="1219320"/>
            <a:ext cx="3352680" cy="2590560"/>
          </a:xfrm>
          <a:prstGeom prst="rect">
            <a:avLst/>
          </a:prstGeom>
          <a:solidFill>
            <a:srgbClr val="f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743200" y="3809880"/>
            <a:ext cx="3352680" cy="259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012920" y="1492200"/>
            <a:ext cx="7858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6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03040" y="2590920"/>
            <a:ext cx="1301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Baj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45600" y="3930480"/>
            <a:ext cx="692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66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735000" y="5029200"/>
            <a:ext cx="1145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Al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219320" y="152280"/>
            <a:ext cx="6705360" cy="764280"/>
          </a:xfrm>
          <a:prstGeom prst="rect">
            <a:avLst/>
          </a:prstGeom>
          <a:solidFill>
            <a:srgbClr val="ffff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000048"/>
                </a:solidFill>
                <a:latin typeface="Times New Roman"/>
              </a:rPr>
              <a:t>ESTILO 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c"/>
            </a:gs>
            <a:gs pos="100000">
              <a:srgbClr val="1e1e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611280" y="304920"/>
            <a:ext cx="8064360" cy="58140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53753" dir="2700000" blurRad="0" rotWithShape="0">
              <a:srgbClr val="939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s-CL" sz="3200" spc="-1" strike="noStrike">
                <a:solidFill>
                  <a:srgbClr val="000066"/>
                </a:solidFill>
                <a:latin typeface="Arial"/>
              </a:rPr>
              <a:t>Descripción Estilo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346480" y="1600200"/>
            <a:ext cx="2666880" cy="2209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641760" y="1600200"/>
            <a:ext cx="0" cy="2209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346480" y="2743200"/>
            <a:ext cx="2666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3" name=""/>
          <p:cNvCxnSpPr/>
          <p:nvPr/>
        </p:nvCxnSpPr>
        <p:spPr>
          <a:xfrm>
            <a:off x="2346480" y="3198960"/>
            <a:ext cx="2667240" cy="2160"/>
          </a:xfrm>
          <a:prstGeom prst="curvedConnector5">
            <a:avLst>
              <a:gd name="adj1" fmla="val 32019"/>
              <a:gd name="adj2" fmla="val -37300000"/>
              <a:gd name="adj3" fmla="val 32019"/>
            </a:avLst>
          </a:prstGeom>
          <a:ln w="57240">
            <a:solidFill>
              <a:srgbClr val="000000"/>
            </a:solidFill>
            <a:miter/>
          </a:ln>
        </p:spPr>
      </p:cxnSp>
      <p:sp>
        <p:nvSpPr>
          <p:cNvPr id="134" name=""/>
          <p:cNvSpPr/>
          <p:nvPr/>
        </p:nvSpPr>
        <p:spPr>
          <a:xfrm>
            <a:off x="3809880" y="2895480"/>
            <a:ext cx="4343400" cy="2590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836880" y="2924280"/>
            <a:ext cx="4340880" cy="2533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48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6e"/>
                </a:solidFill>
                <a:latin typeface="Arial"/>
              </a:rPr>
              <a:t>Quién , qué, dónde, cuándo y có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e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6e"/>
                </a:solidFill>
                <a:latin typeface="Arial"/>
              </a:rPr>
              <a:t>Roles y tareas definid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e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6e"/>
                </a:solidFill>
                <a:latin typeface="Arial"/>
              </a:rPr>
              <a:t>Comunicación unidirecc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e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6e"/>
                </a:solidFill>
                <a:latin typeface="Arial"/>
              </a:rPr>
              <a:t>Supervisión estrech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e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6e"/>
                </a:solidFill>
                <a:latin typeface="Arial"/>
              </a:rPr>
              <a:t>Solicita repor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e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6e"/>
                </a:solidFill>
                <a:latin typeface="Arial"/>
              </a:rPr>
              <a:t>Instrucciones secuenci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e"/>
                </a:solidFill>
                <a:latin typeface="Arial"/>
              </a:rPr>
              <a:t>Tareas simplificadas y específ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81240" y="4267080"/>
            <a:ext cx="1136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 u="sng">
                <a:solidFill>
                  <a:srgbClr val="ffffff"/>
                </a:solidFill>
                <a:uFillTx/>
                <a:latin typeface="Times New Roman"/>
              </a:rPr>
              <a:t>Efica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Deci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Conduci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Dirigi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Establec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83000" y="4267080"/>
            <a:ext cx="1215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 u="sng">
                <a:solidFill>
                  <a:srgbClr val="ffffff"/>
                </a:solidFill>
                <a:uFillTx/>
                <a:latin typeface="Times New Roman"/>
              </a:rPr>
              <a:t>Inefica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Exigi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Rebaj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Domin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Atac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c"/>
            </a:gs>
            <a:gs pos="100000">
              <a:srgbClr val="1e1e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2743200" y="1219320"/>
            <a:ext cx="3352680" cy="2590560"/>
          </a:xfrm>
          <a:prstGeom prst="rect">
            <a:avLst/>
          </a:prstGeom>
          <a:solidFill>
            <a:srgbClr val="f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743200" y="3809880"/>
            <a:ext cx="3352680" cy="259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012920" y="1492200"/>
            <a:ext cx="7858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6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803040" y="2590920"/>
            <a:ext cx="1145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Al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945600" y="3930480"/>
            <a:ext cx="692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66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735000" y="5029200"/>
            <a:ext cx="1145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Al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19320" y="152280"/>
            <a:ext cx="6705360" cy="764280"/>
          </a:xfrm>
          <a:prstGeom prst="rect">
            <a:avLst/>
          </a:prstGeom>
          <a:solidFill>
            <a:srgbClr val="ffff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000048"/>
                </a:solidFill>
                <a:latin typeface="Times New Roman"/>
              </a:rPr>
              <a:t>ESTILO 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c"/>
            </a:gs>
            <a:gs pos="100000">
              <a:srgbClr val="1e1e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611280" y="304920"/>
            <a:ext cx="8064360" cy="58140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53753" dir="2700000" blurRad="0" rotWithShape="0">
              <a:srgbClr val="939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s-CL" sz="3200" spc="-1" strike="noStrike">
                <a:solidFill>
                  <a:srgbClr val="000066"/>
                </a:solidFill>
                <a:latin typeface="Arial"/>
              </a:rPr>
              <a:t>Descripción Estilo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916360" y="3429000"/>
            <a:ext cx="2666880" cy="2209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211640" y="3429000"/>
            <a:ext cx="0" cy="2209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890800" y="4572000"/>
            <a:ext cx="2692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9" name=""/>
          <p:cNvCxnSpPr/>
          <p:nvPr/>
        </p:nvCxnSpPr>
        <p:spPr>
          <a:xfrm>
            <a:off x="2916360" y="5027760"/>
            <a:ext cx="2667240" cy="2160"/>
          </a:xfrm>
          <a:prstGeom prst="curvedConnector5">
            <a:avLst>
              <a:gd name="adj1" fmla="val 32019"/>
              <a:gd name="adj2" fmla="val -37300000"/>
              <a:gd name="adj3" fmla="val 32019"/>
            </a:avLst>
          </a:prstGeom>
          <a:ln w="57240">
            <a:solidFill>
              <a:srgbClr val="000000"/>
            </a:solidFill>
            <a:miter/>
          </a:ln>
        </p:spPr>
      </p:cxnSp>
      <p:sp>
        <p:nvSpPr>
          <p:cNvPr id="150" name=""/>
          <p:cNvSpPr/>
          <p:nvPr/>
        </p:nvSpPr>
        <p:spPr>
          <a:xfrm>
            <a:off x="4365720" y="1536840"/>
            <a:ext cx="4383000" cy="31161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425840" y="1557360"/>
            <a:ext cx="4394160" cy="31431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 algn="just">
              <a:lnSpc>
                <a:spcPct val="100000"/>
              </a:lnSpc>
              <a:buClr>
                <a:srgbClr val="0000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e"/>
                </a:solidFill>
                <a:latin typeface="Arial"/>
              </a:rPr>
              <a:t>Informa Quién, qué, dónde, cuándo y có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 algn="just">
              <a:lnSpc>
                <a:spcPct val="100000"/>
              </a:lnSpc>
              <a:buClr>
                <a:srgbClr val="0000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e"/>
                </a:solidFill>
                <a:latin typeface="Arial"/>
              </a:rPr>
              <a:t>Explica decisiones, permite aclar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 algn="just">
              <a:lnSpc>
                <a:spcPct val="100000"/>
              </a:lnSpc>
              <a:buClr>
                <a:srgbClr val="0000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e"/>
                </a:solidFill>
                <a:latin typeface="Arial"/>
              </a:rPr>
              <a:t>Diálo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 algn="just">
              <a:lnSpc>
                <a:spcPct val="100000"/>
              </a:lnSpc>
              <a:buClr>
                <a:srgbClr val="0000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e"/>
                </a:solidFill>
                <a:latin typeface="Arial"/>
              </a:rPr>
              <a:t>Líder toma las decis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 algn="just">
              <a:lnSpc>
                <a:spcPct val="100000"/>
              </a:lnSpc>
              <a:buClr>
                <a:srgbClr val="0000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e"/>
                </a:solidFill>
                <a:latin typeface="Arial"/>
              </a:rPr>
              <a:t>Explica la función del colabora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 algn="just">
              <a:lnSpc>
                <a:spcPct val="100000"/>
              </a:lnSpc>
              <a:buClr>
                <a:srgbClr val="0000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e"/>
                </a:solidFill>
                <a:latin typeface="Arial"/>
              </a:rPr>
              <a:t>Pregunta para aclarar nivel de prepa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 algn="just">
              <a:lnSpc>
                <a:spcPct val="100000"/>
              </a:lnSpc>
              <a:buClr>
                <a:srgbClr val="0000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e"/>
                </a:solidFill>
                <a:latin typeface="Arial"/>
              </a:rPr>
              <a:t>Refuerza progres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5640" y="4076640"/>
            <a:ext cx="1172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 u="sng">
                <a:solidFill>
                  <a:srgbClr val="ffffff"/>
                </a:solidFill>
                <a:uFillTx/>
                <a:latin typeface="Times New Roman"/>
              </a:rPr>
              <a:t>Efica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Convenc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Explic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Aclar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Persuadi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336320" y="4076640"/>
            <a:ext cx="1340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 u="sng">
                <a:solidFill>
                  <a:srgbClr val="ffffff"/>
                </a:solidFill>
                <a:uFillTx/>
                <a:latin typeface="Times New Roman"/>
              </a:rPr>
              <a:t>Inefica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Manipul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Sermone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Defen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Racionaliz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c"/>
            </a:gs>
            <a:gs pos="100000">
              <a:srgbClr val="1e1e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2743200" y="1219320"/>
            <a:ext cx="3352680" cy="2590560"/>
          </a:xfrm>
          <a:prstGeom prst="rect">
            <a:avLst/>
          </a:prstGeom>
          <a:solidFill>
            <a:srgbClr val="f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743200" y="3809880"/>
            <a:ext cx="3352680" cy="259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012920" y="1492200"/>
            <a:ext cx="7858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6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3040" y="2590920"/>
            <a:ext cx="1145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Al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945600" y="3930480"/>
            <a:ext cx="692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66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735000" y="5029200"/>
            <a:ext cx="1301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Baj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219320" y="152280"/>
            <a:ext cx="6705360" cy="764280"/>
          </a:xfrm>
          <a:prstGeom prst="rect">
            <a:avLst/>
          </a:prstGeom>
          <a:solidFill>
            <a:srgbClr val="ffff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000048"/>
                </a:solidFill>
                <a:latin typeface="Times New Roman"/>
              </a:rPr>
              <a:t>ESTILO  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19T02:59:19Z</dcterms:created>
  <dc:creator>.</dc:creator>
  <dc:description/>
  <dc:language>en-US</dc:language>
  <cp:lastModifiedBy>usuario</cp:lastModifiedBy>
  <dcterms:modified xsi:type="dcterms:W3CDTF">2004-03-17T17:10:47Z</dcterms:modified>
  <cp:revision>61</cp:revision>
  <dc:subject/>
  <dc:title>Presentación de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569207456</vt:r8>
  </property>
  <property fmtid="{D5CDD505-2E9C-101B-9397-08002B2CF9AE}" pid="3" name="_AuthorEmail">
    <vt:lpwstr>jlklapp@humana.cl</vt:lpwstr>
  </property>
  <property fmtid="{D5CDD505-2E9C-101B-9397-08002B2CF9AE}" pid="4" name="_AuthorEmailDisplayName">
    <vt:lpwstr>Jose Luis Klapp</vt:lpwstr>
  </property>
  <property fmtid="{D5CDD505-2E9C-101B-9397-08002B2CF9AE}" pid="5" name="_EmailSubject">
    <vt:lpwstr>Presentación</vt:lpwstr>
  </property>
</Properties>
</file>