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24EC-2D8B-44F9-AF52-2FFFFDB29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F7EF-E7BD-4EA5-9EE9-5B17C9F6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20F2-C7AD-492E-9390-EB928FF9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9C9B-D5F4-4202-9E6E-58E0E1A21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8ECB-7D8E-4EB5-B3A7-C4635F7B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BBE7-878E-46F4-98BC-73B8E237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182B-DB28-4274-939A-6F12385B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4038-C426-4976-8DE7-E06592DE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543B-FB1C-420A-AF26-45407C44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3273-406F-4774-89FE-1DB59311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C864-8B09-4C1B-8621-47FF7749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45E7-501C-43A6-9284-B0D4DBD9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4DAB-4B53-40C0-AA4B-B8BFD712EFD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40" y="6629400"/>
            <a:ext cx="144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ff"/>
                </a:solidFill>
                <a:latin typeface="Arial"/>
              </a:rPr>
              <a:t>RECURSOS 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404640"/>
            <a:ext cx="820908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66"/>
                </a:solidFill>
                <a:latin typeface="Verdana"/>
              </a:rPr>
              <a:t>BALANCED SCOREC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66"/>
                </a:solidFill>
                <a:latin typeface="Verdana"/>
              </a:rPr>
              <a:t>BS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0920" y="1773360"/>
            <a:ext cx="4824720" cy="79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e98d"/>
                </a:solidFill>
                <a:latin typeface="Franklin Gothic Heavy"/>
              </a:rPr>
              <a:t>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38560" y="2637000"/>
            <a:ext cx="720720" cy="431640"/>
          </a:xfrm>
          <a:prstGeom prst="upDownArrow">
            <a:avLst>
              <a:gd name="adj1" fmla="val 50000"/>
              <a:gd name="adj2" fmla="val 19907"/>
            </a:avLst>
          </a:prstGeom>
          <a:gradFill rotWithShape="0">
            <a:gsLst>
              <a:gs pos="0">
                <a:srgbClr val="900000"/>
              </a:gs>
              <a:gs pos="100000">
                <a:srgbClr val="fc0000">
                  <a:alpha val="92156"/>
                </a:srgbClr>
              </a:gs>
            </a:gsLst>
            <a:lin ang="13500000"/>
          </a:gradFill>
          <a:ln w="93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3141720"/>
            <a:ext cx="4824720" cy="79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e98d"/>
                </a:solidFill>
                <a:latin typeface="Franklin Gothic Heavy"/>
              </a:rPr>
              <a:t>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10200" y="4005360"/>
            <a:ext cx="720720" cy="431640"/>
          </a:xfrm>
          <a:prstGeom prst="upDownArrow">
            <a:avLst>
              <a:gd name="adj1" fmla="val 50000"/>
              <a:gd name="adj2" fmla="val 19907"/>
            </a:avLst>
          </a:prstGeom>
          <a:gradFill rotWithShape="0">
            <a:gsLst>
              <a:gs pos="0">
                <a:srgbClr val="900000"/>
              </a:gs>
              <a:gs pos="100000">
                <a:srgbClr val="fc0000">
                  <a:alpha val="92156"/>
                </a:srgbClr>
              </a:gs>
            </a:gsLst>
            <a:lin ang="13500000"/>
          </a:gradFill>
          <a:ln w="93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22560" y="4508640"/>
            <a:ext cx="4824360" cy="79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e98d"/>
                </a:solidFill>
                <a:latin typeface="Franklin Gothic Heavy"/>
              </a:rPr>
              <a:t>PROCESOS INTER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10200" y="5373720"/>
            <a:ext cx="720720" cy="431640"/>
          </a:xfrm>
          <a:prstGeom prst="upDownArrow">
            <a:avLst>
              <a:gd name="adj1" fmla="val 50000"/>
              <a:gd name="adj2" fmla="val 19907"/>
            </a:avLst>
          </a:prstGeom>
          <a:gradFill rotWithShape="0">
            <a:gsLst>
              <a:gs pos="0">
                <a:srgbClr val="900000"/>
              </a:gs>
              <a:gs pos="100000">
                <a:srgbClr val="fc0000">
                  <a:alpha val="92156"/>
                </a:srgbClr>
              </a:gs>
            </a:gsLst>
            <a:lin ang="13500000"/>
          </a:gradFill>
          <a:ln w="93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22560" y="5877000"/>
            <a:ext cx="4824360" cy="79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e98d"/>
                </a:solidFill>
                <a:latin typeface="Franklin Gothic Heavy"/>
              </a:rPr>
              <a:t>RECURSOS HUM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11280" y="304920"/>
            <a:ext cx="806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000066"/>
                </a:solidFill>
                <a:latin typeface="Arial"/>
              </a:rPr>
              <a:t>Descripción Estilo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87680" y="3090960"/>
            <a:ext cx="266688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82960" y="309096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87680" y="423396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/>
          <p:nvPr/>
        </p:nvCxnSpPr>
        <p:spPr>
          <a:xfrm>
            <a:off x="3487680" y="4688280"/>
            <a:ext cx="2667240" cy="2520"/>
          </a:xfrm>
          <a:prstGeom prst="curvedConnector5">
            <a:avLst>
              <a:gd name="adj1" fmla="val 32019"/>
              <a:gd name="adj2" fmla="val -37300000"/>
              <a:gd name="adj3" fmla="val 32019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166" name=""/>
          <p:cNvSpPr/>
          <p:nvPr/>
        </p:nvSpPr>
        <p:spPr>
          <a:xfrm>
            <a:off x="250920" y="1700280"/>
            <a:ext cx="4343400" cy="259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72720" y="4178160"/>
            <a:ext cx="107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articip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len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poy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Facul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68360" y="4178160"/>
            <a:ext cx="147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ro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pla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ndesc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acif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1700280"/>
            <a:ext cx="4248000" cy="25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stimula la comun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scucha activ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l colaborador toma deci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Compromiso y comunicación en dos dire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Apoya la toma de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Facilidad para el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xalta y fortalece la confia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743200" y="1219320"/>
            <a:ext cx="3352680" cy="2590560"/>
          </a:xfrm>
          <a:prstGeom prst="rect">
            <a:avLst/>
          </a:prstGeom>
          <a:solidFill>
            <a:srgbClr val="f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3809880"/>
            <a:ext cx="33526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12920" y="1492200"/>
            <a:ext cx="78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3040" y="259092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45600" y="3930480"/>
            <a:ext cx="69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35000" y="50292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152280"/>
            <a:ext cx="6705360" cy="76428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48"/>
                </a:solidFill>
                <a:latin typeface="Times New Roman"/>
              </a:rPr>
              <a:t>ESTILO 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11280" y="304920"/>
            <a:ext cx="806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000066"/>
                </a:solidFill>
                <a:latin typeface="Arial"/>
              </a:rPr>
              <a:t>Descripción Estilo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46680" y="1268280"/>
            <a:ext cx="266688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41960" y="126828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46680" y="24112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/>
          <p:nvPr/>
        </p:nvCxnSpPr>
        <p:spPr>
          <a:xfrm>
            <a:off x="3946680" y="2867040"/>
            <a:ext cx="2667240" cy="2160"/>
          </a:xfrm>
          <a:prstGeom prst="curvedConnector5">
            <a:avLst>
              <a:gd name="adj1" fmla="val 32019"/>
              <a:gd name="adj2" fmla="val -37300000"/>
              <a:gd name="adj3" fmla="val 32019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6367680" y="4149720"/>
            <a:ext cx="101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eleg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bserv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nfi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sig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68000" y="4149720"/>
            <a:ext cx="121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esat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escarg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vi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bando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2567160"/>
            <a:ext cx="4343400" cy="259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8720" y="2627280"/>
            <a:ext cx="4248000" cy="25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Delega t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xplicaciones muy gene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l colaborador toma las deci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Supervisión lig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Verifica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Refuerza l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Se mantiene acce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11280" y="304920"/>
            <a:ext cx="8064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600" spc="-1" strike="noStrike">
                <a:solidFill>
                  <a:srgbClr val="000066"/>
                </a:solidFill>
                <a:latin typeface="Arial"/>
              </a:rPr>
              <a:t>Estilos y Resposabilidad del Lí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4360" y="1773360"/>
            <a:ext cx="79930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o importando el estilo que esté aplicando, para ser un buen líder usted de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4360" y="3083040"/>
            <a:ext cx="7993080" cy="146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72396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Establecer y comunicar objetiv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72396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Monitorear el desempeñ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72396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Proporcionar “feedback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11280" y="304920"/>
            <a:ext cx="8064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600" spc="-1" strike="noStrike">
                <a:solidFill>
                  <a:srgbClr val="000066"/>
                </a:solidFill>
                <a:latin typeface="Arial"/>
              </a:rPr>
              <a:t>Escogiendo el Esti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4360" y="1773360"/>
            <a:ext cx="79930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e"/>
                </a:solidFill>
                <a:latin typeface="Times New Roman"/>
              </a:rPr>
              <a:t>Para determinar el Estilo de Dirección a aplicar, usted debe tener en cuenta los siguientes factor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4360" y="3083040"/>
            <a:ext cx="799308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723960">
              <a:buClr>
                <a:srgbClr val="00006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e"/>
                </a:solidFill>
                <a:latin typeface="Times New Roman"/>
              </a:rPr>
              <a:t>El nivel de desarrollo del colabor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723960">
              <a:buClr>
                <a:srgbClr val="00006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e"/>
                </a:solidFill>
                <a:latin typeface="Times New Roman"/>
              </a:rPr>
              <a:t>El grado de criticidad del en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723960">
              <a:buClr>
                <a:srgbClr val="00006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e"/>
                </a:solidFill>
                <a:latin typeface="Times New Roman"/>
              </a:rPr>
              <a:t>La flexibilidad del propio líder para ajustar su estilo a las situaciones específ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11280" y="304920"/>
            <a:ext cx="806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000066"/>
                </a:solidFill>
                <a:latin typeface="Arial"/>
              </a:rPr>
              <a:t>Contexto y Lideraz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2760" y="3352680"/>
            <a:ext cx="1539720" cy="45972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ntex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60640" y="3352680"/>
            <a:ext cx="1540080" cy="45972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55960" y="1981080"/>
            <a:ext cx="1539720" cy="45972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87640" y="4653000"/>
            <a:ext cx="1540080" cy="45972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752480" y="2286000"/>
            <a:ext cx="1143000" cy="1295280"/>
          </a:xfrm>
          <a:prstGeom prst="line">
            <a:avLst/>
          </a:prstGeom>
          <a:ln w="57240">
            <a:solidFill>
              <a:srgbClr val="ffff0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81480" y="1670040"/>
            <a:ext cx="3886200" cy="103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Cambios en la legislaciones que regulan el nego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Cambios en la forma del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2997360"/>
            <a:ext cx="3886200" cy="13129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Cambios en la estructura de la Organiz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Fusiones, adquisiciones y part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4581360"/>
            <a:ext cx="3886200" cy="764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Estilo de Liderazgo Corpo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Estilo de Liderazgo del  Supervi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3581280"/>
            <a:ext cx="1067040" cy="0"/>
          </a:xfrm>
          <a:prstGeom prst="line">
            <a:avLst/>
          </a:prstGeom>
          <a:ln w="57240">
            <a:solidFill>
              <a:srgbClr val="ffff0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75880" y="3568680"/>
            <a:ext cx="1055160" cy="1308240"/>
          </a:xfrm>
          <a:prstGeom prst="line">
            <a:avLst/>
          </a:prstGeom>
          <a:ln w="57240">
            <a:solidFill>
              <a:srgbClr val="ffff0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500720" y="2205000"/>
            <a:ext cx="502920" cy="7920"/>
          </a:xfrm>
          <a:prstGeom prst="line">
            <a:avLst/>
          </a:prstGeom>
          <a:ln w="57240">
            <a:solidFill>
              <a:srgbClr val="ffff0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500720" y="3573360"/>
            <a:ext cx="502920" cy="7920"/>
          </a:xfrm>
          <a:prstGeom prst="line">
            <a:avLst/>
          </a:prstGeom>
          <a:ln w="57240">
            <a:solidFill>
              <a:srgbClr val="ffff0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532400" y="4937040"/>
            <a:ext cx="503280" cy="7920"/>
          </a:xfrm>
          <a:prstGeom prst="line">
            <a:avLst/>
          </a:prstGeom>
          <a:ln w="57240">
            <a:solidFill>
              <a:srgbClr val="ffff0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11280" y="304920"/>
            <a:ext cx="8064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Variación de los Esti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3352680"/>
            <a:ext cx="266688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VARI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37040" y="1981080"/>
            <a:ext cx="2683080" cy="703440"/>
          </a:xfrm>
          <a:prstGeom prst="rect">
            <a:avLst/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Dire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37040" y="4800600"/>
            <a:ext cx="2683080" cy="703440"/>
          </a:xfrm>
          <a:prstGeom prst="rect">
            <a:avLst/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Sopo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3505320" y="2437920"/>
            <a:ext cx="1371600" cy="1143000"/>
          </a:xfrm>
          <a:prstGeom prst="line">
            <a:avLst/>
          </a:prstGeom>
          <a:ln w="76320">
            <a:solidFill>
              <a:srgbClr val="f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24040" y="3720600"/>
            <a:ext cx="1317960" cy="1504440"/>
          </a:xfrm>
          <a:prstGeom prst="line">
            <a:avLst/>
          </a:prstGeom>
          <a:ln w="76320">
            <a:solidFill>
              <a:srgbClr val="f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11280" y="304920"/>
            <a:ext cx="806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000066"/>
                </a:solidFill>
                <a:latin typeface="Arial"/>
              </a:rPr>
              <a:t>Dirección y So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1828800"/>
            <a:ext cx="5181480" cy="82548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Conductas que determinan el quién, qué, dónde, cuándo y có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3416400"/>
            <a:ext cx="5257800" cy="216612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Conductas que reconocen y estimulan el desempeñ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lienta la presentación de ideas y sug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Participación en la toma de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1828800"/>
            <a:ext cx="2362320" cy="52056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95560" indent="-2095560" algn="just">
              <a:tabLst>
                <a:tab algn="l" pos="0"/>
                <a:tab algn="l" pos="1714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Dire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3429000"/>
            <a:ext cx="2362320" cy="52056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95560" indent="-2095560" algn="just">
              <a:tabLst>
                <a:tab algn="l" pos="0"/>
                <a:tab algn="l" pos="1714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Soporte  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986120" y="228600"/>
            <a:ext cx="54054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0880" y="380880"/>
            <a:ext cx="8458200" cy="5562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5410080"/>
            <a:ext cx="533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4267080"/>
            <a:ext cx="8458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2743200"/>
            <a:ext cx="84582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1219320"/>
            <a:ext cx="84582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380880"/>
            <a:ext cx="8458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4267080"/>
            <a:ext cx="53352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2743200"/>
            <a:ext cx="53352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1219320"/>
            <a:ext cx="53352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380880"/>
            <a:ext cx="533520" cy="838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410080"/>
            <a:ext cx="9907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05120" y="5410080"/>
            <a:ext cx="9903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95480" y="5410080"/>
            <a:ext cx="9907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5410080"/>
            <a:ext cx="9907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5410080"/>
            <a:ext cx="9903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67280" y="5410080"/>
            <a:ext cx="9907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0" y="5410080"/>
            <a:ext cx="9907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48720" y="5410080"/>
            <a:ext cx="9903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5486400"/>
            <a:ext cx="2286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38280" y="5486400"/>
            <a:ext cx="4572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1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5486400"/>
            <a:ext cx="4572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19720" y="5486400"/>
            <a:ext cx="4572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2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10080" y="5486400"/>
            <a:ext cx="4572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00800" y="5486400"/>
            <a:ext cx="4572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3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1520" y="5486400"/>
            <a:ext cx="4572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1880" y="5486400"/>
            <a:ext cx="4572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4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905120" y="4266720"/>
            <a:ext cx="99036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895480" y="27428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895480" y="1218960"/>
            <a:ext cx="99072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886200" y="380520"/>
            <a:ext cx="99072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886200" y="4343040"/>
            <a:ext cx="99072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876920" y="28191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876920" y="1295280"/>
            <a:ext cx="99036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867280" y="38088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867280" y="4343040"/>
            <a:ext cx="99072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858000" y="28191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858000" y="1295280"/>
            <a:ext cx="99072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7848720" y="380880"/>
            <a:ext cx="9903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1440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95480" y="3124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99640" y="2830680"/>
            <a:ext cx="4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96560" y="2819520"/>
            <a:ext cx="4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33360" y="2819520"/>
            <a:ext cx="4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9080" y="2819520"/>
            <a:ext cx="4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58920" y="533520"/>
            <a:ext cx="6818400" cy="61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66"/>
                </a:solidFill>
                <a:latin typeface="Verdana"/>
              </a:rPr>
              <a:t>OBJETIVOS DEL TALL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429000"/>
            <a:ext cx="6913440" cy="131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buClr>
                <a:srgbClr val="0000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Times New Roman"/>
              </a:rPr>
              <a:t>Conocer y practicar estilos de liderazgo en correspondencia con las características de los colaboradores, el contexto del negocio y el desarrollo de las personas y los equipos en función de los objetivos estratégicos del negoc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2362320"/>
            <a:ext cx="6913440" cy="100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buClr>
                <a:srgbClr val="000099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</a:rPr>
              <a:t>Reconocer el rol y fortalecer al jefe directo como principal coach, en el desarrollo de las competencias de los equipos y las perso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1308240"/>
            <a:ext cx="6913440" cy="100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Times New Roman"/>
              </a:rPr>
              <a:t>Identificar y practicar los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distintos </a:t>
            </a:r>
            <a:r>
              <a:rPr b="0" lang="es-MX" sz="2000" spc="-1" strike="noStrike">
                <a:solidFill>
                  <a:srgbClr val="000099"/>
                </a:solidFill>
                <a:latin typeface="Times New Roman"/>
              </a:rPr>
              <a:t>procesos e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n el ciclo de la gestión de los recursos humanos y su impacto directo en los resultados</a:t>
            </a:r>
            <a:r>
              <a:rPr b="0" lang="es-MX" sz="2000" spc="-1" strike="noStrike">
                <a:solidFill>
                  <a:srgbClr val="000099"/>
                </a:solidFill>
                <a:latin typeface="Times New Roman"/>
              </a:rPr>
              <a:t> del negocio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4800600"/>
            <a:ext cx="6913440" cy="100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buClr>
                <a:srgbClr val="0000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</a:rPr>
              <a:t>Reconocer a las gerencia de línea como uno de los más importantes transmisores de las políticas de Recursos Humanos en las organizacion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350"/>
                            </p:stCondLst>
                            <p:childTnLst>
                              <p:par>
                                <p:cTn id="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850"/>
                            </p:stCondLst>
                            <p:childTnLst>
                              <p:par>
                                <p:cTn id="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350"/>
                            </p:stCondLst>
                            <p:childTnLst>
                              <p:par>
                                <p:cTn id="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85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11280" y="304920"/>
            <a:ext cx="8064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El Factor Hu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50920" y="1125360"/>
            <a:ext cx="5113440" cy="573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050920" y="909720"/>
            <a:ext cx="511344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l Factor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13080" y="1773360"/>
            <a:ext cx="446400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acer de la gente una ventaj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mpetitiva irrever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92360" y="3357720"/>
            <a:ext cx="2087640" cy="50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mpe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500720" y="3860640"/>
            <a:ext cx="0" cy="64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68360" y="6021360"/>
            <a:ext cx="208764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SATISFAC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932360" y="6021360"/>
            <a:ext cx="208764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PRODU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348000" y="5084640"/>
            <a:ext cx="503280" cy="93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00640" y="5006160"/>
            <a:ext cx="586080" cy="1033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4510080"/>
            <a:ext cx="244764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EQU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24000" y="304920"/>
            <a:ext cx="8569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Brechas de Resultado vs Brechas de Desemp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971640" y="1268280"/>
            <a:ext cx="7345440" cy="4537080"/>
            <a:chOff x="971640" y="1268280"/>
            <a:chExt cx="7345440" cy="4537080"/>
          </a:xfrm>
        </p:grpSpPr>
        <p:sp>
          <p:nvSpPr>
            <p:cNvPr id="277" name=""/>
            <p:cNvSpPr/>
            <p:nvPr/>
          </p:nvSpPr>
          <p:spPr>
            <a:xfrm>
              <a:off x="5580000" y="3068640"/>
              <a:ext cx="2737080" cy="72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Times New Roman"/>
                </a:rPr>
                <a:t>Brech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96000" y="4653000"/>
              <a:ext cx="2376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6e"/>
                  </a:solidFill>
                  <a:latin typeface="Arial"/>
                </a:rPr>
                <a:t>Desempeñ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6e"/>
                  </a:solidFill>
                  <a:latin typeface="Arial"/>
                </a:rPr>
                <a:t>Esper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96000" y="1268280"/>
              <a:ext cx="2376720" cy="1152720"/>
            </a:xfrm>
            <a:prstGeom prst="rect">
              <a:avLst/>
            </a:prstGeom>
            <a:solidFill>
              <a:srgbClr val="00006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Arial"/>
                </a:rPr>
                <a:t>Desempeñ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Arial"/>
                </a:rPr>
                <a:t>Actu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58920" y="4653000"/>
              <a:ext cx="2376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6e"/>
                  </a:solidFill>
                  <a:latin typeface="Arial"/>
                </a:rPr>
                <a:t>Result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6e"/>
                  </a:solidFill>
                  <a:latin typeface="Arial"/>
                </a:rPr>
                <a:t>Esper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258920" y="1268280"/>
              <a:ext cx="2376720" cy="1152720"/>
            </a:xfrm>
            <a:prstGeom prst="rect">
              <a:avLst/>
            </a:prstGeom>
            <a:solidFill>
              <a:srgbClr val="00006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Arial"/>
                </a:rPr>
                <a:t>Result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Arial"/>
                </a:rPr>
                <a:t>Actu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948720" y="2421000"/>
              <a:ext cx="0" cy="2232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3706920" y="1844640"/>
              <a:ext cx="2016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706920" y="5229360"/>
              <a:ext cx="2016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71640" y="3068640"/>
              <a:ext cx="2736720" cy="72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Times New Roman"/>
                </a:rPr>
                <a:t>Brech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38560" y="2421000"/>
              <a:ext cx="1440" cy="2160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11280" y="304920"/>
            <a:ext cx="8064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STILOS DE COMPORTAMIENTO DEL L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1066680"/>
            <a:ext cx="4724640" cy="3886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114300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048120"/>
            <a:ext cx="4724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61960" y="227484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88560" y="1508040"/>
            <a:ext cx="181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R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ación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T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rea     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B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24280" y="229068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 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61960" y="39765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 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8840" y="1508040"/>
            <a:ext cx="179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R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ación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T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rea     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30680" y="3108240"/>
            <a:ext cx="184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R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ación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B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T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rea     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B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3124080"/>
            <a:ext cx="184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R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ación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B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T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rea     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09800" y="39765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6146000">
            <a:off x="840240" y="2666160"/>
            <a:ext cx="200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Comport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de Re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5000" y="5073480"/>
            <a:ext cx="24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Comportamient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T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522612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124080" y="5216400"/>
            <a:ext cx="609840" cy="16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880" bIns="-29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50960" y="91440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495288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13800" y="49528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(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7240" y="457200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(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05120" y="38862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905120" y="137124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8160" y="5927760"/>
            <a:ext cx="2812680" cy="33732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48"/>
                </a:solidFill>
                <a:latin typeface="Arial"/>
              </a:rPr>
              <a:t>LIDERAZGO SITUA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1280" y="304920"/>
            <a:ext cx="8064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Estilo del Gerente  vs. Preparación del Colabor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620720" y="44640"/>
            <a:ext cx="5614920" cy="6816600"/>
            <a:chOff x="1620720" y="44640"/>
            <a:chExt cx="5614920" cy="6816600"/>
          </a:xfrm>
        </p:grpSpPr>
        <p:sp>
          <p:nvSpPr>
            <p:cNvPr id="81" name=""/>
            <p:cNvSpPr/>
            <p:nvPr/>
          </p:nvSpPr>
          <p:spPr>
            <a:xfrm>
              <a:off x="2266920" y="909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66920" y="2925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74920" y="909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74920" y="2925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82920" y="909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82920" y="2925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290920" y="909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90920" y="2925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" name=""/>
            <p:cNvCxnSpPr>
              <a:stCxn id="82" idx="1"/>
              <a:endCxn id="88" idx="3"/>
            </p:cNvCxnSpPr>
            <p:nvPr/>
          </p:nvCxnSpPr>
          <p:spPr>
            <a:xfrm>
              <a:off x="2266920" y="3932640"/>
              <a:ext cx="4032720" cy="2520"/>
            </a:xfrm>
            <a:prstGeom prst="curvedConnector5">
              <a:avLst>
                <a:gd name="adj1" fmla="val 23578"/>
                <a:gd name="adj2" fmla="val -90000000"/>
                <a:gd name="adj3" fmla="val 23578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90" name=""/>
            <p:cNvSpPr/>
            <p:nvPr/>
          </p:nvSpPr>
          <p:spPr>
            <a:xfrm>
              <a:off x="2266920" y="4869000"/>
              <a:ext cx="403200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Times New Roman"/>
                </a:rPr>
                <a:t>Comportamiento de ta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29080" y="4484520"/>
              <a:ext cx="6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Times New Roman"/>
                </a:rPr>
                <a:t>E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0" y="2492280"/>
              <a:ext cx="6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Times New Roman"/>
                </a:rPr>
                <a:t>E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60760" y="2467080"/>
              <a:ext cx="6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Times New Roman"/>
                </a:rPr>
                <a:t>E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40400" y="4508640"/>
              <a:ext cx="6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Times New Roman"/>
                </a:rPr>
                <a:t>E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45840" y="4551480"/>
              <a:ext cx="75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rel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53840" y="4551480"/>
              <a:ext cx="75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rel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46200" y="299736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ta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54200" y="299736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TA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560" y="98100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TA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46560" y="2133720"/>
              <a:ext cx="13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RELAC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38200" y="105264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ta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22200" y="1916280"/>
              <a:ext cx="136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RELAC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66920" y="5443560"/>
              <a:ext cx="4032000" cy="10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38200" y="5877000"/>
              <a:ext cx="3889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38200" y="5659560"/>
              <a:ext cx="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74920" y="565956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82920" y="565956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90920" y="565956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27640" y="5659560"/>
              <a:ext cx="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95640" y="6019920"/>
              <a:ext cx="6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M 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64040" y="6019920"/>
              <a:ext cx="6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M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73840" y="6019920"/>
              <a:ext cx="6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M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81840" y="6019920"/>
              <a:ext cx="6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M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631040" y="2727360"/>
              <a:ext cx="39387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300" spc="-1" strike="noStrike">
                  <a:solidFill>
                    <a:srgbClr val="ffffff"/>
                  </a:solidFill>
                  <a:latin typeface="Times New Roman"/>
                </a:rPr>
                <a:t>ESTILO DEL CONDUCTOR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6200000">
              <a:off x="-42480" y="2736360"/>
              <a:ext cx="377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300" spc="-1" strike="noStrike">
                  <a:solidFill>
                    <a:srgbClr val="ffffff"/>
                  </a:solidFill>
                  <a:latin typeface="Times New Roman"/>
                </a:rPr>
                <a:t>Comportamiento de relación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5400000">
              <a:off x="6022080" y="5647680"/>
              <a:ext cx="1846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MADUREZ 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COLABORAD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5543280" y="5767560"/>
              <a:ext cx="184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Inmadu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6200000">
              <a:off x="1080360" y="5765760"/>
              <a:ext cx="184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Madu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21560" y="5397480"/>
              <a:ext cx="83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Elev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77800" y="5397480"/>
              <a:ext cx="100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Moder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1640" y="539748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Baj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743200" y="1219320"/>
            <a:ext cx="3352680" cy="2590560"/>
          </a:xfrm>
          <a:prstGeom prst="rect">
            <a:avLst/>
          </a:prstGeom>
          <a:solidFill>
            <a:srgbClr val="f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3809880"/>
            <a:ext cx="33526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12920" y="1492200"/>
            <a:ext cx="78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3040" y="259092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45600" y="3930480"/>
            <a:ext cx="69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5000" y="502920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152280"/>
            <a:ext cx="6705360" cy="76428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48"/>
                </a:solidFill>
                <a:latin typeface="Times New Roman"/>
              </a:rPr>
              <a:t>ESTILO 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1280" y="304920"/>
            <a:ext cx="806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000066"/>
                </a:solidFill>
                <a:latin typeface="Arial"/>
              </a:rPr>
              <a:t>Descripción Estilo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46480" y="1600200"/>
            <a:ext cx="266688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41760" y="16002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46480" y="27432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/>
          <p:nvPr/>
        </p:nvCxnSpPr>
        <p:spPr>
          <a:xfrm>
            <a:off x="2346480" y="3198960"/>
            <a:ext cx="2667240" cy="2160"/>
          </a:xfrm>
          <a:prstGeom prst="curvedConnector5">
            <a:avLst>
              <a:gd name="adj1" fmla="val 32019"/>
              <a:gd name="adj2" fmla="val -37300000"/>
              <a:gd name="adj3" fmla="val 32019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3809880" y="2895480"/>
            <a:ext cx="4343400" cy="2590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36880" y="2924280"/>
            <a:ext cx="4340880" cy="25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Quién , qué, dónde, cuándo y có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Roles y tareas defin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Comunicación unidirec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Supervisión estre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Solicita repo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Instrucciones secu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Tareas simplificadas y específ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1240" y="4267080"/>
            <a:ext cx="113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ec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nduc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irig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stable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83000" y="4267080"/>
            <a:ext cx="121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xig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eba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omi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ta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743200" y="1219320"/>
            <a:ext cx="3352680" cy="2590560"/>
          </a:xfrm>
          <a:prstGeom prst="rect">
            <a:avLst/>
          </a:prstGeom>
          <a:solidFill>
            <a:srgbClr val="f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3809880"/>
            <a:ext cx="33526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12920" y="1492200"/>
            <a:ext cx="78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3040" y="259092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45600" y="3930480"/>
            <a:ext cx="69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35000" y="502920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152280"/>
            <a:ext cx="6705360" cy="76428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48"/>
                </a:solidFill>
                <a:latin typeface="Times New Roman"/>
              </a:rPr>
              <a:t>ESTILO 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11280" y="304920"/>
            <a:ext cx="806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000066"/>
                </a:solidFill>
                <a:latin typeface="Arial"/>
              </a:rPr>
              <a:t>Descripción Estilo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16360" y="3429000"/>
            <a:ext cx="266688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11640" y="34290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90800" y="4572000"/>
            <a:ext cx="2692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/>
          <p:nvPr/>
        </p:nvCxnSpPr>
        <p:spPr>
          <a:xfrm>
            <a:off x="2916360" y="5027760"/>
            <a:ext cx="2667240" cy="2160"/>
          </a:xfrm>
          <a:prstGeom prst="curvedConnector5">
            <a:avLst>
              <a:gd name="adj1" fmla="val 32019"/>
              <a:gd name="adj2" fmla="val -37300000"/>
              <a:gd name="adj3" fmla="val 32019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4365720" y="1536840"/>
            <a:ext cx="4383000" cy="3116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25840" y="1557360"/>
            <a:ext cx="4394160" cy="314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Informa Quién, qué, dónde, cuándo y có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xplica decisiones, permite acla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Diá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Líder toma las deci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xplica la función del colabor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Pregunta para aclarar nivel de pre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Refuerza progr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640" y="4076640"/>
            <a:ext cx="117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nven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xpl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clar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ersua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36320" y="4076640"/>
            <a:ext cx="134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anip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Sermon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ef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acionali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743200" y="1219320"/>
            <a:ext cx="3352680" cy="2590560"/>
          </a:xfrm>
          <a:prstGeom prst="rect">
            <a:avLst/>
          </a:prstGeom>
          <a:solidFill>
            <a:srgbClr val="f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43200" y="3809880"/>
            <a:ext cx="33526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12920" y="1492200"/>
            <a:ext cx="78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3040" y="259092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45600" y="3930480"/>
            <a:ext cx="69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5000" y="50292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152280"/>
            <a:ext cx="6705360" cy="76428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48"/>
                </a:solidFill>
                <a:latin typeface="Times New Roman"/>
              </a:rPr>
              <a:t>ESTILO 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02:59:19Z</dcterms:created>
  <dc:creator>.</dc:creator>
  <dc:description/>
  <dc:language>en-US</dc:language>
  <cp:lastModifiedBy>usuario</cp:lastModifiedBy>
  <dcterms:modified xsi:type="dcterms:W3CDTF">2004-03-17T17:10:47Z</dcterms:modified>
  <cp:revision>61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69207456</vt:r8>
  </property>
  <property fmtid="{D5CDD505-2E9C-101B-9397-08002B2CF9AE}" pid="3" name="_AuthorEmail">
    <vt:lpwstr>jlklapp@humana.cl</vt:lpwstr>
  </property>
  <property fmtid="{D5CDD505-2E9C-101B-9397-08002B2CF9AE}" pid="4" name="_AuthorEmailDisplayName">
    <vt:lpwstr>Jose Luis Klapp</vt:lpwstr>
  </property>
  <property fmtid="{D5CDD505-2E9C-101B-9397-08002B2CF9AE}" pid="5" name="_EmailSubject">
    <vt:lpwstr>Presentación</vt:lpwstr>
  </property>
</Properties>
</file>